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B4F-B548-47A1-A6B7-A0884966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6C8-0D60-45B9-A7CE-74D50EEE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9D3-18A0-4FEB-AF26-56AE6DD9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DDE-776F-4B38-A7FB-3E5DA880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6EC2-9F92-48BA-8D87-7DD43319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E0C5-FB82-44BC-AE8D-87F5BE25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2291-B698-488C-9BB3-F5FC4423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3093-A2E5-49A2-9D39-1C5CDAFB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34EC-277C-4DC3-B48B-525E5230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403C-4993-45B4-B110-BE8E001B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00F3-B61F-46D9-A952-159B0CC6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E09-149F-4152-ABEC-301AEF37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F648-A23C-4A33-9D89-6B057031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1FB0-318C-46DD-9696-229824AA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9D3E-2A22-4EEF-A40B-BEBF128A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513A-0E19-451E-80AD-AEFA23ED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8E35-A2D5-44B6-9E64-54338716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69BA0-C90B-4F97-87FE-D9753CF6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BB9AD-520C-4C7D-997A-E4DC5E07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233B8-BF7B-4013-A313-D139D6FF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25ADA-0730-41FB-A34F-DBA817EB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30B0E-8394-4914-B558-B588A170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C6A-D113-4348-B00D-505532C2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2D79E-2F89-4569-B1DB-02CE641D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F3A1-CB2F-4DF1-B333-CDB8F0B2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9444-BC15-495D-A279-8674F25E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7D66C-E8E2-408E-B955-254FF595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7F14-E5CF-4B6C-BF31-0F390FBA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4C6F3-7627-4BBC-B0E0-ED188518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4F6FC-36C6-4751-A517-8AC1B426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137-0ACF-465B-89E2-9EAFB8A4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73B5-BC64-498E-97D7-63F5BB36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38D-F4A1-4131-8469-90CE7AB8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9A3-A3E4-4E56-9A86-5350C710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05A-49A4-422D-88C5-6D140F13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A14-167F-421E-B6DA-503C26B6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6B7F-774E-45D4-A198-014CE460BC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86F9-53C1-42E6-9192-25B89997AC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839D-F769-4E95-B8E8-43776C0B47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603360" y="598320"/>
            <a:ext cx="78832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Қазақстан Республикасы Білім және ғылым министрліг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.А.Бөкетов атындағы Қарағанды университет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ФФЕРЕНЦИАЛДЫҚ ТЕ</a:t>
            </a:r>
            <a:r>
              <a:rPr b="0" lang="kk-KZ" sz="2000" spc="-1" strike="noStrike">
                <a:solidFill>
                  <a:srgbClr val="000000"/>
                </a:solidFill>
                <a:latin typeface="Calibri"/>
              </a:rPr>
              <a:t>Ң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УЛ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alibri"/>
              </a:rPr>
              <a:t>8-тақырып. n-ретті дифференциалдық теңдеулер. Тұрақты коэффициентті сызықтық біртекті теңдеулер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ы: Искакова Г.Ш., ф.-м.ғ.к., математикалық анализ және дифференциалдық теңдеулер кафедрасының доцент</a:t>
            </a:r>
            <a:r>
              <a:rPr b="0" lang="kk-KZ" sz="2000" spc="-1" strike="noStrike">
                <a:solidFill>
                  <a:srgbClr val="000000"/>
                </a:solidFill>
                <a:latin typeface="Calibri"/>
              </a:rPr>
              <a:t>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бақ түрі: дәріс                                          Қарағанды 2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2"/>
          <p:cNvSpPr/>
          <p:nvPr/>
        </p:nvSpPr>
        <p:spPr>
          <a:xfrm>
            <a:off x="466200" y="30492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талық, (8) теңдеудің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3722760" y="339840"/>
                <a:ext cx="3394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4245120" y="326880"/>
                <a:ext cx="3013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Прямоугольник 7"/>
          <p:cNvSpPr/>
          <p:nvPr/>
        </p:nvSpPr>
        <p:spPr>
          <a:xfrm>
            <a:off x="4611600" y="2919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селік түбірі болсын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оугольник 9"/>
          <p:cNvSpPr/>
          <p:nvPr/>
        </p:nvSpPr>
        <p:spPr>
          <a:xfrm>
            <a:off x="-46800" y="703440"/>
            <a:ext cx="49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да (15) сәйкес, әрі (13) еске алсақ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8"/>
              <p:cNvSpPr txBox="1"/>
              <p:nvPr/>
            </p:nvSpPr>
            <p:spPr>
              <a:xfrm>
                <a:off x="1946160" y="1306440"/>
                <a:ext cx="4710240" cy="22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демек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; </m:t>
                        </m:r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2" name="Прямоугольник 12"/>
          <p:cNvSpPr/>
          <p:nvPr/>
        </p:nvSpPr>
        <p:spPr>
          <a:xfrm>
            <a:off x="7653960" y="19256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1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оугольник 13"/>
          <p:cNvSpPr/>
          <p:nvPr/>
        </p:nvSpPr>
        <p:spPr>
          <a:xfrm>
            <a:off x="604800" y="367524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ым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10"/>
              <p:cNvSpPr txBox="1"/>
              <p:nvPr/>
            </p:nvSpPr>
            <p:spPr>
              <a:xfrm>
                <a:off x="2011320" y="4075200"/>
                <a:ext cx="4340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" name="Прямоугольник 16"/>
          <p:cNvSpPr/>
          <p:nvPr/>
        </p:nvSpPr>
        <p:spPr>
          <a:xfrm>
            <a:off x="7719840" y="41846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2"/>
              <p:cNvSpPr txBox="1"/>
              <p:nvPr/>
            </p:nvSpPr>
            <p:spPr>
              <a:xfrm>
                <a:off x="469800" y="4689360"/>
                <a:ext cx="2937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Прямоугольник 20"/>
          <p:cNvSpPr/>
          <p:nvPr/>
        </p:nvSpPr>
        <p:spPr>
          <a:xfrm>
            <a:off x="822240" y="4646520"/>
            <a:ext cx="83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шім аламыз, бұлардың теңдеу шешімінің фундаменталдық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Прямоугольник 21"/>
          <p:cNvSpPr/>
          <p:nvPr/>
        </p:nvSpPr>
        <p:spPr>
          <a:xfrm>
            <a:off x="235080" y="5078520"/>
            <a:ext cx="64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үйесі болатынын дәлелдеу қиын емес, себеб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16"/>
              <p:cNvSpPr txBox="1"/>
              <p:nvPr/>
            </p:nvSpPr>
            <p:spPr>
              <a:xfrm>
                <a:off x="6518160" y="5106960"/>
                <a:ext cx="1239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Прямоугольник 27"/>
          <p:cNvSpPr/>
          <p:nvPr/>
        </p:nvSpPr>
        <p:spPr>
          <a:xfrm>
            <a:off x="368640" y="549756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ндықтан (2) теңдеудің жалпы шеші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9"/>
              <p:cNvSpPr txBox="1"/>
              <p:nvPr/>
            </p:nvSpPr>
            <p:spPr>
              <a:xfrm>
                <a:off x="2795760" y="5865840"/>
                <a:ext cx="48812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Прямоугольник 30"/>
          <p:cNvSpPr/>
          <p:nvPr/>
        </p:nvSpPr>
        <p:spPr>
          <a:xfrm>
            <a:off x="8007120" y="5923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1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Прямоугольник 31"/>
          <p:cNvSpPr/>
          <p:nvPr/>
        </p:nvSpPr>
        <p:spPr>
          <a:xfrm>
            <a:off x="404280" y="62881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а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2"/>
          <p:cNvSpPr/>
          <p:nvPr/>
        </p:nvSpPr>
        <p:spPr>
          <a:xfrm>
            <a:off x="444600" y="166680"/>
            <a:ext cx="82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ғарғы айтылғандарға орай, егер (8) теңдеудің түбірлері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3"/>
              <p:cNvSpPr txBox="1"/>
              <p:nvPr/>
            </p:nvSpPr>
            <p:spPr>
              <a:xfrm>
                <a:off x="8321760" y="222120"/>
                <a:ext cx="352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2" name="Прямоугольник 5"/>
          <p:cNvSpPr/>
          <p:nvPr/>
        </p:nvSpPr>
        <p:spPr>
          <a:xfrm>
            <a:off x="9720" y="56664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ліг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5"/>
              <p:cNvSpPr txBox="1"/>
              <p:nvPr/>
            </p:nvSpPr>
            <p:spPr>
              <a:xfrm>
                <a:off x="992160" y="614520"/>
                <a:ext cx="5889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5" name="Прямоугольник 8"/>
          <p:cNvSpPr/>
          <p:nvPr/>
        </p:nvSpPr>
        <p:spPr>
          <a:xfrm>
            <a:off x="1693440" y="53964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ліг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7"/>
              <p:cNvSpPr txBox="1"/>
              <p:nvPr/>
            </p:nvSpPr>
            <p:spPr>
              <a:xfrm>
                <a:off x="2782800" y="601560"/>
                <a:ext cx="90972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8" name="Прямоугольник 11"/>
          <p:cNvSpPr/>
          <p:nvPr/>
        </p:nvSpPr>
        <p:spPr>
          <a:xfrm>
            <a:off x="3835800" y="53964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ліг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9"/>
              <p:cNvSpPr txBox="1"/>
              <p:nvPr/>
            </p:nvSpPr>
            <p:spPr>
              <a:xfrm>
                <a:off x="4924440" y="574560"/>
                <a:ext cx="4176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14"/>
          <p:cNvSpPr/>
          <p:nvPr/>
        </p:nvSpPr>
        <p:spPr>
          <a:xfrm>
            <a:off x="5479920" y="51444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ұн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1"/>
              <p:cNvSpPr txBox="1"/>
              <p:nvPr/>
            </p:nvSpPr>
            <p:spPr>
              <a:xfrm>
                <a:off x="6622920" y="614520"/>
                <a:ext cx="21862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Прямоугольник 17"/>
          <p:cNvSpPr/>
          <p:nvPr/>
        </p:nvSpPr>
        <p:spPr>
          <a:xfrm>
            <a:off x="18000" y="101124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са, (2) теңдеудің төмендегі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13"/>
              <p:cNvSpPr txBox="1"/>
              <p:nvPr/>
            </p:nvSpPr>
            <p:spPr>
              <a:xfrm>
                <a:off x="4049640" y="1136520"/>
                <a:ext cx="5619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Rectangle 15"/>
          <p:cNvSpPr/>
          <p:nvPr/>
        </p:nvSpPr>
        <p:spPr>
          <a:xfrm>
            <a:off x="147600" y="3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Прямоугольник 22"/>
          <p:cNvSpPr/>
          <p:nvPr/>
        </p:nvSpPr>
        <p:spPr>
          <a:xfrm>
            <a:off x="4529520" y="10494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шешімі бола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6"/>
              <p:cNvSpPr txBox="1"/>
              <p:nvPr/>
            </p:nvSpPr>
            <p:spPr>
              <a:xfrm>
                <a:off x="3565440" y="1736640"/>
                <a:ext cx="2860920" cy="19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1" name="Прямоугольник 25"/>
          <p:cNvSpPr/>
          <p:nvPr/>
        </p:nvSpPr>
        <p:spPr>
          <a:xfrm>
            <a:off x="7641360" y="20559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27"/>
          <p:cNvSpPr/>
          <p:nvPr/>
        </p:nvSpPr>
        <p:spPr>
          <a:xfrm>
            <a:off x="389160" y="373392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ұл жағдайдағы (2) теңдеудің жалпы шешім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19"/>
              <p:cNvSpPr txBox="1"/>
              <p:nvPr/>
            </p:nvSpPr>
            <p:spPr>
              <a:xfrm>
                <a:off x="4309920" y="4309920"/>
                <a:ext cx="210852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5" name="Прямоугольник 30"/>
          <p:cNvSpPr/>
          <p:nvPr/>
        </p:nvSpPr>
        <p:spPr>
          <a:xfrm>
            <a:off x="7602480" y="45896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32"/>
          <p:cNvSpPr/>
          <p:nvPr/>
        </p:nvSpPr>
        <p:spPr>
          <a:xfrm>
            <a:off x="549360" y="527544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ұн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22"/>
              <p:cNvSpPr txBox="1"/>
              <p:nvPr/>
            </p:nvSpPr>
            <p:spPr>
              <a:xfrm>
                <a:off x="3187800" y="5708520"/>
                <a:ext cx="4456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5560" y="1080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Monotype Corsiva"/>
              </a:rPr>
              <a:t>Бақылау сұрақтар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2560" y="14792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Monotype Corsiva"/>
              </a:rPr>
              <a:t>1. Қандай дифференциалдық теңдеу сызықтық теңдеу деп аталады. Сызықтық теңдеулер түрін анықтаңдар. Сызықтық теңдеулер қасиетін атап өтіңізде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. Сызықтық дифференциалдық оператор деп нені айтамыз? Қандай қасиеттерін білесіңдер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3. Сызықтық дифференциалдық теңдеулердің дербес шешімі қандай қасиеттерге ие?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– ші ретті сызықтық дифференциалдық теңдеулер шешімінің іргелі жүйесі қалай анықталады. Сызықтық біртекті теңдеулер шешімінің іргелі жүйесі жөніндегі теореманы тұжырымдаңызда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4. Вронский анықтауышы деп нені айтады? Қандай қасиеттері бар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5. Шешімдердің берілген іргелі жүйесі бойынша сызықтық дифференциалдық теңдеулерді қалай тұрғызуға болады? Остроградский – Лиувилль формуласын келтіріңі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6. 2 – ші ретті сызықтық біртекті теңдеудің шешімін табу схемасын келтіріңіздер.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– ші ретті сызықтық дифференциалдық теңдеулердің </a:t>
            </a:r>
            <a:r>
              <a:rPr b="0" lang="ru-MD" sz="1800" spc="-1" strike="noStrike">
                <a:solidFill>
                  <a:srgbClr val="000000"/>
                </a:solidFill>
                <a:latin typeface="Monotype Corsiva"/>
              </a:rPr>
              <a:t>жалпы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шешімінің құрылымы қанда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Monotype Corsiva"/>
              </a:rPr>
              <a:t>Резюм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N-р</a:t>
            </a: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етті дифференциалдық теңдеулерге түсінік, тұрақты коэффициентті дифференциалдық теңдеулерді шешу жолдары қарастырыл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66640" y="-1778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Monotype Corsiva"/>
              </a:rPr>
              <a:t>Әдебиеттер тізімі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15800" y="11775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Сүлейменов Ж. Дифференциялдық  теңдеулер: Алматы,199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Сматов Т.С. Жай дифференциалдық теңдеулер курсы (интегралдау әдістері). ҚарМУ, Қарағанды-20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Әбдіманапов С., Сматов Т.С. Дифференциалдық теңдеулер курсы. «Нұржол», Астана-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4. Сүлеймен Ж.  Дифференциалдық теңдеулер курсы: оқулық; Әл - Фараби атын. Қазақ ұлттық ун-ті. - Алматы: Қазақ  ун-ті, 2009. - 440 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5. Сүлейменов Ж.С. Бірінші ретті жәй дифференциалдық теңдеулерді интегралдау әдістері- Алматы: Кітап, 1982. - 112 б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MD" sz="2000" spc="-1" strike="noStrike">
                <a:solidFill>
                  <a:srgbClr val="000000"/>
                </a:solidFill>
                <a:latin typeface="Times New Roman"/>
              </a:rPr>
              <a:t>Краснов М.Л., Киселев А.И., Макаренко Г.И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борник задач по </a:t>
            </a:r>
            <a:r>
              <a:rPr b="0" lang="ru-MD" sz="2000" spc="-1" strike="noStrike">
                <a:solidFill>
                  <a:srgbClr val="000000"/>
                </a:solidFill>
                <a:latin typeface="Times New Roman"/>
              </a:rPr>
              <a:t>обыкновенным дифференциальным уравнения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- М.: ВШ</a:t>
            </a:r>
            <a:r>
              <a:rPr b="0" lang="ru-MD" sz="20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7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Айдос Е. Ж. Жоғары математика-3: оқулық. - Алматы: Бастау. - 2008. 3 т. - 2008. - 536 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8. Филиппов А.Ф. Сборник задач по дифференциальным уравнениям.- М.: Наука, 199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Monotype Corsiva"/>
              </a:rPr>
              <a:t>Жоспа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1. </a:t>
            </a:r>
            <a:r>
              <a:rPr b="0" lang="kk-KZ" sz="2800" spc="-1" strike="noStrike" u="sng">
                <a:solidFill>
                  <a:srgbClr val="0563c1"/>
                </a:solidFill>
                <a:uFillTx/>
                <a:latin typeface="Monotype Corsiva"/>
                <a:hlinkClick r:id="rId1" action="ppaction://hlinksldjump"/>
              </a:rPr>
              <a:t>Теңдеу шешімінің фундаменталдық жүйес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563c1"/>
                </a:solidFill>
                <a:uFillTx/>
                <a:latin typeface="Monotype Corsiva"/>
                <a:ea typeface="Calibri"/>
                <a:hlinkClick r:id="rId2" action="ppaction://hlinksldjump"/>
              </a:rPr>
              <a:t>2. Сипаттаушы теңдеу түбірлеріне сәйкес теңдеудің жалпы шешімдер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</a:t>
            </a:r>
            <a:r>
              <a:rPr b="0" lang="kk-KZ" sz="2800" spc="-1" strike="noStrike" u="sng">
                <a:solidFill>
                  <a:srgbClr val="0563c1"/>
                </a:solidFill>
                <a:uFillTx/>
                <a:latin typeface="Monotype Corsiva"/>
                <a:ea typeface="Times New Roman"/>
                <a:hlinkClick r:id="rId3" action="ppaction://hlinksldjump"/>
              </a:rPr>
              <a:t>Бақылау сұрақта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507960" y="252000"/>
            <a:ext cx="64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ңдеу шешуінің фундаменталдық жүйес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дым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2481120" y="1319040"/>
                <a:ext cx="2251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λx</m:t>
                                </m:r>
                              </m:sup>
                            </m:sSup>
                          </m:e>
                        </m:d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λ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5003640" y="1554120"/>
                <a:ext cx="1432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Прямоугольник 7"/>
          <p:cNvSpPr/>
          <p:nvPr/>
        </p:nvSpPr>
        <p:spPr>
          <a:xfrm>
            <a:off x="7529040" y="1506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8"/>
              <p:cNvSpPr txBox="1"/>
              <p:nvPr/>
            </p:nvSpPr>
            <p:spPr>
              <a:xfrm>
                <a:off x="614520" y="1973160"/>
                <a:ext cx="22212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10"/>
          <p:cNvSpPr/>
          <p:nvPr/>
        </p:nvSpPr>
        <p:spPr>
          <a:xfrm>
            <a:off x="913320" y="1921320"/>
            <a:ext cx="70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қты немесе комплекстік сандар болғанда орын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11"/>
          <p:cNvSpPr/>
          <p:nvPr/>
        </p:nvSpPr>
        <p:spPr>
          <a:xfrm>
            <a:off x="447120" y="238284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атынын дәлеледейі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878760" y="2756880"/>
            <a:ext cx="82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22860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қты сан болғанда (1) формула орынды болатыны белгіл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2"/>
              <p:cNvSpPr txBox="1"/>
              <p:nvPr/>
            </p:nvSpPr>
            <p:spPr>
              <a:xfrm>
                <a:off x="1033560" y="2827440"/>
                <a:ext cx="2048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Box 14"/>
          <p:cNvSpPr/>
          <p:nvPr/>
        </p:nvSpPr>
        <p:spPr>
          <a:xfrm>
            <a:off x="574560" y="2795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15"/>
          <p:cNvSpPr/>
          <p:nvPr/>
        </p:nvSpPr>
        <p:spPr>
          <a:xfrm>
            <a:off x="550800" y="320508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-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тік сан болсын, яғ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3"/>
              <p:cNvSpPr txBox="1"/>
              <p:nvPr/>
            </p:nvSpPr>
            <p:spPr>
              <a:xfrm>
                <a:off x="5578560" y="3278160"/>
                <a:ext cx="1628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t xml:space="preserve">i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5"/>
              <p:cNvSpPr txBox="1"/>
              <p:nvPr/>
            </p:nvSpPr>
            <p:spPr>
              <a:xfrm>
                <a:off x="2521080" y="4272120"/>
                <a:ext cx="572904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iβ</m:t>
                            </m:r>
                          </m:e>
                        </m:d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αx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x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Прямоугольник 20"/>
          <p:cNvSpPr/>
          <p:nvPr/>
        </p:nvSpPr>
        <p:spPr>
          <a:xfrm>
            <a:off x="727560" y="368784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йлер формуласы бойын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7"/>
              <p:cNvSpPr txBox="1"/>
              <p:nvPr/>
            </p:nvSpPr>
            <p:spPr>
              <a:xfrm>
                <a:off x="1109520" y="4911840"/>
                <a:ext cx="775836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e</m:t>
                            </m:r>
                          </m:e>
                          <m:sup>
                            <m:r>
                              <m:t xml:space="preserve">αx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x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x</m:t>
                            </m:r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x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x</m:t>
                            </m:r>
                            <m:r>
                              <m:t xml:space="preserve">+</m:t>
                            </m:r>
                            <m:r>
                              <m:t xml:space="preserve">i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x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iβ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x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x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iβ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β</m:t>
                                </m:r>
                              </m:e>
                            </m:d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274320" y="26676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ыған ұқса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"/>
              <p:cNvSpPr txBox="1"/>
              <p:nvPr/>
            </p:nvSpPr>
            <p:spPr>
              <a:xfrm>
                <a:off x="2208240" y="169920"/>
                <a:ext cx="3722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α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β</m:t>
                                    </m:r>
                                  </m:e>
                                </m:d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iβ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iβ</m:t>
                            </m:r>
                          </m:e>
                        </m:d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Прямоугольник 6"/>
          <p:cNvSpPr/>
          <p:nvPr/>
        </p:nvSpPr>
        <p:spPr>
          <a:xfrm>
            <a:off x="6146640" y="291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ыға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614520" y="901800"/>
                <a:ext cx="7188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y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y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Прямоугольник 9"/>
          <p:cNvSpPr/>
          <p:nvPr/>
        </p:nvSpPr>
        <p:spPr>
          <a:xfrm>
            <a:off x="8286480" y="98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0"/>
          <p:cNvSpPr/>
          <p:nvPr/>
        </p:nvSpPr>
        <p:spPr>
          <a:xfrm>
            <a:off x="251640" y="144144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деуді қарастырайық, мұн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4467240" y="1488960"/>
                <a:ext cx="101448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Прямоугольник 14"/>
          <p:cNvSpPr/>
          <p:nvPr/>
        </p:nvSpPr>
        <p:spPr>
          <a:xfrm>
            <a:off x="5534280" y="142236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ұрақты коффициентт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-3960" y="1962000"/>
            <a:ext cx="912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еңдеудің шешімін табу үшін теңдеу шешімінің фундаменталды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үйесін табу қажет, яғ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3805200" y="2703600"/>
                <a:ext cx="22226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Прямоугольник 18"/>
          <p:cNvSpPr/>
          <p:nvPr/>
        </p:nvSpPr>
        <p:spPr>
          <a:xfrm>
            <a:off x="6748200" y="2692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93240" y="3107880"/>
            <a:ext cx="68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табылғаннан кейін (2) теңдеудің жалпы шешім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2"/>
              <p:cNvSpPr txBox="1"/>
              <p:nvPr/>
            </p:nvSpPr>
            <p:spPr>
              <a:xfrm>
                <a:off x="3348000" y="3645000"/>
                <a:ext cx="36990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Прямоугольник 22"/>
          <p:cNvSpPr/>
          <p:nvPr/>
        </p:nvSpPr>
        <p:spPr>
          <a:xfrm>
            <a:off x="7421400" y="3579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23"/>
          <p:cNvSpPr/>
          <p:nvPr/>
        </p:nvSpPr>
        <p:spPr>
          <a:xfrm>
            <a:off x="182160" y="401004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атыны белгілі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2782800" y="4021200"/>
                <a:ext cx="3366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" name="Прямоугольник 27"/>
          <p:cNvSpPr/>
          <p:nvPr/>
        </p:nvSpPr>
        <p:spPr>
          <a:xfrm>
            <a:off x="3107160" y="3978360"/>
            <a:ext cx="25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тұрақты шамал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29"/>
          <p:cNvSpPr/>
          <p:nvPr/>
        </p:nvSpPr>
        <p:spPr>
          <a:xfrm>
            <a:off x="538200" y="4457880"/>
            <a:ext cx="71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2) тендеудің дербес шешуін Эйлер бойын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8"/>
              <p:cNvSpPr txBox="1"/>
              <p:nvPr/>
            </p:nvSpPr>
            <p:spPr>
              <a:xfrm>
                <a:off x="3819600" y="4894200"/>
                <a:ext cx="8064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λ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Прямоугольник 32"/>
          <p:cNvSpPr/>
          <p:nvPr/>
        </p:nvSpPr>
        <p:spPr>
          <a:xfrm>
            <a:off x="5887800" y="4898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33"/>
          <p:cNvSpPr/>
          <p:nvPr/>
        </p:nvSpPr>
        <p:spPr>
          <a:xfrm>
            <a:off x="335520" y="5408640"/>
            <a:ext cx="33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үрінде іздейміз, мұн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0"/>
              <p:cNvSpPr txBox="1"/>
              <p:nvPr/>
            </p:nvSpPr>
            <p:spPr>
              <a:xfrm>
                <a:off x="3657600" y="5392800"/>
                <a:ext cx="673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22"/>
          <p:cNvSpPr/>
          <p:nvPr/>
        </p:nvSpPr>
        <p:spPr>
          <a:xfrm>
            <a:off x="2520" y="3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7"/>
          <p:cNvSpPr/>
          <p:nvPr/>
        </p:nvSpPr>
        <p:spPr>
          <a:xfrm>
            <a:off x="4331880" y="543564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нақты немесе комплекстік санд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53880" y="31392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5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ті (2) ге қойсақ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306440" y="939960"/>
                <a:ext cx="649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x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λx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λ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Прямоугольник 8"/>
          <p:cNvSpPr/>
          <p:nvPr/>
        </p:nvSpPr>
        <p:spPr>
          <a:xfrm>
            <a:off x="213840" y="1330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ме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2703600" y="1751040"/>
                <a:ext cx="2600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x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λx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Прямоугольник 11"/>
          <p:cNvSpPr/>
          <p:nvPr/>
        </p:nvSpPr>
        <p:spPr>
          <a:xfrm>
            <a:off x="6627600" y="1741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13"/>
          <p:cNvSpPr/>
          <p:nvPr/>
        </p:nvSpPr>
        <p:spPr>
          <a:xfrm>
            <a:off x="288360" y="225756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ұн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2247840" y="2651040"/>
                <a:ext cx="3924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Прямоугольник 18"/>
          <p:cNvSpPr/>
          <p:nvPr/>
        </p:nvSpPr>
        <p:spPr>
          <a:xfrm>
            <a:off x="5687640" y="2584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120" y="360"/>
            <a:ext cx="11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20"/>
          <p:cNvSpPr/>
          <p:nvPr/>
        </p:nvSpPr>
        <p:spPr>
          <a:xfrm>
            <a:off x="318600" y="330984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ме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3"/>
              <p:cNvSpPr txBox="1"/>
              <p:nvPr/>
            </p:nvSpPr>
            <p:spPr>
              <a:xfrm>
                <a:off x="1668600" y="3792600"/>
                <a:ext cx="6143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λ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Прямоугольник 24"/>
          <p:cNvSpPr/>
          <p:nvPr/>
        </p:nvSpPr>
        <p:spPr>
          <a:xfrm>
            <a:off x="8308800" y="3903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5"/>
              <p:cNvSpPr txBox="1"/>
              <p:nvPr/>
            </p:nvSpPr>
            <p:spPr>
              <a:xfrm>
                <a:off x="457200" y="4437000"/>
                <a:ext cx="7668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7"/>
              <p:cNvSpPr txBox="1"/>
              <p:nvPr/>
            </p:nvSpPr>
            <p:spPr>
              <a:xfrm>
                <a:off x="1438200" y="4383000"/>
                <a:ext cx="368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Прямоугольник 29"/>
          <p:cNvSpPr/>
          <p:nvPr/>
        </p:nvSpPr>
        <p:spPr>
          <a:xfrm>
            <a:off x="2011320" y="4427640"/>
            <a:ext cx="55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ының сипаттаушы көпмүшелігі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1"/>
          <p:cNvSpPr/>
          <p:nvPr/>
        </p:nvSpPr>
        <p:spPr>
          <a:xfrm>
            <a:off x="2809800" y="4861080"/>
            <a:ext cx="63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 (8) теңдеу оның сипаттаушы теңдеуі де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угольник 32"/>
          <p:cNvSpPr/>
          <p:nvPr/>
        </p:nvSpPr>
        <p:spPr>
          <a:xfrm>
            <a:off x="7475400" y="530208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тала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157320" y="239400"/>
            <a:ext cx="84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ипаттаушы теңдеу түбірлеріне сәйкес теңдеудің жалп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шешімдер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47240" y="1076040"/>
            <a:ext cx="847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8) сипаттаушы теңдеудің түбірлері нақты, комплекстік санда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және еселік түбірлерде болуы мүмкін, осыларды жеке </a:t>
            </a:r>
            <a:r>
              <a:rPr b="0" lang="kk-KZ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же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қарастырайы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5"/>
          <p:cNvSpPr/>
          <p:nvPr/>
        </p:nvSpPr>
        <p:spPr>
          <a:xfrm>
            <a:off x="404640" y="221760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йталық (8) теңдеудің түбірлері өзара тең ем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8"/>
              <p:cNvSpPr txBox="1"/>
              <p:nvPr/>
            </p:nvSpPr>
            <p:spPr>
              <a:xfrm>
                <a:off x="3135240" y="2755800"/>
                <a:ext cx="1567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" name="Прямоугольник 10"/>
          <p:cNvSpPr/>
          <p:nvPr/>
        </p:nvSpPr>
        <p:spPr>
          <a:xfrm>
            <a:off x="6366960" y="2760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20400" y="3177360"/>
            <a:ext cx="802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сын дейік. Онда (5)-ке байланысты (2) теңдеудің дербе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шешімдер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1"/>
              <p:cNvSpPr txBox="1"/>
              <p:nvPr/>
            </p:nvSpPr>
            <p:spPr>
              <a:xfrm>
                <a:off x="2808360" y="3852720"/>
                <a:ext cx="1855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2" name="Прямоугольник 14"/>
          <p:cNvSpPr/>
          <p:nvPr/>
        </p:nvSpPr>
        <p:spPr>
          <a:xfrm>
            <a:off x="6165000" y="38322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16"/>
          <p:cNvSpPr/>
          <p:nvPr/>
        </p:nvSpPr>
        <p:spPr>
          <a:xfrm>
            <a:off x="346320" y="41911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а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угольник 17"/>
          <p:cNvSpPr/>
          <p:nvPr/>
        </p:nvSpPr>
        <p:spPr>
          <a:xfrm>
            <a:off x="235080" y="4600440"/>
            <a:ext cx="89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і (10) шешулер тобының (2) теңдеу шешуінің фундаменталдық жүйесі болатын дәлелдеу қажет. Ол үшін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x)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онскианды қарастырамы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3"/>
              <p:cNvSpPr txBox="1"/>
              <p:nvPr/>
            </p:nvSpPr>
            <p:spPr>
              <a:xfrm>
                <a:off x="888840" y="404640"/>
                <a:ext cx="751068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x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groupChr>
                      </m:e>
                      <m:lim>
                        <m:r>
                          <m:t xml:space="preserve">0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5"/>
              <p:cNvSpPr txBox="1"/>
              <p:nvPr/>
            </p:nvSpPr>
            <p:spPr>
              <a:xfrm>
                <a:off x="8399520" y="679320"/>
                <a:ext cx="5364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Прямоугольник 6"/>
          <p:cNvSpPr/>
          <p:nvPr/>
        </p:nvSpPr>
        <p:spPr>
          <a:xfrm>
            <a:off x="444600" y="267012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ұ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1182600" y="2682720"/>
            <a:ext cx="55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дермонд анықтауышы ол ешқашан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6845400" y="2625840"/>
                <a:ext cx="17636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eqArr>
                      <m:e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</m:e>
                    </m:eqArr>
                    <m:r>
                      <m:t xml:space="preserve">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Прямоугольник 11"/>
          <p:cNvSpPr/>
          <p:nvPr/>
        </p:nvSpPr>
        <p:spPr>
          <a:xfrm>
            <a:off x="0" y="3349800"/>
            <a:ext cx="984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жоғарыда келтірілген теоремаларға байланысты (10) функцияла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бы (2) теңдеу шешуінің фундаменталдық жүйесін құра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лай болса (2) теңдеудің жалпы шешім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2168640" y="4649760"/>
                <a:ext cx="56656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6" name="Прямоугольник 14"/>
          <p:cNvSpPr/>
          <p:nvPr/>
        </p:nvSpPr>
        <p:spPr>
          <a:xfrm>
            <a:off x="7902360" y="53085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327600" y="257760"/>
            <a:ext cx="797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Айталық (8) теңдеудің түбірлері әртүрлі, бірақ арасын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лекстік түбірлері де бар болсын, яғ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4"/>
              <p:cNvSpPr txBox="1"/>
              <p:nvPr/>
            </p:nvSpPr>
            <p:spPr>
              <a:xfrm>
                <a:off x="1519200" y="1130400"/>
                <a:ext cx="29862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Прямоугольник 5"/>
          <p:cNvSpPr/>
          <p:nvPr/>
        </p:nvSpPr>
        <p:spPr>
          <a:xfrm>
            <a:off x="4893840" y="122724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қты түбірлер жә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6"/>
              <p:cNvSpPr txBox="1"/>
              <p:nvPr/>
            </p:nvSpPr>
            <p:spPr>
              <a:xfrm>
                <a:off x="189000" y="1801800"/>
                <a:ext cx="8955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iβ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iβ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iβ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Прямоугольник 9"/>
          <p:cNvSpPr/>
          <p:nvPr/>
        </p:nvSpPr>
        <p:spPr>
          <a:xfrm>
            <a:off x="0" y="2262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m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лекстік түбірлер (себебі комплекстік түбірлер түйіндес болатыны белгілі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10"/>
          <p:cNvSpPr/>
          <p:nvPr/>
        </p:nvSpPr>
        <p:spPr>
          <a:xfrm>
            <a:off x="341640" y="300204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үбірлердің сан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9"/>
              <p:cNvSpPr txBox="1"/>
              <p:nvPr/>
            </p:nvSpPr>
            <p:spPr>
              <a:xfrm>
                <a:off x="3011400" y="3065400"/>
                <a:ext cx="12844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Прямоугольник 13"/>
          <p:cNvSpPr/>
          <p:nvPr/>
        </p:nvSpPr>
        <p:spPr>
          <a:xfrm>
            <a:off x="0" y="3370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тік шешімнен екі нақты шешімдер бөліп алынатыны белгілі. Сондықта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14"/>
          <p:cNvSpPr/>
          <p:nvPr/>
        </p:nvSpPr>
        <p:spPr>
          <a:xfrm>
            <a:off x="4478760" y="30700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ады, әрбір түйінде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2809800" y="3738600"/>
                <a:ext cx="46497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Прямоугольник 17"/>
          <p:cNvSpPr/>
          <p:nvPr/>
        </p:nvSpPr>
        <p:spPr>
          <a:xfrm>
            <a:off x="342720" y="414504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ым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3"/>
              <p:cNvSpPr txBox="1"/>
              <p:nvPr/>
            </p:nvSpPr>
            <p:spPr>
              <a:xfrm>
                <a:off x="1762200" y="4249800"/>
                <a:ext cx="2556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Прямоугольник 20"/>
          <p:cNvSpPr/>
          <p:nvPr/>
        </p:nvSpPr>
        <p:spPr>
          <a:xfrm>
            <a:off x="157320" y="453852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зықтық комбинация – теңдеудің жалпы шешім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21"/>
          <p:cNvSpPr/>
          <p:nvPr/>
        </p:nvSpPr>
        <p:spPr>
          <a:xfrm>
            <a:off x="2176200" y="4132440"/>
            <a:ext cx="59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қты шешімдер аламыз, осы шешімдерд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5"/>
              <p:cNvSpPr txBox="1"/>
              <p:nvPr/>
            </p:nvSpPr>
            <p:spPr>
              <a:xfrm>
                <a:off x="836640" y="5238720"/>
                <a:ext cx="6735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Прямоугольник 24"/>
          <p:cNvSpPr/>
          <p:nvPr/>
        </p:nvSpPr>
        <p:spPr>
          <a:xfrm>
            <a:off x="8072280" y="55040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1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0" y="1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Айталық (8) сипаттаушы теңдеу түбірлері нақты сандар, әрі олардың арасында еселік түбірлер болсын дейі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610920" y="9842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1436760" y="1084320"/>
                <a:ext cx="3268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Прямоугольник 6"/>
          <p:cNvSpPr/>
          <p:nvPr/>
        </p:nvSpPr>
        <p:spPr>
          <a:xfrm>
            <a:off x="1847880" y="9586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үбір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6"/>
              <p:cNvSpPr txBox="1"/>
              <p:nvPr/>
            </p:nvSpPr>
            <p:spPr>
              <a:xfrm>
                <a:off x="2873520" y="992160"/>
                <a:ext cx="287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Прямоугольник 9"/>
          <p:cNvSpPr/>
          <p:nvPr/>
        </p:nvSpPr>
        <p:spPr>
          <a:xfrm>
            <a:off x="3289320" y="90648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лік болса, он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8"/>
              <p:cNvSpPr txBox="1"/>
              <p:nvPr/>
            </p:nvSpPr>
            <p:spPr>
              <a:xfrm>
                <a:off x="2286000" y="1424160"/>
                <a:ext cx="37558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Прямоугольник 12"/>
          <p:cNvSpPr/>
          <p:nvPr/>
        </p:nvSpPr>
        <p:spPr>
          <a:xfrm>
            <a:off x="6791760" y="136368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13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5051520" y="1955880"/>
                <a:ext cx="3254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Прямоугольник 14"/>
          <p:cNvSpPr/>
          <p:nvPr/>
        </p:nvSpPr>
        <p:spPr>
          <a:xfrm>
            <a:off x="886680" y="188604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ясы (амалы) және он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1"/>
              <p:cNvSpPr txBox="1"/>
              <p:nvPr/>
            </p:nvSpPr>
            <p:spPr>
              <a:xfrm>
                <a:off x="496800" y="1998720"/>
                <a:ext cx="27324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13"/>
          <p:cNvSpPr/>
          <p:nvPr/>
        </p:nvSpPr>
        <p:spPr>
          <a:xfrm>
            <a:off x="172440" y="2391840"/>
            <a:ext cx="48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ын алмастырымды болғандық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5387040" y="189864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йынша дифференциялда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4"/>
              <p:cNvSpPr txBox="1"/>
              <p:nvPr/>
            </p:nvSpPr>
            <p:spPr>
              <a:xfrm>
                <a:off x="2585880" y="3108240"/>
                <a:ext cx="39895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λ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λx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x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λx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</m:e>
                            </m:d>
                          </m:e>
                        </m:d>
                      </m:e>
                      <m:sub>
                        <m:r>
                          <m:t xml:space="preserve">λ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8" name="Прямоугольник 21"/>
          <p:cNvSpPr/>
          <p:nvPr/>
        </p:nvSpPr>
        <p:spPr>
          <a:xfrm>
            <a:off x="7418880" y="33876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00600" y="3869280"/>
            <a:ext cx="80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ұл көбейтіндіні дифференциялдау үшін Лейбниц ережесі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йдалансақ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7"/>
              <p:cNvSpPr txBox="1"/>
              <p:nvPr/>
            </p:nvSpPr>
            <p:spPr>
              <a:xfrm>
                <a:off x="2351160" y="4807080"/>
                <a:ext cx="59738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λx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λx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</m:e>
                            </m:d>
                          </m:e>
                        </m:d>
                      </m:e>
                      <m:sub>
                        <m:r>
                          <m:t xml:space="preserve">λ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λ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</m:e>
                            </m:d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2" name="Прямоугольник 25"/>
          <p:cNvSpPr/>
          <p:nvPr/>
        </p:nvSpPr>
        <p:spPr>
          <a:xfrm>
            <a:off x="8138160" y="59086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8T08:10:49Z</dcterms:created>
  <dc:creator>Инна</dc:creator>
  <dc:description/>
  <dc:language>en-US</dc:language>
  <cp:lastModifiedBy>Admin</cp:lastModifiedBy>
  <dcterms:modified xsi:type="dcterms:W3CDTF">2021-05-24T18:10:59Z</dcterms:modified>
  <cp:revision>84</cp:revision>
  <dc:subject/>
  <dc:title>Название презентации</dc:title>
</cp:coreProperties>
</file>