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C1A1-05DF-4B14-9519-8A7B84AC24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F145-DE7F-468D-BA24-60ECC9C6E2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1F4-80E1-447F-A115-CD581247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34D-830E-4008-A96B-082CCB25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67D-C598-43CA-85F1-409D8AB9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775-F214-46D9-8CA8-0085C7DD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650-D751-4E3D-9D75-ABCB3CDB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D10-17F8-4764-AA78-F71C5226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4F1-62BB-48F8-996E-C31AB17B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61A-D028-4EFF-B3C9-C8C14213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D88-5D34-4EA0-A0F6-BABE5BD7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D81-57FA-43BD-8F23-1E0E422A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01E-4C1C-4246-ABA9-F5CD7198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9F5-962F-4781-897A-EF60E22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1C95-5BF7-4F68-B541-F69BB04D39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231840" y="196920"/>
            <a:ext cx="86612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Қазақстан Республикасы Білім және ғылым министрліг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.А.Бөкетов атындағы Қарағанды университет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ФФЕРЕНЦИАЛДЫ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Қ ТЕҢДЕУЛ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6-тақырып. Туындысы арқылы айқындалмаған теңдеуле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ы: Искакова Г.Ш., ф.-м.ғ.к., математикалық анализ және дифференциалдық теңдеулер кафедрасының доцент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бақ түрі: дәріс                                          Қарағанды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Лагранж теңдеуі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9640" y="1280880"/>
            <a:ext cx="8637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30992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деуі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Лагранж теңдеуі деп атала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оно является линейным относитель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ән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е қатысты сызықты бол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ғ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30992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ctr" pos="430992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рде болс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әйтпесе толық емес теңдеу болады), онда Лагранж теңдеуін мына түрде жазуға бола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30992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 +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ctr" pos="430992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гранж теңдеуінің жалпы интегралын параметр түрінде табуға болады. Егер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да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еңдеудің жалпы шешімі мына түрге ие болад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3017880" y="5284800"/>
                <a:ext cx="32385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901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667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Клеро теңдеуі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9640" y="1208160"/>
            <a:ext cx="8637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6400"/>
                <a:tab algn="ctr" pos="42084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гранж теңдеуі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                  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6400"/>
                <a:tab algn="ctr" pos="42084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ұл жағдайда, 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ді Клеро теңдеуі деп атай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6400"/>
                <a:tab algn="ctr" pos="42084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еңдеуі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леро теңдеуі деп атала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ы мына түрде жазуға бол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6400"/>
                <a:tab algn="ctr" pos="42084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536400"/>
                <a:tab algn="ctr" pos="42084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ро теңдеуінің жалпы шешімі мына түрде бола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6400"/>
                <a:tab algn="ctr" pos="42084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6400"/>
                <a:tab algn="ctr" pos="42084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st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он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еро теңдеуінің ерекше шешімі бола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251160" y="4951440"/>
                <a:ext cx="2727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ψ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401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51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ақылау сұрақта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Times New Roman"/>
              </a:rPr>
              <a:t>Туындысы бойынша айқындалмаған теңдеулер қандай әдістермен интегралданады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Times New Roman"/>
              </a:rPr>
              <a:t>Қандай дифференциалдық теңдеу Лагранж теңдеуі деп аталады?  Интегралдау әдісін айтыңыз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Times New Roman"/>
              </a:rPr>
              <a:t>Қандай дифференциалдық теңдеу Клеро теңдеуі деп аталады? Интегралдау әдісі қандай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Times New Roman"/>
              </a:rPr>
              <a:t>Бұл тақырыпта туындысы бойынша айқындалмаған теңдеу, шешу жолдары, Лагранж теңдеуі және жалпы интегралы, Клеро теңдеу және жалпы интегралы туралы жазылған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Times New Roman"/>
              </a:rPr>
              <a:t>Әдебиеттер тізім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00200" y="1501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1. Сүлейменов Ж. Дифференциялдық  теңдеулер: Алматы,199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2. Сматов Т.С. Жай дифференциалдық теңдеулер курсы (интегралдау әдістері). ҚарМУ, Қарағанды-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3. Әбдіманапов С., Сматов Т.С. Дифференциалдық теңдеулер курсы. «Нұржол», Астана-20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4. Сүлеймен Ж.  Дифференциалдық теңдеулер курсы: оқулық; Әл - Фараби атын. Қазақ ұлттық ун-ті. - Алматы: Қазақ  ун-ті, 2009. - 440 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5. Сүлейменов Ж.С. Бірінші ретті жәй дифференциалдық теңдеулерді интегралдау әдістері- Алматы: Кітап, 1982. - 112 б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MD" sz="1800" spc="-1" strike="noStrike">
                <a:solidFill>
                  <a:srgbClr val="000000"/>
                </a:solidFill>
                <a:latin typeface="Times New Roman"/>
              </a:rPr>
              <a:t>Краснов М.Л., Киселев А.И., Макаренко Г.И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борник задач по </a:t>
            </a:r>
            <a:r>
              <a:rPr b="0" lang="ru-MD" sz="1800" spc="-1" strike="noStrike">
                <a:solidFill>
                  <a:srgbClr val="000000"/>
                </a:solidFill>
                <a:latin typeface="Times New Roman"/>
              </a:rPr>
              <a:t>обыкновенным дифференциальным уравнения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- М.: ВШ</a:t>
            </a:r>
            <a:r>
              <a:rPr b="0" lang="ru-MD" sz="18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7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йдос Е. Ж. Жоғары математика-3: оқулық. - Алматы: Бастау. - 2008. 3 т. - 2008. - 536 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8. Филиппов А.Ф. Сборник задач по дифференциальным уравнениям.- М.: Наука, 199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3760" y="252360"/>
            <a:ext cx="86565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ындысы арқылы айқындалмаған 1-ретті теңдеул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640" y="1730160"/>
            <a:ext cx="863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ші ретті, туындысы арқылы айқындалмаған теңдеуді – келесі түрде жазуға бола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пы жағдайда 1-ретті туындысы арқылы айқындалмаған теңдеу келесі түрге ие бола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= 0 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деуіне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і айқындай алмасақ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да теңдеу туындысы арқылы айқындалмаған деп аталад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401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601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960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рқылы бірмәнді емес шешілетін теңдеул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9640" y="1571760"/>
            <a:ext cx="86374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65948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рқылы бірмәнді емес шешілетін теңдеулер болсы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65948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ғ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деу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әртүрлі теңдеуге эквивалентті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65948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,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,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,   … ,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ctr" pos="465948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ы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еңдеудің әрқайсысының жалпы интеграл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65948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= 0 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= 0 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….,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= 0 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ctr" pos="465948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ж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пы интегралдардың жиынтығын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r>
              <a:rPr b="1" lang="kk-KZ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қа қатысты шешілмейтін теңдеудің жалпы интегралдары деп атайды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451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101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9640" y="309240"/>
            <a:ext cx="8637480" cy="62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кер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жиынтықты мына түрде жазуға бола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Φ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….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Φ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= 0 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Ег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деу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қа қатысты бірмәнді шешулері болмаса, онда облыстың әрбі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үктесі арқылы қарастырып отырған теңдеудің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нтегралдық қисығы өтеді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ірақта бұл нүктеде жалғыздық шарты бұзылды деп айтамыз, еге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үктесі арқылы өтетін екі қисықтың жалпы жанамасы болады  болс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АЛ 1.   Теңдеудің жалпы интегралын табыңы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елесі бастапқы шарттарды қанағаттандыратын шешімін табу кер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751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851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452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203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.  Толық емес теңдеуле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640" y="1179360"/>
            <a:ext cx="8637480" cy="50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309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) Туындысы ғана бар теңдеул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ctr" pos="4309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Т келесі түрде болсы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= 0 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309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д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ен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н тәуелді болмай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ғни тұрақты болмай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ctr" pos="4309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елесі теңдеуді қанағаттандыратын болсы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= 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309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00"/>
              </a:spcBef>
              <a:buNone/>
              <a:tabLst>
                <a:tab algn="l" pos="0"/>
                <a:tab algn="ctr" pos="4309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ңдеудің жалпы интегр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503520" y="3844800"/>
                <a:ext cx="18036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4932360" y="4557600"/>
                <a:ext cx="16700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51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69640" y="222120"/>
            <a:ext cx="8637480" cy="62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20840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) Ізделінді функциядан тәуелді емес функциял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ctr" pos="420840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Т мына түрде болсы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= 0 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20840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жағдай болуы мүмкі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ctr" pos="420840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рқылы бірнеше шешімі болуы мүмкін – 1 пункт қа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ctr" pos="420840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рқылы шешілмейті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ірақ параметрлік түрлендіру жасауға болады, яғни келесі екі теңдеумен ауыстырылуы мүмкі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ctr" pos="420840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20840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ңдеудің шешімі параметрік түрде табылуы мүмкін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20840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амы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buNone/>
              <a:tabLst>
                <a:tab algn="l" pos="0"/>
                <a:tab algn="ctr" pos="420840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,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ctr" pos="420840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ctr" pos="420840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2786040" y="3890880"/>
                <a:ext cx="1028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998800" y="6235560"/>
                <a:ext cx="3564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1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69640" y="352440"/>
            <a:ext cx="8637480" cy="61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ылайша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еңдеудінің интегралдық қисықтары параметрлі түрде бола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керт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еңдеудің жалпы интегралы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жүйеде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параметрін алып тастағанда алынады (егер мүмкін болс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Егер 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теңдеуді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йынша шешуге бол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яғни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рде жазуға бол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да параметр түрінде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ған дұры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да теңдеудің жалп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тегралы (параметр түрінде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265560" y="1060560"/>
                <a:ext cx="32241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3467160" y="5021280"/>
                <a:ext cx="2741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201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201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201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5240" y="269640"/>
            <a:ext cx="8637480" cy="62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5720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) Тәуелсіз айнымалысы болмайтын теңдеул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ctr" pos="45720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Т мына түрде болсы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= 0 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5720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жағдай болуы мүмкі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ctr" pos="45720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-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 қатысты бірнеше шемімдері бол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ctr" pos="45720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рқылы шешілмейд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ірақ параметрлік түрлендіру жасауға болады, яғни мына екі теңдеумен алмастыруға болады: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5720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ңдеудің шешімі параметр түрінде табылуы мүмкін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ctr" pos="45720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атынымы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ctr" pos="45720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5720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,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ctr" pos="4572000"/>
                <a:tab algn="l" pos="789624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2828880" y="3790800"/>
                <a:ext cx="102888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4543560" y="3797280"/>
                <a:ext cx="1800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4627440" y="4995720"/>
                <a:ext cx="2934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0"/>
              <p:cNvSpPr txBox="1"/>
              <p:nvPr/>
            </p:nvSpPr>
            <p:spPr>
              <a:xfrm>
                <a:off x="4684680" y="5838840"/>
                <a:ext cx="29336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ϕ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AutoShape 12"/>
          <p:cNvSpPr/>
          <p:nvPr/>
        </p:nvSpPr>
        <p:spPr>
          <a:xfrm>
            <a:off x="3844800" y="4964040"/>
            <a:ext cx="204840" cy="812880"/>
          </a:xfrm>
          <a:custGeom>
            <a:avLst/>
            <a:gdLst>
              <a:gd name="textAreaLeft" fmla="*/ 0 w 204840"/>
              <a:gd name="textAreaRight" fmla="*/ 73800 w 20484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1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1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69640" y="352440"/>
            <a:ext cx="8637480" cy="61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ымен,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еңдеудің интегралдық қисықтары параметр түрінде бола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керт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еңдеудің жалпы интегралы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жүйеде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раметрін алып тастағаннан табылады (егер мүмкін болс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Егер 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еңдеуді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йынша шешуге бол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яғни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рінде жазуға бол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онда параметр ретінд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ған ыңғай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0876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да теңдеудің жалпы интегра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араметр түрінде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3379680" y="1046160"/>
                <a:ext cx="25369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3389400" y="4994280"/>
                <a:ext cx="253656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101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101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201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4:33:40Z</dcterms:created>
  <dc:creator>Пахомова Е.Г.</dc:creator>
  <dc:description/>
  <dc:language>en-US</dc:language>
  <cp:lastModifiedBy>Admin</cp:lastModifiedBy>
  <dcterms:modified xsi:type="dcterms:W3CDTF">2021-05-24T18:10:00Z</dcterms:modified>
  <cp:revision>63</cp:revision>
  <dc:subject/>
  <dc:title>05-Не разрешенные отн-но производной</dc:title>
</cp:coreProperties>
</file>