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EC6-E053-4C77-B6F5-25C21DC5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4AF-2022-4D28-8A58-D9D4A0DF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FB4-299C-4C1E-B32C-87DE24BD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E90-8682-4FBC-A9BE-FADCF986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DF0D-DF19-4775-9C6E-0314FBEB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6E9-C5EB-4DEE-898A-C934DC5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DF0D-8C90-4412-98D6-228B299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EA6F-3396-4657-9D91-EB071A02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D9E-731F-4E01-BC7A-BD6F06B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ECF-2FCA-46DF-A62C-B0141D0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DD03-E8DB-42E6-94D4-ECD49CC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558-8950-4105-A44D-05247598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60BD-28BF-4918-8BF2-7A8C3AF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DDEA-866A-48C0-B629-5A613FB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E751-57E8-4637-A0BC-61C57AA1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667E-9BF0-491D-AC8E-0998248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F665-32E6-488F-B4F9-DCD86B72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D1F6-CDAC-45F5-A657-6650D7A6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4A92-E472-4C9E-8904-3D82DFCD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1828-3EAE-4392-9DC1-314FAD2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FB56-3D8B-47AB-9A65-E58B7D8F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3357-46A6-44F6-9BAF-4698833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5A1-E467-4658-B5D8-25D57CD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AA15-50C0-41E1-9E72-889D66E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3D9B-403C-4372-AA26-147E675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A661-1B35-459F-A564-037013F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7B3C-EA85-43BD-99AC-6D5ACD61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D7D3-D2C3-4AB7-86A2-A6A662E2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C4EC-05CE-4D24-9E20-34E009F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4B58-A24D-4E33-A53C-DCC7CDB4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32A-3214-4DA6-B9B8-53687022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413-C500-496F-87F7-5AECF07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9E7-65AA-4DC0-918F-81BD7E1C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4DD-B7AC-4E67-96D8-4DC0CB0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124-C595-48BB-8050-CC2245C3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69C2-5104-44A5-A2E5-24DAA24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5B22-F9D8-49BC-B1B5-D96D012250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E7AE-3434-4468-87CE-06C394EC5E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956-060E-4D64-BDE1-1BA7F0D043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603360" y="598320"/>
            <a:ext cx="7883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АЙ ДИФФЕРЕНЦИАЛДЫҚ ТЕҢДЕУЛ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7-тақырып. Реті төмендетілетін жоғарғы ретті теңдеулер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Реті төмендетілетін жоғарғы ретті теңдеулердің бес жағдайы келтірілген. Жаңа айнымалы енгізу жолдары көрсетілген. Тақырып бойынша бақылау сұрақтары қойылғ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Әдебиеттер тізімі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444600" y="1235160"/>
            <a:ext cx="78832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Жоспа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1" action="ppaction://hlinksldjump"/>
              </a:rPr>
              <a:t>Реті төмендетілетін теңдеулер түрлер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2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2" action="ppaction://hlinksldjump"/>
              </a:rPr>
              <a:t>Еске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3" action="ppaction://hlinksldjump"/>
              </a:rPr>
              <a:t>3. Бақылау сұрақт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5440" y="243000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c00000"/>
                </a:solidFill>
                <a:latin typeface="Monotype Corsiva"/>
              </a:rPr>
              <a:t>Реті төмендетілетін жоғарғы ретті теңдеулер түрлері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718200" y="88956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на теңдеуді қарастырайы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906560" y="2141640"/>
                <a:ext cx="4789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5"/>
          <p:cNvSpPr/>
          <p:nvPr/>
        </p:nvSpPr>
        <p:spPr>
          <a:xfrm>
            <a:off x="7616880" y="238284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49760" y="365904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е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1306440" y="3749760"/>
                <a:ext cx="784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Прямоугольник 9"/>
          <p:cNvSpPr/>
          <p:nvPr/>
        </p:nvSpPr>
        <p:spPr>
          <a:xfrm>
            <a:off x="2333160" y="3662280"/>
            <a:ext cx="58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са, онда (1) теңдеу жоғарғы ретт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75360" y="446328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й дифференциалдық теңдеу деп атал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561600" y="432360"/>
            <a:ext cx="16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керту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2351160" y="509760"/>
                <a:ext cx="1136520" cy="35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5"/>
          <p:cNvSpPr/>
          <p:nvPr/>
        </p:nvSpPr>
        <p:spPr>
          <a:xfrm>
            <a:off x="0" y="96228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фференциалдық теңдеуді шешудің толып жатқ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әдістерін білеміз. Осыған байланысты жаң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йнымалылар арқылы ауыстыру формуласы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қолданып, (1) теңдеудің ретін төмендетуге болар 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і, тіпті кейде осы ауыстыруларды біртінде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қолданып дифференциалдық теңдеуді 1-ретке дейі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үсіруге болатын шыға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3500280" y="44136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ғандағы жағжайда ж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470880" y="343080"/>
            <a:ext cx="865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ындай есептерді шешу үшін, төмендегі 3 жағдайд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қарастырайы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2638440" y="1476360"/>
                <a:ext cx="43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2392920" y="151164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628200" y="13176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(1) теңде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417600" y="1752480"/>
            <a:ext cx="87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ындыларына байланысты былай берілген, мәселе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945880" y="128412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е, оның кейбір рет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1828800" y="2351160"/>
                <a:ext cx="3919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6060960" y="2455920"/>
                <a:ext cx="1252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14"/>
          <p:cNvSpPr/>
          <p:nvPr/>
        </p:nvSpPr>
        <p:spPr>
          <a:xfrm>
            <a:off x="7711920" y="2513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647640" y="304164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ұл жағдай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2"/>
              <p:cNvSpPr txBox="1"/>
              <p:nvPr/>
            </p:nvSpPr>
            <p:spPr>
              <a:xfrm>
                <a:off x="3670200" y="3475080"/>
                <a:ext cx="2011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Прямоугольник 19"/>
          <p:cNvSpPr/>
          <p:nvPr/>
        </p:nvSpPr>
        <p:spPr>
          <a:xfrm>
            <a:off x="7333920" y="4027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7392960" y="4611600"/>
                <a:ext cx="366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Прямоугольник 23"/>
          <p:cNvSpPr/>
          <p:nvPr/>
        </p:nvSpPr>
        <p:spPr>
          <a:xfrm>
            <a:off x="0" y="460044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ыстыруы арқылы (2) теңдеудің реті бірде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4"/>
          <p:cNvSpPr/>
          <p:nvPr/>
        </p:nvSpPr>
        <p:spPr>
          <a:xfrm>
            <a:off x="159840" y="51703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өмендедетіледі; яғ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3252960" y="5761080"/>
                <a:ext cx="37954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Прямоугольник 27"/>
          <p:cNvSpPr/>
          <p:nvPr/>
        </p:nvSpPr>
        <p:spPr>
          <a:xfrm>
            <a:off x="7516440" y="58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71400" y="23616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1)теңде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"/>
              <p:cNvSpPr txBox="1"/>
              <p:nvPr/>
            </p:nvSpPr>
            <p:spPr>
              <a:xfrm>
                <a:off x="2363760" y="379440"/>
                <a:ext cx="4777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Прямоугольник 7"/>
          <p:cNvSpPr/>
          <p:nvPr/>
        </p:nvSpPr>
        <p:spPr>
          <a:xfrm>
            <a:off x="2702880" y="23328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е байланысты емес, яғ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573280" y="679320"/>
                <a:ext cx="31179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Прямоугольник 10"/>
          <p:cNvSpPr/>
          <p:nvPr/>
        </p:nvSpPr>
        <p:spPr>
          <a:xfrm>
            <a:off x="6405120" y="774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299880" y="1289160"/>
            <a:ext cx="82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ұл теңдеудің реті мына төмендегі ауыстыру арқылы төмендетілетінін көрсетейі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3108240" y="2076480"/>
                <a:ext cx="2286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  <m:r>
                          <m:t xml:space="preserve">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z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Прямоугольник 15"/>
          <p:cNvSpPr/>
          <p:nvPr/>
        </p:nvSpPr>
        <p:spPr>
          <a:xfrm>
            <a:off x="6759360" y="225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522360" y="2925720"/>
                <a:ext cx="45594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′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′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′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Прямоугольник 19"/>
          <p:cNvSpPr/>
          <p:nvPr/>
        </p:nvSpPr>
        <p:spPr>
          <a:xfrm>
            <a:off x="247680" y="3921120"/>
            <a:ext cx="689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.с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матикалық индукция заңы бойынш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5943600" y="4349880"/>
                <a:ext cx="9507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Прямоугольник 22"/>
          <p:cNvSpPr/>
          <p:nvPr/>
        </p:nvSpPr>
        <p:spPr>
          <a:xfrm>
            <a:off x="7024320" y="422424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ға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3317760" y="4807080"/>
                <a:ext cx="2965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Прямоугольник 26"/>
          <p:cNvSpPr/>
          <p:nvPr/>
        </p:nvSpPr>
        <p:spPr>
          <a:xfrm>
            <a:off x="6858000" y="47293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7"/>
          <p:cNvSpPr/>
          <p:nvPr/>
        </p:nvSpPr>
        <p:spPr>
          <a:xfrm>
            <a:off x="497160" y="51642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1566720" y="51865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Прямоугольник 31"/>
          <p:cNvSpPr/>
          <p:nvPr/>
        </p:nvSpPr>
        <p:spPr>
          <a:xfrm>
            <a:off x="1724040" y="5202360"/>
            <a:ext cx="72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өзінің айнымалыларына байланысты көпмүшелі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2"/>
          <p:cNvSpPr/>
          <p:nvPr/>
        </p:nvSpPr>
        <p:spPr>
          <a:xfrm>
            <a:off x="9000" y="555624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лы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0"/>
              <p:cNvSpPr txBox="1"/>
              <p:nvPr/>
            </p:nvSpPr>
            <p:spPr>
              <a:xfrm>
                <a:off x="1044720" y="5721480"/>
                <a:ext cx="33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Прямоугольник 35"/>
          <p:cNvSpPr/>
          <p:nvPr/>
        </p:nvSpPr>
        <p:spPr>
          <a:xfrm>
            <a:off x="1388520" y="5595840"/>
            <a:ext cx="62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шін (7)-ні (5) қойып, реті 1-ге төмендетілг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2"/>
              <p:cNvSpPr txBox="1"/>
              <p:nvPr/>
            </p:nvSpPr>
            <p:spPr>
              <a:xfrm>
                <a:off x="7562880" y="5668920"/>
                <a:ext cx="6793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38"/>
          <p:cNvSpPr/>
          <p:nvPr/>
        </p:nvSpPr>
        <p:spPr>
          <a:xfrm>
            <a:off x="27360" y="58960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ті теңдеу аламыз, 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4"/>
              <p:cNvSpPr txBox="1"/>
              <p:nvPr/>
            </p:nvSpPr>
            <p:spPr>
              <a:xfrm>
                <a:off x="3357720" y="5969160"/>
                <a:ext cx="3776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Прямоугольник 41"/>
          <p:cNvSpPr/>
          <p:nvPr/>
        </p:nvSpPr>
        <p:spPr>
          <a:xfrm>
            <a:off x="3763440" y="59785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ланысты болады, яғ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4486320" y="6373800"/>
                <a:ext cx="2946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849600" y="1584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ңдеуді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ғ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ә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ын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аты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ғда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209520" y="611280"/>
            <a:ext cx="62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талы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дің сол жағы қандайда б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6388200" y="601560"/>
                <a:ext cx="2324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Прямоугольник 7"/>
          <p:cNvSpPr/>
          <p:nvPr/>
        </p:nvSpPr>
        <p:spPr>
          <a:xfrm>
            <a:off x="287280" y="10684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сының толық туындысы болсын дейі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ғ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868400" y="1646280"/>
                <a:ext cx="484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Прямоугольник 10"/>
          <p:cNvSpPr/>
          <p:nvPr/>
        </p:nvSpPr>
        <p:spPr>
          <a:xfrm>
            <a:off x="7659360" y="1728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263160" y="23036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е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633680" y="2651040"/>
            <a:ext cx="5628960" cy="7336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3"/>
          <p:cNvSpPr/>
          <p:nvPr/>
        </p:nvSpPr>
        <p:spPr>
          <a:xfrm>
            <a:off x="233640" y="33228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теңдеу барлы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3083040" y="3292560"/>
                <a:ext cx="1763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Прямоугольник 16"/>
          <p:cNvSpPr/>
          <p:nvPr/>
        </p:nvSpPr>
        <p:spPr>
          <a:xfrm>
            <a:off x="4996800" y="3322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бойынш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169920" y="3746520"/>
            <a:ext cx="86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ындала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 себепт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дің жалпы интегр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3225960" y="4154400"/>
                <a:ext cx="3084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Прямоугольник 23"/>
          <p:cNvSpPr/>
          <p:nvPr/>
        </p:nvSpPr>
        <p:spPr>
          <a:xfrm>
            <a:off x="0" y="4616280"/>
            <a:ext cx="892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ек, берілген теңдеудің реті бірге төмендетіледі. Егер (1) теңдеудің сол жағы басқа бір функцияның дәл туындысы болмаса, онда оған келтіру үшін теңдеудің екі жағын интегралдаушы көбейткіш деп аталаты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3265560" y="5748480"/>
                <a:ext cx="242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Прямоугольник 26"/>
          <p:cNvSpPr/>
          <p:nvPr/>
        </p:nvSpPr>
        <p:spPr>
          <a:xfrm>
            <a:off x="5784480" y="570060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сына көбей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27"/>
          <p:cNvSpPr/>
          <p:nvPr/>
        </p:nvSpPr>
        <p:spPr>
          <a:xfrm>
            <a:off x="5760" y="6118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лай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37920" y="1699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Бақылау сұрақта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90480" y="1452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ші ретті дифференциалдық теңдеу деп қандай теңдеуді айтады?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ші ретті теңдеулер шешімінің типін анықтаңда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Жоғары ретті дифференциалдық теңдеулердің қандай типтерінің реті төмендетіледі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000" spc="-1" strike="noStrike">
                <a:solidFill>
                  <a:srgbClr val="000000"/>
                </a:solidFill>
                <a:latin typeface="Monotype Corsiva"/>
              </a:rPr>
              <a:t>Тәуелсіз айнымалылары кірмейтін, жоғары ретті дифференциалдық теңдеулер қала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нтегралдана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Ізделінді функция мен оның туындыларына қатысты біртекті жоғары ретті дифференциалдық теңдеуді интегралдау әдісін </a:t>
            </a:r>
            <a:r>
              <a:rPr b="0" lang="ru-MD" sz="2000" spc="-1" strike="noStrike">
                <a:solidFill>
                  <a:srgbClr val="000000"/>
                </a:solidFill>
                <a:latin typeface="Monotype Corsiva"/>
              </a:rPr>
              <a:t>баяндаңыз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Қандай жоғары ретті дифференциалдық теңдеу жалпыланған біртекті теңдеу деп аталады? Оны интегралдау әдісі қанда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 жағы қандай да бір функцияның толық туындысы болып келетін дифференциалдық теңдеулер қалай интегралдана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Жоғары ретті дифференциалдық теңдеулердің қандай  типтері квадратурада шешіледі? Оларды интегралдау әдістері  қанда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8:10:49Z</dcterms:created>
  <dc:creator>Инна</dc:creator>
  <dc:description/>
  <dc:language>en-US</dc:language>
  <cp:lastModifiedBy>Admin</cp:lastModifiedBy>
  <dcterms:modified xsi:type="dcterms:W3CDTF">2021-05-24T18:10:24Z</dcterms:modified>
  <cp:revision>19</cp:revision>
  <dc:subject/>
  <dc:title>Название презентации</dc:title>
</cp:coreProperties>
</file>