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7FD-3A8F-42FB-9696-F58B0663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956-D85E-4BE4-A3B9-ED98F7FB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54A-F30C-44E5-800A-260098EA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B7A-6901-46B3-9E38-F70C8C0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AA44-D737-4C01-B323-18E32EB7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15B-8403-4222-8CE9-65F9028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02B-B1D1-40FD-AADF-8C334AF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BDBC-1ED0-47D0-8B30-4B7A946C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2573-8774-4EF7-9AB7-62D92F8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3D5E-88AF-4578-9392-0946F9A3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49C9-0502-4B8F-A45D-EAFFB82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AB7-EFC5-4DF1-A038-515BDD1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0BE-1C6E-4DE4-A228-711C690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4B4-FCEF-41B1-8B02-D5E4918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6803-757D-4FAC-9A33-A2FA93D0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C38-32FB-42D2-A0F6-359B8860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1FCF-BBD0-4D11-8F3E-917875BD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ADA1-15E2-42C2-BD03-287FC4C6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7B8F-8294-42CB-B6B7-755FE0F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BA27-87CB-4B16-B137-768CECB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6290-EE6E-4F08-A395-C858DEA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97A8-13FE-42E4-A896-E5A60E05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2A3-0E25-4ABC-B606-5076649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55BB-EB53-48D7-BB7B-961F73A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56F6-E9BE-4A19-90EC-5CF7CD3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7B73-82CB-4E2E-98AA-2C1B308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9AB3-D56D-494B-85A4-5B2BE93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9BBD-B29D-42B4-B098-EF198F8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6E28-A541-4E58-9E87-F7CE17C3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EEAB-EE5C-4AE0-8109-8320B000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582-5682-459F-BB69-9DB8C94F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20B-F4C7-47AE-A605-AAD16FAE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9E7-FBBC-4D4B-9AFB-607D3572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23E-5300-4D85-A40C-0DEC0E2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E5F-4B73-4819-A903-DC37933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666-3B2B-4C3E-8A8F-41F2ABB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921-0D91-4512-8BCF-4F42292205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1FA4-F70F-4906-8567-1A51F87ED2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B00-8281-4B07-BE27-5B3F1DA9A3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31920" y="133200"/>
            <a:ext cx="849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ЛДЫ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Қ ТЕҢДЕУЛ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4-тақырып. Толық дифференциалдық теңдеул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Интегралдаушы көбейткі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Толық дифференциалдық теңдеудің анықтамасы және шешу жолы көрсетілге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Интегралдық көбейткіш және оны табу формулалары, қасиеттері қарастырылған, осы тақырып бойынша мыалдар келтірілге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Әдебиеттер тізімі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2560" y="15951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Monotype Corsiva"/>
              </a:rPr>
              <a:t>Жоспа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1" action="ppaction://hlinksldjump"/>
              </a:rPr>
              <a:t>Коши есебі шешімінің бар болуы мен жалғыздығы жөніндегі теор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2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2" action="ppaction://hlinksldjump"/>
              </a:rPr>
              <a:t>Пеано теорем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3" action="ppaction://hlinksldjump"/>
              </a:rPr>
              <a:t>Пикар теорем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4. </a:t>
            </a:r>
            <a:r>
              <a:rPr b="0" lang="kk-KZ" sz="2800" spc="-1" strike="noStrike" u="sng">
                <a:solidFill>
                  <a:srgbClr val="0563c1"/>
                </a:solidFill>
                <a:uFillTx/>
                <a:latin typeface="Monotype Corsiva"/>
                <a:hlinkClick r:id="rId4" action="ppaction://hlinksldjump"/>
              </a:rPr>
              <a:t>Бақылау сұрақт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2840" y="115920"/>
            <a:ext cx="78865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ық дифференциалды теңдеулер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04520" y="1147680"/>
            <a:ext cx="7886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қтама 1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ретті симметриялық түрдегі теңдеудің сол жағы үзіліссіз дифференциалданатын               функциясының толық дифференци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 болса, онда оны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толық дифференциалды теңдеу деп атай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ұнда                              және олардың дербес туындыла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ысында үзіліссіз, оған қо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ысында ешқандай ерекше нүкте болмауы қаж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ықтама бойын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пы интегр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048120" y="1595520"/>
                <a:ext cx="2468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730680" y="2365200"/>
                <a:ext cx="61128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2060640" y="3178080"/>
                <a:ext cx="1976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2247840" y="4599000"/>
                <a:ext cx="35164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1755720" y="5068800"/>
                <a:ext cx="11034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2867040" y="5057640"/>
                <a:ext cx="3110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3205080" y="5030640"/>
                <a:ext cx="201924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452480" y="774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394520" y="229680"/>
            <a:ext cx="3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4468680" y="437400"/>
            <a:ext cx="20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7080" y="4489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пы интегралды таб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ы матанализден белгіл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және (4)-ні салыстырсақ; облысын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д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"/>
              <p:cNvSpPr txBox="1"/>
              <p:nvPr/>
            </p:nvSpPr>
            <p:spPr>
              <a:xfrm>
                <a:off x="1957320" y="868320"/>
                <a:ext cx="34862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268360" y="2432160"/>
                <a:ext cx="35895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3059280" y="3178080"/>
                <a:ext cx="2082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3044880" y="4129200"/>
                <a:ext cx="1817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даушы көбейткіш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406600" y="1425600"/>
                <a:ext cx="3179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"/>
              <p:cNvSpPr txBox="1"/>
              <p:nvPr/>
            </p:nvSpPr>
            <p:spPr>
              <a:xfrm>
                <a:off x="3559320" y="3233880"/>
                <a:ext cx="1660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4113360" y="140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54160" y="1952640"/>
            <a:ext cx="7191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</a:t>
            </a: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ық дифференциалды теңдеу болмасын дейі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.2-анықтама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(1) теңдеудің екі жағы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009800" y="3887280"/>
            <a:ext cx="72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kk-KZ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бейткенде, ол толық дифференциалды теңдеу болса, онда 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даушы көбейткіш деп а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289200" y="1438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2583000" y="541440"/>
                <a:ext cx="33526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681280" y="2062080"/>
                <a:ext cx="31878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"/>
              <p:cNvSpPr txBox="1"/>
              <p:nvPr/>
            </p:nvSpPr>
            <p:spPr>
              <a:xfrm>
                <a:off x="2322360" y="3098880"/>
                <a:ext cx="412596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y</m:t>
                            </m:r>
                          </m:sup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y</m:t>
                                </m:r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70360" y="1330920"/>
            <a:ext cx="389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</a:t>
            </a: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ыдан (1)-дің 2-теңдігі бойын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490920" y="1262160"/>
            <a:ext cx="216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12200" y="4629960"/>
            <a:ext cx="44251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пы интеграл немесе жалпы шешу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3235320" y="476280"/>
                <a:ext cx="2941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319560" y="907920"/>
                <a:ext cx="963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51200" y="907920"/>
                <a:ext cx="844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2370240" y="1725480"/>
                <a:ext cx="3902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790800" y="2270160"/>
                <a:ext cx="1068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3533760" y="2876400"/>
                <a:ext cx="1935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687840" y="3654360"/>
                <a:ext cx="669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4572000" y="3543480"/>
                <a:ext cx="1082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3425760" y="4359240"/>
                <a:ext cx="1989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"/>
              <p:cNvSpPr txBox="1"/>
              <p:nvPr/>
            </p:nvSpPr>
            <p:spPr>
              <a:xfrm>
                <a:off x="3392640" y="5157720"/>
                <a:ext cx="2012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1"/>
          <p:cNvSpPr/>
          <p:nvPr/>
        </p:nvSpPr>
        <p:spPr>
          <a:xfrm>
            <a:off x="358200" y="180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сал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фференциалдық теңдеуді шешу кере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45960" y="819000"/>
            <a:ext cx="21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ұн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4465440" y="9745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25360" y="1360440"/>
            <a:ext cx="77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шарт орындалады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да берілген теңдеу толық дифференциалдық теңде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4464000" y="1700280"/>
            <a:ext cx="21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75000" y="22914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йдаланып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kk-K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719280" y="32122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амыз. Бұдан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698400" y="4550760"/>
            <a:ext cx="1086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с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782640" y="572364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ілген теңдеудің жалпы шешім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3400" y="657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шу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ықтан берілген теңдеу толық дифференциалдық теңдеу еме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дық көбейткішті табу керек. Ол үші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2000" indent="-162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ық дифференциалдық теңде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403360" y="684360"/>
                <a:ext cx="442620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≠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2563920" y="3357720"/>
                <a:ext cx="43210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num>
                                  <m:den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nary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654280" y="5345280"/>
                <a:ext cx="305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000000"/>
                </a:solidFill>
                <a:latin typeface="Monotype Corsiva"/>
              </a:rPr>
              <a:t>Бақылау сұрақта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1. Толық диффференциалдық теңдеудің анақтамасын айтыңы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2.  теңдеуі толық дифференциал-дық теңдеу болуының қажетті және жеткілікті шартын айтыңы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3. Интегралдаушы көбейткіштің анықтамасын айтыңы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Monotype Corsiva"/>
              </a:rPr>
              <a:t>4.Егер   орындалмайтын болса, онда қалай теңдеуді толық дифференциалдық теңдеуге келтіруге болад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8:10:49Z</dcterms:created>
  <dc:creator>Инна</dc:creator>
  <dc:description/>
  <dc:language>en-US</dc:language>
  <cp:lastModifiedBy>Admin</cp:lastModifiedBy>
  <dcterms:modified xsi:type="dcterms:W3CDTF">2021-05-24T18:09:02Z</dcterms:modified>
  <cp:revision>92</cp:revision>
  <dc:subject/>
  <dc:title>Название презентации</dc:title>
</cp:coreProperties>
</file>