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6B3-E9EA-4BC0-AE4D-7A5F022F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A78-BD7E-41F0-8E1F-8A116414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BB0-2523-4096-8FB1-ACA8DB08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677-6119-43AE-A3DE-DDF828AC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0619-01DC-4E3A-9595-8700CD4C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0F3E-F454-4DE6-91E4-00413841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978E-E88F-413F-8EAE-A2017716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1815-0620-4F67-848B-479BA995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FD60-56C7-4C69-8EE2-DE220390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4907-6FE2-464E-AF1F-29C32476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8AA4-155D-46DB-AFE3-B7CD8F9E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BE1-C794-4FD0-BD10-759EBE99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2D54-8303-4A3E-9230-EF93B3D4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C709-BE19-46AA-A52D-7B42C806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4C1A-F05E-405F-8E0F-E3479E22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53C7-3AD4-45A3-8552-BAE75B56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98B0-E0CB-425E-9AE9-400C9886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94B5-25CB-418F-B193-7E5499CD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FE39-B453-48B3-A8F8-63A12A94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47F4-5354-42DF-9D73-96C16B75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210A-E215-4881-892B-E8F1A2BE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83BA-868E-4912-B08C-C02528A2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7E4-380A-4957-8B92-1C4D6A4D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C1F6-AE2E-48F1-AE6A-BCA39C0B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EADC-71F9-4A4B-B49F-711E4843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89C2-6AE3-4FBA-A6AF-8FADF9C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994F-1E01-40A7-8867-AB29C250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7B28-B0A5-49D6-91ED-5DF5F7B7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1460-2A51-4D98-9924-67BC9184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6867-DD9C-4C5A-A15F-AF4FE0A4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53EEE-E938-4189-A7A5-708E86DE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6FD3-BB50-4D5C-8B88-8618C929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07D80-8214-4AB7-B818-5DF288A0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357-E12D-4B3A-8D26-41301828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2D0C7-E2B0-492C-BA57-DEF793B5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A89E1-03C4-469B-927A-40636E5A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5A009-5D2C-4866-B247-828539FF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393A-5E92-4570-A658-AE5F877A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3BD37-F41E-4AB5-9E96-879FDF3D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1E0D-2C1E-4393-808B-EEF31E60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8641-A738-4178-BF87-14741847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7CFED-567A-4516-B761-2C40323B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B077-AD47-436F-9B95-F7A476D2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2A016-12E6-47FB-B9CE-82E8E826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1B2-12C2-40D3-BCE4-C78B85C4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1C896-4E80-4434-95BF-D841723E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EA20-54E4-47CB-9934-95D1C063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01285-C450-49BE-A164-ACC8F29F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7F640-C664-4978-8C81-3188AA44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2D7BA-7C39-4521-ABD5-16F4152A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B25F-FB70-402B-9396-EF9CB05E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1912B-F061-4F02-8FE3-755E29D9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ACD1-9589-41AA-9617-FA7C1556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5340-FC13-49AE-84B4-552F7467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F2C7F-4E34-4970-B3B2-58222497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7B7-E3ED-4810-AAC9-E6B3F12E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CBA7-778F-4C5E-9EEE-0EC84358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008D-1C43-4EA5-8361-63E6EAFD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94DEF-9555-4C16-BE06-7D1CB1F2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3674B-2B97-4BEE-8F83-50319157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32268-9059-42E9-9B38-2A679949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04300-4941-4958-822D-9CBC6BA8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D54EF-2C43-445E-960F-A23FDF85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856F1-79CF-4C1B-AD54-639E9D22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CF7F1-B40F-48EA-B660-D0EF1E77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A8D14-9277-4295-81FE-1CC5D28C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CAD-9868-4FC9-B607-47BCB592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D812C-F1B4-41A4-8D49-5214A5F7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E0E82-7EAB-49F5-BBC0-4C7D17CA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9D022-F49F-42B9-A800-3D5A2669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0D5AF-870D-4918-8E56-BD1E1BE3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90692-5824-48F7-A1EB-F4341F85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29459-4D5C-4D90-BB9E-9E50399D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6C00A-9166-4011-B215-573C5877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6401D-460E-4ACE-BA1D-E65D6E34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0C259-EF30-4506-84C7-349DB65A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598F4-1097-4B43-B031-44990CAD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26F-A0B9-47B1-8628-D7DFA40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B0FD6-9B20-469A-87DE-66C6906E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9402E-894F-4E89-A357-30156EF7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188FC-2EE1-4576-A263-554BFB1A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24CD5-257D-4E4D-BC29-32EE8E97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DCA10-3987-4DB3-95BA-8FE1A31B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97D-5B28-4146-B606-ACF2DC1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CB7A-F3A6-4BD1-9FF7-0C597A7C97C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AA51-A437-43F2-A434-34AA16270B2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BAAB-F4EE-43F7-992B-0C1A79E160D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23F6-3C43-4F73-9A0B-7975EE2FDF3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0E60-B6CD-4494-9B32-8FCD658B836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8C94-66B2-46CA-AFDB-E657F19B5DC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5D16-C65D-4B66-8B54-D2DAC2D22C7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2"/>
          <p:cNvSpPr/>
          <p:nvPr/>
        </p:nvSpPr>
        <p:spPr>
          <a:xfrm>
            <a:off x="971640" y="196920"/>
            <a:ext cx="79214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Қазақстан Республикасы Білім және ғылым министрлі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А.Бөкетов атындағы Қарағанды университе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РЕНЦИАЛДЫ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Қ ТЕҢДЕУ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1-тақырып. Негізгі түсініктер мен анықтамал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Айнымалысы бөліктенетін теңдеул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ы: Искакова Г.Ш., ф.-м.ғ.к., математикалық анализ және дифференциалдық теңдеулер кафедрасының доцент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бақ түрі: дәріс                                          Қарағанды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1187280" y="1268280"/>
            <a:ext cx="77058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Сүлейменов Ж. Дифференциялдық  теңдеулер: Алматы,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Сматов Т.С. Жай дифференциалдық теңдеулер курсы (интегралдау әдістері). ҚарМУ, Қарағанды-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Әбдіманапов С., Сматов Т.С. Дифференциалдық теңдеулер курсы. «Нұржол», Астана-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4. Сүлеймен Ж.  Дифференциалдық теңдеулер курсы: оқулық; Әл - Фараби атын. Қазақ ұлттық ун-ті. - Алматы: Қазақ  ун-ті, 2009. - 440 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5. Сүлейменов Ж.С. Бірінші ретті жәй дифференциалдық теңдеулерді интегралдау әдістері- Алматы: Кітап, 1982. - 112 б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</a:rPr>
              <a:t>Краснов М.Л., Киселев А.И., Макаренко Г.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борник задач по 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</a:rPr>
              <a:t>обыкновенным дифференциальным уравнения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- М.: ВШ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йдос Е. Ж. Жоғары математика-3: оқулық. - Алматы: Бастау. - 2008. 3 т. - 2008. - 536 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8. Филиппов А.Ф. Сборник задач по дифференциальным уравнениям.- М.: Наука, 19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2060640" y="404640"/>
            <a:ext cx="32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дебиеттер тізім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Жоспа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1101600" y="1387440"/>
            <a:ext cx="832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. Айнымалысы бөліктенетін теңде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2. Ерекше ше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3. Айнымалысы бөліктенетін теңдеуге келтірілетін теңде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4. Бақылау сұрақ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68040"/>
            <a:ext cx="8362800" cy="60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нымалылары бөліктенетін теңдеул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kk-KZ" sz="20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нымалылары ажыратылатын (жіктелетін)  теңдеулер 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метриялық түріндегі теңдеуге ұқсас.</a:t>
            </a:r>
            <a:br>
              <a:rPr sz="2200"/>
            </a:br>
            <a:r>
              <a:rPr b="0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(1)          </a:t>
            </a:r>
            <a:br>
              <a:rPr sz="2200"/>
            </a:br>
            <a:r>
              <a:rPr b="0" lang="kk-KZ" sz="20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2000"/>
            </a:br>
            <a:r>
              <a:rPr b="0" lang="kk-KZ" sz="2000" spc="-1" strike="noStrike">
                <a:solidFill>
                  <a:srgbClr val="572314"/>
                </a:solidFill>
                <a:latin typeface="Corbel"/>
              </a:rPr>
              <a:t>        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ң берілген үзіліссіз функциялары, </a:t>
            </a:r>
            <a:r>
              <a:rPr b="0" lang="ru-M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ң берілген үзіліссіз функциялары, 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нымалылары ажыратылатын (жіктелетін) теңдеу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 аталады. Мұнда  облысында (1) теңдеудің ерекше нүктелері болмайды деп алынады. Егер  </a:t>
            </a:r>
            <a:r>
              <a:rPr b="0" lang="kk-KZ" sz="2400" spc="-1" strike="noStrike">
                <a:solidFill>
                  <a:srgbClr val="572314"/>
                </a:solidFill>
                <a:latin typeface="Corbel"/>
              </a:rPr>
              <a:t>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атын     табылса, онда          (1) теңдеудің шешуі болар еді, осыған ұқсас       болатын             табылса, онда            (1) теңдеудің шешуі болады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де                              және               болса,              нүктесінің аймағында (1) теңдеу мына төмендегі теңдеумен пара – пар болар еді, себебі екі теңдеудің де шешулерінің жиыны бірдей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"/>
              <p:cNvSpPr txBox="1"/>
              <p:nvPr/>
            </p:nvSpPr>
            <p:spPr>
              <a:xfrm>
                <a:off x="6659640" y="1341360"/>
                <a:ext cx="23162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3203640" y="1989000"/>
                <a:ext cx="3614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6"/>
              <p:cNvSpPr txBox="1"/>
              <p:nvPr/>
            </p:nvSpPr>
            <p:spPr>
              <a:xfrm>
                <a:off x="684360" y="2637000"/>
                <a:ext cx="4762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5"/>
              <p:cNvSpPr txBox="1"/>
              <p:nvPr/>
            </p:nvSpPr>
            <p:spPr>
              <a:xfrm>
                <a:off x="1258920" y="2637000"/>
                <a:ext cx="1428840" cy="24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459320" y="846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467240" y="37800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1"/>
              <p:cNvSpPr txBox="1"/>
              <p:nvPr/>
            </p:nvSpPr>
            <p:spPr>
              <a:xfrm>
                <a:off x="6659640" y="2565360"/>
                <a:ext cx="4572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0"/>
              <p:cNvSpPr txBox="1"/>
              <p:nvPr/>
            </p:nvSpPr>
            <p:spPr>
              <a:xfrm>
                <a:off x="7164360" y="2565360"/>
                <a:ext cx="1208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4459320" y="846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4467240" y="37800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5"/>
              <p:cNvSpPr txBox="1"/>
              <p:nvPr/>
            </p:nvSpPr>
            <p:spPr>
              <a:xfrm>
                <a:off x="5651640" y="3500280"/>
                <a:ext cx="8283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7"/>
              <p:cNvSpPr txBox="1"/>
              <p:nvPr/>
            </p:nvSpPr>
            <p:spPr>
              <a:xfrm>
                <a:off x="7596360" y="3573360"/>
                <a:ext cx="7333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9"/>
              <p:cNvSpPr txBox="1"/>
              <p:nvPr/>
            </p:nvSpPr>
            <p:spPr>
              <a:xfrm>
                <a:off x="2124000" y="3860640"/>
                <a:ext cx="4572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1"/>
              <p:cNvSpPr txBox="1"/>
              <p:nvPr/>
            </p:nvSpPr>
            <p:spPr>
              <a:xfrm>
                <a:off x="7524720" y="3860640"/>
                <a:ext cx="8096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23"/>
              <p:cNvSpPr txBox="1"/>
              <p:nvPr/>
            </p:nvSpPr>
            <p:spPr>
              <a:xfrm>
                <a:off x="1476360" y="4221000"/>
                <a:ext cx="7524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5"/>
              <p:cNvSpPr txBox="1"/>
              <p:nvPr/>
            </p:nvSpPr>
            <p:spPr>
              <a:xfrm>
                <a:off x="3851280" y="4221000"/>
                <a:ext cx="4762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7"/>
              <p:cNvSpPr txBox="1"/>
              <p:nvPr/>
            </p:nvSpPr>
            <p:spPr>
              <a:xfrm>
                <a:off x="8388360" y="4149720"/>
                <a:ext cx="5047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29"/>
              <p:cNvSpPr txBox="1"/>
              <p:nvPr/>
            </p:nvSpPr>
            <p:spPr>
              <a:xfrm>
                <a:off x="1116000" y="4508640"/>
                <a:ext cx="7621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31"/>
              <p:cNvSpPr txBox="1"/>
              <p:nvPr/>
            </p:nvSpPr>
            <p:spPr>
              <a:xfrm>
                <a:off x="2700360" y="4508640"/>
                <a:ext cx="8287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1258920" y="1413000"/>
            <a:ext cx="7561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 айнымалылары бөлектенген теңдеу. Практика жүзінде (14) теңдеудің екі жағын                                       өрнегіне бөліп (1) теңдеуден алуға болады. (2) интегралдау арқы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2411280" y="333360"/>
                <a:ext cx="3737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3924360" y="1989000"/>
                <a:ext cx="1633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3059280" y="2708280"/>
                <a:ext cx="3402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TextBox 8"/>
          <p:cNvSpPr/>
          <p:nvPr/>
        </p:nvSpPr>
        <p:spPr>
          <a:xfrm>
            <a:off x="1187280" y="3500280"/>
            <a:ext cx="74883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пы интегралын табамыз.                                                    (3) – 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ән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,     (біруақытта нольге тең емес) деп алып                    бастапқы берілгендерге сәйкес шешуін аламы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8"/>
              <p:cNvSpPr txBox="1"/>
              <p:nvPr/>
            </p:nvSpPr>
            <p:spPr>
              <a:xfrm>
                <a:off x="4500720" y="3860640"/>
                <a:ext cx="143964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4459320" y="9432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7"/>
              <p:cNvSpPr txBox="1"/>
              <p:nvPr/>
            </p:nvSpPr>
            <p:spPr>
              <a:xfrm>
                <a:off x="5940360" y="3860640"/>
                <a:ext cx="13683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3"/>
              <p:cNvSpPr txBox="1"/>
              <p:nvPr/>
            </p:nvSpPr>
            <p:spPr>
              <a:xfrm>
                <a:off x="1187280" y="4149720"/>
                <a:ext cx="7207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6"/>
              <p:cNvSpPr txBox="1"/>
              <p:nvPr/>
            </p:nvSpPr>
            <p:spPr>
              <a:xfrm>
                <a:off x="2627280" y="4221000"/>
                <a:ext cx="1163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5"/>
              <p:cNvSpPr txBox="1"/>
              <p:nvPr/>
            </p:nvSpPr>
            <p:spPr>
              <a:xfrm>
                <a:off x="3851280" y="4221000"/>
                <a:ext cx="11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9"/>
              <p:cNvSpPr txBox="1"/>
              <p:nvPr/>
            </p:nvSpPr>
            <p:spPr>
              <a:xfrm>
                <a:off x="2411280" y="4724280"/>
                <a:ext cx="8654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1"/>
              <p:cNvSpPr txBox="1"/>
              <p:nvPr/>
            </p:nvSpPr>
            <p:spPr>
              <a:xfrm>
                <a:off x="2744640" y="5353200"/>
                <a:ext cx="334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x</m:t>
                        </m:r>
                      </m:sup>
                      <m:e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y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"/>
          <p:cNvSpPr/>
          <p:nvPr/>
        </p:nvSpPr>
        <p:spPr>
          <a:xfrm>
            <a:off x="1476360" y="907920"/>
            <a:ext cx="698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кше шешу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йнымалылары бөлектенетін теңдеу алу үшін (10) – ті                                   өрнегіне бөлгенде                                 теңдеуіні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бірін жоғалтар едік. Сондықтан                    (         ) бас нүктеге жақындап келетін жартылай түзулер ерекше шешуге күдікті шешу. Егер               (7) теңдеудің жалпы шешуінің құрамында болса, ерекше шешу емес, ал егер болмаса-ерекше шешу. Қандайда болмасын шешуі болу үшін теңдеуді тепе-теңдікке айналдыру қаж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1"/>
              <p:cNvSpPr txBox="1"/>
              <p:nvPr/>
            </p:nvSpPr>
            <p:spPr>
              <a:xfrm>
                <a:off x="4859280" y="1341360"/>
                <a:ext cx="29527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3995640" y="1700280"/>
                <a:ext cx="2232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5"/>
              <p:cNvSpPr txBox="1"/>
              <p:nvPr/>
            </p:nvSpPr>
            <p:spPr>
              <a:xfrm>
                <a:off x="1619280" y="2133720"/>
                <a:ext cx="6490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8"/>
              <p:cNvSpPr txBox="1"/>
              <p:nvPr/>
            </p:nvSpPr>
            <p:spPr>
              <a:xfrm>
                <a:off x="6875640" y="2060640"/>
                <a:ext cx="10094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520" y="2844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2"/>
              <p:cNvSpPr txBox="1"/>
              <p:nvPr/>
            </p:nvSpPr>
            <p:spPr>
              <a:xfrm>
                <a:off x="1692360" y="2492280"/>
                <a:ext cx="6476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4"/>
              <p:cNvSpPr txBox="1"/>
              <p:nvPr/>
            </p:nvSpPr>
            <p:spPr>
              <a:xfrm>
                <a:off x="7308720" y="2781360"/>
                <a:ext cx="935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Object 2"/>
          <p:cNvGraphicFramePr/>
          <p:nvPr/>
        </p:nvGraphicFramePr>
        <p:xfrm>
          <a:off x="1324080" y="873000"/>
          <a:ext cx="6987960" cy="520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873000"/>
                    <a:ext cx="698796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Object 2"/>
          <p:cNvGraphicFramePr/>
          <p:nvPr/>
        </p:nvGraphicFramePr>
        <p:xfrm>
          <a:off x="1119240" y="1665360"/>
          <a:ext cx="7697880" cy="51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665360"/>
                    <a:ext cx="769788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3"/>
          <p:cNvSpPr/>
          <p:nvPr/>
        </p:nvSpPr>
        <p:spPr>
          <a:xfrm>
            <a:off x="1103400" y="203400"/>
            <a:ext cx="76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i="1" lang="ru-MD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йнымалылары бөліктенетін теңдеуг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елтірелетін теңде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1"/>
          <p:cNvSpPr/>
          <p:nvPr/>
        </p:nvSpPr>
        <p:spPr>
          <a:xfrm>
            <a:off x="2289600" y="549360"/>
            <a:ext cx="38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Бақылау сұрақт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1160640" y="1370520"/>
            <a:ext cx="77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1-ретті дифференциалдық теңдеудің жалпы, дербес және ерекше шешімдерінің анықтамалар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ифференциалдық теңдеулер теориясының негізгі мақсат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1-ретті дифференциалдық теңдеудің геометриялық түсініктемесі қанда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оклина анықтамасын беріңі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Айнымалылары бөліктенген және айнымалылары бөлектенетін теңдеулердің анықтамасын беріңі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нымалылары бөлектенетін теңдеулерге келтірілетін теңдеулердің түрі және шешу әдісі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1"/>
          <p:cNvSpPr/>
          <p:nvPr/>
        </p:nvSpPr>
        <p:spPr>
          <a:xfrm>
            <a:off x="2700360" y="6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Резю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1216080" y="1403280"/>
            <a:ext cx="75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Бұл тақырыпта дифференциалдық теңдеуге анықтамала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теңдеудің шешіміне анықтама, дифференциалдық теңдеуд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геометриялық мағынасы, Коши есебі, изоклина әдісі, айнымалысы бөліктенетін теңдеудің жалпы түрі және шешу әдісі қарастырылды.  Бақылау сұрақтары қойыл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5:35:17Z</dcterms:created>
  <dc:creator>Altynay</dc:creator>
  <dc:description/>
  <dc:language>en-US</dc:language>
  <cp:lastModifiedBy>Admin</cp:lastModifiedBy>
  <dcterms:modified xsi:type="dcterms:W3CDTF">2021-05-24T18:08:22Z</dcterms:modified>
  <cp:revision>60</cp:revision>
  <dc:subject/>
  <dc:title>Қазақстан Республикасы Білім және ғылым министрлігі Қарағанды мемлекеттік Е.А.Бөкетов атындағы университеті      ЖАЙ ДИФФЕРЕНЦИАЛДЫҚ ТЕҢДЕУЛЕР Мамандық: 5В060100-Математика        Қарағанды 2015</dc:title>
</cp:coreProperties>
</file>