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BB8C-D95B-45A4-89E6-50E5F3C02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8810-A757-46DB-BEC0-6668B994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0FC6-F91A-4D66-A72F-39872769F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D6EE-252A-4D2F-A407-0CFB1F0B0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9A29-D040-4D5F-A750-D6B1E36D0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D157-8762-4593-9809-9CCA519A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81C3-7235-460F-994F-27E81C58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6738-822F-47F2-9998-5DD41C03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176C-E851-44A9-8010-7C1F3116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EBCF-5861-4787-A663-1ACFB350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BA83-E075-404C-9104-FEAF4594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9F1A-C51C-4A8B-91B6-C321A123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42F3-A616-4A40-AEBA-BB513E61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6F03-ACF2-45FB-AECB-5D2D023E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5B52-E762-4498-8606-CE703CC8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2E3D-2774-49C4-9379-00F71A070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7108-A697-496C-91B5-145E9E4B9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D299F-25A6-40BB-A9B3-F03F1F30E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53CCA-E87B-4709-A8B4-474FFD56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3AED0-6EF1-471F-8F20-DAC1C202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9795E-4F32-46B1-915F-4E741AEF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6170E-0A47-40D4-AC0E-C41DB0F8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8F06-D532-4B9E-8838-9E269C7D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F5880-B166-46C9-B9B6-4FCC1939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6FEE1-BC27-480F-83A2-5711DC44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30DA2-98D8-4644-B352-A4FB5FA6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50D7A-F0F7-4970-8167-DC93FDE0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C3F24-E0BA-4146-B50A-6A998F22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8E5E3-ACC1-4BA5-8DB5-F9AC87DDF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2D078-943B-4F32-A7A3-256377B0C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E53F7-3699-44CA-A1A8-4D9FB6FF4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8E721-AA0A-4786-ABF1-D9CB6E20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B74A9-7A91-4596-BCEF-7E6070D3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8142-C35A-4486-82B1-53D03960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DE5A7-00E5-4AEA-AC00-A114EAF2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C0C96-9AE8-411D-A7F1-F2D3AC17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68BA9-E8D5-4F3B-BBCB-35F47E1B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AB719-B115-4FDA-8DF6-8D520F9D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5DF0B-5CE1-4D69-9904-77CF837B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6CF88-FD05-44E7-9D46-409E0D2C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D8664-D9E7-4C64-87D8-F6AA151A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CB628-0CAE-48AD-85D5-D7992679F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FA510-3425-4345-B1AF-C8206789E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0271A-105A-4E64-9811-7B34F176C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DA38-0754-4B76-8F29-7F87BFFF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81084-76F1-4E6B-961D-7BBF9D53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223BE-15EE-4611-A55D-4F8F5C08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8B393-E818-427E-BACE-64B620F0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D3E59-CAFE-4162-A30D-B7C0E1F6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CF466-1AFE-434B-88C3-85804C5D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FB804-C99D-4D1C-B852-E9008BCF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549C0-E13E-49FE-AC47-64AC7862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461F1-7AAC-4040-82BD-9604FCFC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2DF2A-7C2C-44D2-BC1B-57EEEE4C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8DB57-23D6-4CF9-B669-D36F2A229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95C9-13FB-4383-94E0-7C061525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E861C-853E-4058-BA90-BEE712E7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5C7F0-7DC0-419A-8E22-8B64EA64B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7F3C4-8D3A-4C29-955E-870AD9AB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21847-3789-49FB-A7FB-53A15AA3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577AA-EAB8-4012-8F02-8064E45A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34FC0-6E3D-4C62-9B9C-B442313E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BDC31-5C06-45BE-A023-8B631C5A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E0897-B3A0-490A-B1B5-40D1AF9B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EFA53-B481-4EE6-8443-1CB79CCA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7CD13-CB2F-4577-AAD1-5F4AC373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9622-C2CB-406E-8B31-82D1B843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FBA05-7F1C-4D87-A7A5-95E178BF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6A877-439B-4F89-A18C-2E86C55D1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9BE3A-4254-4AC8-B83C-2DA239563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B0360-3068-4DCF-857A-DF5E50F14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438AC-8E88-4199-BD59-EC15EF1C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85B9E-C5B6-4F8D-85BE-10478482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0675E-6FAD-406E-BB59-EBA3DC44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4E356-A4C6-4077-B651-E4DFD43E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314E9-4E45-4397-9C52-81EDD59B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90A01-4056-44E9-BEAA-250E182B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55E6-7C58-46A1-A20E-58CA6DFA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47631-B7C5-4D65-8DC2-6AF6EC2B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0923D-F76F-4D43-9051-D9E5E21D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FE6DD-8D32-4380-BCA0-AD764B4A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522D8-3D37-4CF7-811D-7B1E9684D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89495-6505-4887-9692-0937D690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5FA3-811C-4BA6-9FC4-D3F14F93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462C-DB68-41F1-B503-69FC27AC8C1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8D68-D2FC-4EC9-9FC8-ACF2EA646B7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C102-D7E8-4BF3-A197-F24FDEC5A25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A134-6DCC-40C6-9DDE-D0CAFDDC89B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BD51-4BA2-45B1-A917-ADFB68E5804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B4DA-944E-4B82-971B-7761E473838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EA94-58D1-4370-BC7A-895A30149AE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рямоугольник 2"/>
          <p:cNvSpPr/>
          <p:nvPr/>
        </p:nvSpPr>
        <p:spPr>
          <a:xfrm>
            <a:off x="971640" y="196920"/>
            <a:ext cx="79214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азақстан Республикасы Білім және ғылым министрліг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.А.Бөкетов атындағы Қарағанды университет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ФФЕРЕНЦИАЛДЫ ТЕ;ДЕУЛ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2-тақырып. Біртекті және оған келтірілетін теңдеуле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ы: Искакова Г.Ш., ф.-м.ғ.к., математикалық анализ және дифференциалдық теңдеулер кафедрасының доцент</a:t>
            </a: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бақ түрі: дәріс                                          Қарағанды 20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Box 1"/>
          <p:cNvSpPr/>
          <p:nvPr/>
        </p:nvSpPr>
        <p:spPr>
          <a:xfrm>
            <a:off x="2289600" y="549360"/>
            <a:ext cx="38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Arial"/>
              </a:rPr>
              <a:t>Бақылау сұрақт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1187280" y="1708200"/>
            <a:ext cx="7710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1. Қандай теңдеулерді біртекті теңдеу деп атай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2. Біртекті функцияның анықтамасын беріңі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3. Біртекті теңдеулердің түрі және шешу әдісі қанда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4. Біртекті теңдеулерге келтірілетін теңдеулердің  түрі және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шешу әдісі қанда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Box 1"/>
          <p:cNvSpPr/>
          <p:nvPr/>
        </p:nvSpPr>
        <p:spPr>
          <a:xfrm>
            <a:off x="2700360" y="692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Arial"/>
              </a:rPr>
              <a:t>Резю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2"/>
          <p:cNvSpPr/>
          <p:nvPr/>
        </p:nvSpPr>
        <p:spPr>
          <a:xfrm>
            <a:off x="1216080" y="1403280"/>
            <a:ext cx="759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Бұл тақырыпта біртекті функцияға, біртекті  дифференциалдық теңдеуге анықтамалар, шешіміне анықтама, біртекті теңдеуге келтірілетін теңдеулер және оларды шешу жолдары қарастырылды. Бақылау сұрақтары қойыл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Әдебиеттер тізімі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2" name="Прямоугольник 2"/>
          <p:cNvSpPr/>
          <p:nvPr/>
        </p:nvSpPr>
        <p:spPr>
          <a:xfrm>
            <a:off x="1332000" y="1628640"/>
            <a:ext cx="67546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1. Сүлейменов Ж. Дифференциялдық  теңдеулер: Алматы,199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2. Сматов Т.С. Жай дифференциалдық теңдеулер курсы (интегралдау әдістері). ҚарМУ, Қарағанды-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3. Әбдіманапов С., Сматов Т.С. Дифференциалдық теңдеулер курсы. «Нұржол», Астана-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4. Сүлеймен Ж.  Дифференциалдық теңдеулер курсы: оқулық; Әл - Фараби атын. Қазақ ұлттық ун-ті. - Алматы: Қазақ  ун-ті, 2009. - 440 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5. Сүлейменов Ж.С. Бірінші ретті жәй дифференциалдық теңдеулерді интегралдау әдістері- Алматы: Кітап, 1982. - 112 б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ru-MD" sz="1800" spc="-1" strike="noStrike">
                <a:solidFill>
                  <a:srgbClr val="000000"/>
                </a:solidFill>
                <a:latin typeface="Times New Roman"/>
              </a:rPr>
              <a:t>Краснов М.Л., Киселев А.И., Макаренко Г.И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борник задач по </a:t>
            </a:r>
            <a:r>
              <a:rPr b="0" lang="ru-MD" sz="1800" spc="-1" strike="noStrike">
                <a:solidFill>
                  <a:srgbClr val="000000"/>
                </a:solidFill>
                <a:latin typeface="Times New Roman"/>
              </a:rPr>
              <a:t>обыкновенным дифференциальным уравнения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- М.: ВШ</a:t>
            </a:r>
            <a:r>
              <a:rPr b="0" lang="ru-MD" sz="1800" spc="-1" strike="noStrike">
                <a:solidFill>
                  <a:srgbClr val="000000"/>
                </a:solidFill>
                <a:latin typeface="Times New Roman"/>
              </a:rPr>
              <a:t>, 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97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Айдос Е. Ж. Жоғары математика-3: оқулық. - Алматы: Бастау. - 2008. 3 т. - 2008. - 536 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8. Филиппов А.Ф. Сборник задач по дифференциальным уравнениям.- М.: Наука, 199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Box 1"/>
          <p:cNvSpPr/>
          <p:nvPr/>
        </p:nvSpPr>
        <p:spPr>
          <a:xfrm>
            <a:off x="2055240" y="2276640"/>
            <a:ext cx="599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НАЗАРЛАРЫҢЫЗҒА РАХМ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572314"/>
                </a:solidFill>
                <a:latin typeface="Corbel"/>
              </a:rPr>
              <a:t>Жоспар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0" name="TextBox 2"/>
          <p:cNvSpPr/>
          <p:nvPr/>
        </p:nvSpPr>
        <p:spPr>
          <a:xfrm>
            <a:off x="1137240" y="1700280"/>
            <a:ext cx="827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 u="sng">
                <a:solidFill>
                  <a:srgbClr val="8dc765"/>
                </a:solidFill>
                <a:uFillTx/>
                <a:latin typeface="Arial"/>
                <a:hlinkClick r:id="rId1" action="ppaction://hlinksldjump"/>
              </a:rPr>
              <a:t>1. Біртекті теңдеул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 u="sng">
                <a:solidFill>
                  <a:srgbClr val="8dc765"/>
                </a:solidFill>
                <a:uFillTx/>
                <a:latin typeface="Arial"/>
                <a:hlinkClick r:id="rId2" action="ppaction://hlinksldjump"/>
              </a:rPr>
              <a:t>2. Біртекті теңдеуге келтірілетін теңде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 u="sng">
                <a:solidFill>
                  <a:srgbClr val="8dc765"/>
                </a:solidFill>
                <a:uFillTx/>
                <a:latin typeface="Arial"/>
                <a:hlinkClick r:id="rId3" action="ppaction://hlinksldjump"/>
              </a:rPr>
              <a:t>3. Бақылау сұрақт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Прямоугольник 2" descr=""/>
          <p:cNvPicPr/>
          <p:nvPr/>
        </p:nvPicPr>
        <p:blipFill>
          <a:blip r:embed="rId1"/>
          <a:stretch/>
        </p:blipFill>
        <p:spPr>
          <a:xfrm>
            <a:off x="2408400" y="390600"/>
            <a:ext cx="4803480" cy="841320"/>
          </a:xfrm>
          <a:prstGeom prst="rect">
            <a:avLst/>
          </a:prstGeom>
          <a:ln w="0">
            <a:noFill/>
          </a:ln>
        </p:spPr>
      </p:pic>
      <p:sp>
        <p:nvSpPr>
          <p:cNvPr id="322" name="TextBox 3"/>
          <p:cNvSpPr/>
          <p:nvPr/>
        </p:nvSpPr>
        <p:spPr>
          <a:xfrm>
            <a:off x="1258920" y="1557360"/>
            <a:ext cx="734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нықтама. </a:t>
            </a:r>
            <a:r>
              <a:rPr b="0" lang="kk-K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ялары </a:t>
            </a:r>
            <a:r>
              <a:rPr b="1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өлшемді біртекті функция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п аталады, егер барлық  үші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1"/>
              <p:cNvSpPr txBox="1"/>
              <p:nvPr/>
            </p:nvSpPr>
            <p:spPr>
              <a:xfrm>
                <a:off x="2771640" y="1484280"/>
                <a:ext cx="223200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3"/>
              <p:cNvSpPr txBox="1"/>
              <p:nvPr/>
            </p:nvSpPr>
            <p:spPr>
              <a:xfrm>
                <a:off x="2987640" y="2421000"/>
                <a:ext cx="30402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x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ty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7" name="TextBox 8"/>
          <p:cNvSpPr/>
          <p:nvPr/>
        </p:nvSpPr>
        <p:spPr>
          <a:xfrm>
            <a:off x="1476360" y="321300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ru-MD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ұнда                         деп алсақ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5"/>
              <p:cNvSpPr txBox="1"/>
              <p:nvPr/>
            </p:nvSpPr>
            <p:spPr>
              <a:xfrm>
                <a:off x="2571840" y="3316320"/>
                <a:ext cx="11635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7"/>
              <p:cNvSpPr txBox="1"/>
              <p:nvPr/>
            </p:nvSpPr>
            <p:spPr>
              <a:xfrm>
                <a:off x="3419640" y="3933720"/>
                <a:ext cx="25207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den>
                    </m:f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Rectangle 9"/>
          <p:cNvSpPr/>
          <p:nvPr/>
        </p:nvSpPr>
        <p:spPr>
          <a:xfrm>
            <a:off x="1547640" y="458208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ес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10"/>
              <p:cNvSpPr txBox="1"/>
              <p:nvPr/>
            </p:nvSpPr>
            <p:spPr>
              <a:xfrm>
                <a:off x="3564000" y="5229360"/>
                <a:ext cx="2700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Прямоугольник 16"/>
          <p:cNvSpPr/>
          <p:nvPr/>
        </p:nvSpPr>
        <p:spPr>
          <a:xfrm>
            <a:off x="8245440" y="587700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Box 1"/>
          <p:cNvSpPr/>
          <p:nvPr/>
        </p:nvSpPr>
        <p:spPr>
          <a:xfrm>
            <a:off x="1258920" y="765000"/>
            <a:ext cx="7489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нықтама.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ер </a:t>
            </a:r>
            <a:r>
              <a:rPr b="0" lang="ru-MD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ңдеуде           функциялары бірдей            өлшемдес болса, онда ол теңдеу </a:t>
            </a:r>
            <a:r>
              <a:rPr b="1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іртекті дифференциалдық теңдеу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п аталады.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ңдеуге (6) қолдансақ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1"/>
              <p:cNvSpPr txBox="1"/>
              <p:nvPr/>
            </p:nvSpPr>
            <p:spPr>
              <a:xfrm>
                <a:off x="3419640" y="765000"/>
                <a:ext cx="252072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3"/>
              <p:cNvSpPr txBox="1"/>
              <p:nvPr/>
            </p:nvSpPr>
            <p:spPr>
              <a:xfrm>
                <a:off x="7062840" y="765000"/>
                <a:ext cx="18302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5"/>
              <p:cNvSpPr txBox="1"/>
              <p:nvPr/>
            </p:nvSpPr>
            <p:spPr>
              <a:xfrm>
                <a:off x="3732120" y="1125360"/>
                <a:ext cx="47952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7"/>
              <p:cNvSpPr txBox="1"/>
              <p:nvPr/>
            </p:nvSpPr>
            <p:spPr>
              <a:xfrm>
                <a:off x="1332000" y="1773360"/>
                <a:ext cx="2922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9"/>
              <p:cNvSpPr txBox="1"/>
              <p:nvPr/>
            </p:nvSpPr>
            <p:spPr>
              <a:xfrm>
                <a:off x="2700360" y="2205000"/>
                <a:ext cx="381636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f>
                              <m:num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f>
                              <m:num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11"/>
              <p:cNvSpPr txBox="1"/>
              <p:nvPr/>
            </p:nvSpPr>
            <p:spPr>
              <a:xfrm>
                <a:off x="4427640" y="3573360"/>
                <a:ext cx="1584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9" name="Прямоугольник 14"/>
          <p:cNvSpPr/>
          <p:nvPr/>
        </p:nvSpPr>
        <p:spPr>
          <a:xfrm>
            <a:off x="8029440" y="378936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5"/>
          <p:cNvSpPr/>
          <p:nvPr/>
        </p:nvSpPr>
        <p:spPr>
          <a:xfrm>
            <a:off x="1692360" y="4437000"/>
            <a:ext cx="70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ер                                                    теңдеу (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MD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түріне келтірілсе, онда ол </a:t>
            </a:r>
            <a:r>
              <a:rPr b="0" i="1" lang="ru-MD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іртекті теңдеу</a:t>
            </a:r>
            <a:r>
              <a:rPr b="0" lang="ru-MD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Біртекті теңдеуді интегралдау үші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13"/>
              <p:cNvSpPr txBox="1"/>
              <p:nvPr/>
            </p:nvSpPr>
            <p:spPr>
              <a:xfrm>
                <a:off x="2411280" y="4437000"/>
                <a:ext cx="2924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3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15"/>
              <p:cNvSpPr txBox="1"/>
              <p:nvPr/>
            </p:nvSpPr>
            <p:spPr>
              <a:xfrm>
                <a:off x="4716360" y="5157720"/>
                <a:ext cx="1079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5" name="Rectangle 18"/>
          <p:cNvSpPr/>
          <p:nvPr/>
        </p:nvSpPr>
        <p:spPr>
          <a:xfrm>
            <a:off x="8028000" y="5158080"/>
            <a:ext cx="6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ctr" pos="1981080"/>
                <a:tab algn="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22"/>
          <p:cNvSpPr/>
          <p:nvPr/>
        </p:nvSpPr>
        <p:spPr>
          <a:xfrm>
            <a:off x="1835280" y="5805360"/>
            <a:ext cx="68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ыстыруын қолданайық, мұнда </a:t>
            </a:r>
            <a:r>
              <a:rPr b="0" lang="ru-MD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ің белгісіз жаңа функциясы, бұд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Object 19"/>
              <p:cNvSpPr txBox="1"/>
              <p:nvPr/>
            </p:nvSpPr>
            <p:spPr>
              <a:xfrm>
                <a:off x="5651640" y="5877000"/>
                <a:ext cx="28872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9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21"/>
              <p:cNvSpPr txBox="1"/>
              <p:nvPr/>
            </p:nvSpPr>
            <p:spPr>
              <a:xfrm>
                <a:off x="6012000" y="5877000"/>
                <a:ext cx="5475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1"/>
              <p:cNvSpPr txBox="1"/>
              <p:nvPr/>
            </p:nvSpPr>
            <p:spPr>
              <a:xfrm>
                <a:off x="2987640" y="333360"/>
                <a:ext cx="22320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d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xd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3" name="Rectangle 3"/>
          <p:cNvSpPr/>
          <p:nvPr/>
        </p:nvSpPr>
        <p:spPr>
          <a:xfrm>
            <a:off x="7885080" y="333720"/>
            <a:ext cx="6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ctr" pos="1981080"/>
                <a:tab algn="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4"/>
          <p:cNvSpPr/>
          <p:nvPr/>
        </p:nvSpPr>
        <p:spPr>
          <a:xfrm>
            <a:off x="1190520" y="83664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, (9)-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4"/>
              <p:cNvSpPr txBox="1"/>
              <p:nvPr/>
            </p:nvSpPr>
            <p:spPr>
              <a:xfrm>
                <a:off x="2556000" y="907920"/>
                <a:ext cx="252072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Прямоугольник 7"/>
          <p:cNvSpPr/>
          <p:nvPr/>
        </p:nvSpPr>
        <p:spPr>
          <a:xfrm>
            <a:off x="5155560" y="83664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ге қойсақ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6"/>
              <p:cNvSpPr txBox="1"/>
              <p:nvPr/>
            </p:nvSpPr>
            <p:spPr>
              <a:xfrm>
                <a:off x="2843280" y="1341360"/>
                <a:ext cx="49687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u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ux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ud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xd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0" name="Прямоугольник 10"/>
          <p:cNvSpPr/>
          <p:nvPr/>
        </p:nvSpPr>
        <p:spPr>
          <a:xfrm>
            <a:off x="1269360" y="1773360"/>
            <a:ext cx="205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 – ға сүйенсе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8"/>
              <p:cNvSpPr txBox="1"/>
              <p:nvPr/>
            </p:nvSpPr>
            <p:spPr>
              <a:xfrm>
                <a:off x="3419640" y="1844640"/>
                <a:ext cx="338436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ud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xd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10"/>
              <p:cNvSpPr txBox="1"/>
              <p:nvPr/>
            </p:nvSpPr>
            <p:spPr>
              <a:xfrm>
                <a:off x="2268360" y="2276640"/>
                <a:ext cx="51501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xN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5" name="Rectangle 12"/>
          <p:cNvSpPr/>
          <p:nvPr/>
        </p:nvSpPr>
        <p:spPr>
          <a:xfrm>
            <a:off x="8101080" y="2205360"/>
            <a:ext cx="6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ctr" pos="1981080"/>
                <a:tab algn="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3"/>
          <p:cNvSpPr/>
          <p:nvPr/>
        </p:nvSpPr>
        <p:spPr>
          <a:xfrm>
            <a:off x="1258920" y="2853360"/>
            <a:ext cx="42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нымалылары бөлектенетін теңде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Object 14"/>
              <p:cNvSpPr txBox="1"/>
              <p:nvPr/>
            </p:nvSpPr>
            <p:spPr>
              <a:xfrm>
                <a:off x="1835280" y="3357720"/>
                <a:ext cx="28810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9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16"/>
              <p:cNvSpPr txBox="1"/>
              <p:nvPr/>
            </p:nvSpPr>
            <p:spPr>
              <a:xfrm>
                <a:off x="5796000" y="3284640"/>
                <a:ext cx="18604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e>
                      <m:sup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uN</m:t>
                                </m:r>
                              </m:den>
                            </m:f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" name="Прямоугольник 21"/>
          <p:cNvSpPr/>
          <p:nvPr/>
        </p:nvSpPr>
        <p:spPr>
          <a:xfrm>
            <a:off x="2486880" y="4437000"/>
            <a:ext cx="68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18"/>
              <p:cNvSpPr txBox="1"/>
              <p:nvPr/>
            </p:nvSpPr>
            <p:spPr>
              <a:xfrm>
                <a:off x="3276720" y="4365720"/>
                <a:ext cx="19317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Rectangle 20"/>
          <p:cNvSpPr/>
          <p:nvPr/>
        </p:nvSpPr>
        <p:spPr>
          <a:xfrm>
            <a:off x="5447880" y="43660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 алсақ, он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Object 21"/>
              <p:cNvSpPr txBox="1"/>
              <p:nvPr/>
            </p:nvSpPr>
            <p:spPr>
              <a:xfrm>
                <a:off x="2556000" y="5516640"/>
                <a:ext cx="1395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e>
                      <m:sup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7" name="Прямоугольник 27"/>
          <p:cNvSpPr/>
          <p:nvPr/>
        </p:nvSpPr>
        <p:spPr>
          <a:xfrm>
            <a:off x="4077360" y="5589720"/>
            <a:ext cx="9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е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23"/>
              <p:cNvSpPr txBox="1"/>
              <p:nvPr/>
            </p:nvSpPr>
            <p:spPr>
              <a:xfrm>
                <a:off x="5148360" y="5300640"/>
                <a:ext cx="12952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e>
                      <m:sup>
                        <m:r>
                          <m:t xml:space="preserve">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90" name="Прямоугольник 30"/>
          <p:cNvSpPr/>
          <p:nvPr/>
        </p:nvSpPr>
        <p:spPr>
          <a:xfrm>
            <a:off x="8169840" y="56610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1</a:t>
            </a:r>
            <a:r>
              <a:rPr b="0" lang="kk-KZ" sz="18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Box 1"/>
          <p:cNvSpPr/>
          <p:nvPr/>
        </p:nvSpPr>
        <p:spPr>
          <a:xfrm>
            <a:off x="1835280" y="1052640"/>
            <a:ext cx="6337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керту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іртекті теңдеу интегралдық қисықтарының өзіне тән бір қасиеттері бар. Мұны көрсету үшін (7) теңдеуді алайық. Бұл теңдеудің оң жағы бас нүктеден шығатын               (           </a:t>
            </a:r>
            <a:r>
              <a:rPr b="0" lang="ru-MD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жартылай түзулердің барлық нүктелерінде тұрақты мәндер қабылдайды. Сондықтан олар (7) теңдеудің изоклинасы болады. Жартылай түзулерден басқа бас нүктеден шығатын интегралдық қисықты алып, оның барлық нүктелердегі радиус-векторларын бірнеше есе көбейтсек немесе азайтсақ, жанамаларының бағыты алынған қисықпен бірдей болар еді. Демек осылайша алынған қисық (7) теңдеудің интегралдық қисығ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Object 1"/>
              <p:cNvSpPr txBox="1"/>
              <p:nvPr/>
            </p:nvSpPr>
            <p:spPr>
              <a:xfrm>
                <a:off x="2987640" y="2060640"/>
                <a:ext cx="792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3"/>
              <p:cNvSpPr txBox="1"/>
              <p:nvPr/>
            </p:nvSpPr>
            <p:spPr>
              <a:xfrm>
                <a:off x="3995640" y="2060640"/>
                <a:ext cx="64764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Прямоугольник 1" descr=""/>
          <p:cNvPicPr/>
          <p:nvPr/>
        </p:nvPicPr>
        <p:blipFill>
          <a:blip r:embed="rId1"/>
          <a:stretch/>
        </p:blipFill>
        <p:spPr>
          <a:xfrm>
            <a:off x="1432080" y="133200"/>
            <a:ext cx="7387920" cy="6652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1"/>
              <p:cNvSpPr txBox="1"/>
              <p:nvPr/>
            </p:nvSpPr>
            <p:spPr>
              <a:xfrm>
                <a:off x="3635280" y="765000"/>
                <a:ext cx="295272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y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9" name="Rectangle 3"/>
          <p:cNvSpPr/>
          <p:nvPr/>
        </p:nvSpPr>
        <p:spPr>
          <a:xfrm>
            <a:off x="7885080" y="112608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ctr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12"/>
          <p:cNvSpPr/>
          <p:nvPr/>
        </p:nvSpPr>
        <p:spPr>
          <a:xfrm>
            <a:off x="1170720" y="1773360"/>
            <a:ext cx="264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ңдеуі берілсін. Ег</a:t>
            </a:r>
            <a:r>
              <a:rPr b="0" lang="kk-KZ" sz="1800" spc="-1" strike="noStrike">
                <a:solidFill>
                  <a:srgbClr val="000000"/>
                </a:solidFill>
                <a:latin typeface="Corbel"/>
              </a:rPr>
              <a:t>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11"/>
              <p:cNvSpPr txBox="1"/>
              <p:nvPr/>
            </p:nvSpPr>
            <p:spPr>
              <a:xfrm>
                <a:off x="3780000" y="1844640"/>
                <a:ext cx="10936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3" name="Прямоугольник 15"/>
          <p:cNvSpPr/>
          <p:nvPr/>
        </p:nvSpPr>
        <p:spPr>
          <a:xfrm>
            <a:off x="4924440" y="1844640"/>
            <a:ext cx="37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са, онда (12) біртекті теңде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16"/>
          <p:cNvSpPr/>
          <p:nvPr/>
        </p:nvSpPr>
        <p:spPr>
          <a:xfrm>
            <a:off x="1197360" y="213372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дық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Object 13"/>
              <p:cNvSpPr txBox="1"/>
              <p:nvPr/>
            </p:nvSpPr>
            <p:spPr>
              <a:xfrm>
                <a:off x="2556000" y="2276640"/>
                <a:ext cx="2872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Прямоугольник 19"/>
          <p:cNvSpPr/>
          <p:nvPr/>
        </p:nvSpPr>
        <p:spPr>
          <a:xfrm>
            <a:off x="2777400" y="213372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ә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15"/>
              <p:cNvSpPr txBox="1"/>
              <p:nvPr/>
            </p:nvSpPr>
            <p:spPr>
              <a:xfrm>
                <a:off x="3492360" y="2205000"/>
                <a:ext cx="358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0" name="TextBox 22"/>
          <p:cNvSpPr/>
          <p:nvPr/>
        </p:nvSpPr>
        <p:spPr>
          <a:xfrm>
            <a:off x="3924360" y="220500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льге тең емес деп алынады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23"/>
          <p:cNvSpPr/>
          <p:nvPr/>
        </p:nvSpPr>
        <p:spPr>
          <a:xfrm>
            <a:off x="1258920" y="2565360"/>
            <a:ext cx="63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на төмендегі екі жағдайды қарастырайы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17"/>
              <p:cNvSpPr txBox="1"/>
              <p:nvPr/>
            </p:nvSpPr>
            <p:spPr>
              <a:xfrm>
                <a:off x="1692360" y="2997360"/>
                <a:ext cx="17272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4" name="TextBox 26"/>
          <p:cNvSpPr/>
          <p:nvPr/>
        </p:nvSpPr>
        <p:spPr>
          <a:xfrm>
            <a:off x="1187280" y="314172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27"/>
          <p:cNvSpPr/>
          <p:nvPr/>
        </p:nvSpPr>
        <p:spPr>
          <a:xfrm>
            <a:off x="3587400" y="2997360"/>
            <a:ext cx="492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ғни коэффициенттері пропорционал еме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28"/>
          <p:cNvSpPr/>
          <p:nvPr/>
        </p:nvSpPr>
        <p:spPr>
          <a:xfrm>
            <a:off x="1266120" y="3716280"/>
            <a:ext cx="15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зықтық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19"/>
              <p:cNvSpPr txBox="1"/>
              <p:nvPr/>
            </p:nvSpPr>
            <p:spPr>
              <a:xfrm>
                <a:off x="2987640" y="3716280"/>
                <a:ext cx="20890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9" name="Прямоугольник 31"/>
          <p:cNvSpPr/>
          <p:nvPr/>
        </p:nvSpPr>
        <p:spPr>
          <a:xfrm>
            <a:off x="5153760" y="371628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үзулерін қарастырайық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32"/>
          <p:cNvSpPr/>
          <p:nvPr/>
        </p:nvSpPr>
        <p:spPr>
          <a:xfrm>
            <a:off x="1332000" y="4653000"/>
            <a:ext cx="59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ер түзудің қиылысу нүктесі                   болса, он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21"/>
              <p:cNvSpPr txBox="1"/>
              <p:nvPr/>
            </p:nvSpPr>
            <p:spPr>
              <a:xfrm>
                <a:off x="4788000" y="4653000"/>
                <a:ext cx="93636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3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23"/>
              <p:cNvSpPr txBox="1"/>
              <p:nvPr/>
            </p:nvSpPr>
            <p:spPr>
              <a:xfrm>
                <a:off x="3851280" y="5084640"/>
                <a:ext cx="22366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5" name="Rectangle 25"/>
          <p:cNvSpPr/>
          <p:nvPr/>
        </p:nvSpPr>
        <p:spPr>
          <a:xfrm>
            <a:off x="6518520" y="5158080"/>
            <a:ext cx="6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ctr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41"/>
          <p:cNvSpPr/>
          <p:nvPr/>
        </p:nvSpPr>
        <p:spPr>
          <a:xfrm>
            <a:off x="1403280" y="580536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3)-ті            бойынша дифференциалдасақ, яғ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29"/>
              <p:cNvSpPr txBox="1"/>
              <p:nvPr/>
            </p:nvSpPr>
            <p:spPr>
              <a:xfrm>
                <a:off x="2340000" y="5877000"/>
                <a:ext cx="43164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1"/>
              <p:cNvSpPr txBox="1"/>
              <p:nvPr/>
            </p:nvSpPr>
            <p:spPr>
              <a:xfrm>
                <a:off x="4211640" y="260280"/>
                <a:ext cx="158436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1" name="Прямоугольник 3"/>
          <p:cNvSpPr/>
          <p:nvPr/>
        </p:nvSpPr>
        <p:spPr>
          <a:xfrm>
            <a:off x="7886160" y="404640"/>
            <a:ext cx="6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4"/>
          <p:cNvSpPr/>
          <p:nvPr/>
        </p:nvSpPr>
        <p:spPr>
          <a:xfrm>
            <a:off x="1403280" y="105264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3) және (14)-ті (12)-ге қойса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Object 3"/>
              <p:cNvSpPr txBox="1"/>
              <p:nvPr/>
            </p:nvSpPr>
            <p:spPr>
              <a:xfrm>
                <a:off x="5003640" y="1197000"/>
                <a:ext cx="21607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u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v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35" name="TextBox 7"/>
          <p:cNvSpPr/>
          <p:nvPr/>
        </p:nvSpPr>
        <p:spPr>
          <a:xfrm>
            <a:off x="1332000" y="198900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іртекті теңдеу шығады</a:t>
            </a:r>
            <a:r>
              <a:rPr b="0" lang="kk-KZ" sz="1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Object 5"/>
              <p:cNvSpPr txBox="1"/>
              <p:nvPr/>
            </p:nvSpPr>
            <p:spPr>
              <a:xfrm>
                <a:off x="1908000" y="2349360"/>
                <a:ext cx="215928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8" name="TextBox 10"/>
          <p:cNvSpPr/>
          <p:nvPr/>
        </p:nvSpPr>
        <p:spPr>
          <a:xfrm>
            <a:off x="1403280" y="2492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11"/>
          <p:cNvSpPr/>
          <p:nvPr/>
        </p:nvSpPr>
        <p:spPr>
          <a:xfrm>
            <a:off x="4067280" y="256536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ғни коэффициенттері пропорционал</a:t>
            </a:r>
            <a:r>
              <a:rPr b="0" lang="kk-KZ" sz="1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7"/>
              <p:cNvSpPr txBox="1"/>
              <p:nvPr/>
            </p:nvSpPr>
            <p:spPr>
              <a:xfrm>
                <a:off x="4427640" y="3068640"/>
                <a:ext cx="17287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TextBox 14"/>
          <p:cNvSpPr/>
          <p:nvPr/>
        </p:nvSpPr>
        <p:spPr>
          <a:xfrm>
            <a:off x="900000" y="3789360"/>
            <a:ext cx="59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ек, жазықтықтағы түзулер өзара параллель, cондық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Object 9"/>
              <p:cNvSpPr txBox="1"/>
              <p:nvPr/>
            </p:nvSpPr>
            <p:spPr>
              <a:xfrm>
                <a:off x="7020000" y="3789360"/>
                <a:ext cx="18255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y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5" name="TextBox 17"/>
          <p:cNvSpPr/>
          <p:nvPr/>
        </p:nvSpPr>
        <p:spPr>
          <a:xfrm>
            <a:off x="971640" y="407664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еше (12) теңде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Object 11"/>
              <p:cNvSpPr txBox="1"/>
              <p:nvPr/>
            </p:nvSpPr>
            <p:spPr>
              <a:xfrm>
                <a:off x="3708360" y="4365720"/>
                <a:ext cx="273528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8" name="TextBox 20"/>
          <p:cNvSpPr/>
          <p:nvPr/>
        </p:nvSpPr>
        <p:spPr>
          <a:xfrm>
            <a:off x="1187280" y="537372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үріне келтіріледі де,                             (15) сызықтық ауыстыруы арқылы одан айнымалылары бөлектенетін теңдеу аламы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Object 13"/>
              <p:cNvSpPr txBox="1"/>
              <p:nvPr/>
            </p:nvSpPr>
            <p:spPr>
              <a:xfrm>
                <a:off x="3708360" y="5373720"/>
                <a:ext cx="15112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Box 1"/>
          <p:cNvSpPr/>
          <p:nvPr/>
        </p:nvSpPr>
        <p:spPr>
          <a:xfrm>
            <a:off x="1547640" y="1413000"/>
            <a:ext cx="66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керту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7) теңдеу үшін                                                      кез келген тұрақты, түрлендіру тобы қолданылады, өйткен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1"/>
              <p:cNvSpPr txBox="1"/>
              <p:nvPr/>
            </p:nvSpPr>
            <p:spPr>
              <a:xfrm>
                <a:off x="4859280" y="1413000"/>
                <a:ext cx="295272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x;    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y ,  c 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Object 3"/>
              <p:cNvSpPr txBox="1"/>
              <p:nvPr/>
            </p:nvSpPr>
            <p:spPr>
              <a:xfrm>
                <a:off x="3635280" y="2205000"/>
                <a:ext cx="25084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,      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6" name="TextBox 6"/>
          <p:cNvSpPr/>
          <p:nvPr/>
        </p:nvSpPr>
        <p:spPr>
          <a:xfrm>
            <a:off x="1619280" y="3573360"/>
            <a:ext cx="655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ұл ұқсастық центрі координаттар жүйесінің бас нүктесінде болатын ұқсастық түрлендіру. Демек, бас нүкте арқылы өтетін әр түзулерінде жанама мен өріс бағыттары бірдей, сондықтан бұл түзулер изоклина болады</a:t>
            </a:r>
            <a:r>
              <a:rPr b="0" lang="kk-KZ" sz="18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30T05:35:17Z</dcterms:created>
  <dc:creator>Altynay</dc:creator>
  <dc:description/>
  <dc:language>en-US</dc:language>
  <cp:lastModifiedBy>Admin</cp:lastModifiedBy>
  <dcterms:modified xsi:type="dcterms:W3CDTF">2021-05-24T18:08:34Z</dcterms:modified>
  <cp:revision>61</cp:revision>
  <dc:subject/>
  <dc:title>Қазақстан Республикасы Білім және ғылым министрлігі Қарағанды мемлекеттік Е.А.Бөкетов атындағы университеті      ЖАЙ ДИФФЕРЕНЦИАЛДЫҚ ТЕҢДЕУЛЕР Мамандық: 5В060100-Математика        Қарағанды 2015</dc:title>
</cp:coreProperties>
</file>