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271-DFEB-4913-BEE4-5A06FBE9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C28-B337-4981-9148-7F89F263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C49-5E1D-4128-8DAB-E5A907E9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C84-C68C-4095-99AF-6742BB04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0176-7D1D-46B8-B87B-C19B4098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2631-6622-4E5A-B96A-3D74BFB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862D-89F3-435B-AC51-D9C7D001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A0A2-AAD3-4E73-9194-54E18842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AACC-89F4-4518-83FC-FE5D0289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509C-1924-4D1E-B941-5205C852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2624-DF28-4E01-B4A5-D21F2360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DBB-A809-4872-9533-1F0F0849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5633-A094-479E-913C-D15308C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95CF-0392-406D-BE09-704E193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54A-1CAF-4B50-BF75-2152CAAC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73C-C383-4DF6-97E6-F48E582B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F1CE-755B-430C-B71B-5D17FCA6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095F-3DE0-4137-977E-D951956B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4D06-2755-40B8-81F8-B417BF99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3764-4CD9-4A6B-B478-6D0EBC23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3558-4029-4D97-B5F5-6E2C814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6BD2-1A68-452B-BF06-3757D1A7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545-AAD7-41E8-BB69-1661C7F7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B41C-571B-4A21-8686-506249F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13F03-7334-49AE-A0AC-328893D0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AD0B-4602-4477-9E00-28DB6E59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FDE11-CF47-4FC6-9F4C-BAA6482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CFF6-8524-42A1-86D8-69AB3B65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330B-339D-4323-A275-F3FD2D2C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3F24-8A1A-4107-B786-C7CB7697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E2A-906C-473F-8137-F4A6ECF6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31D-A287-4BF4-A7C2-7A1687DB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430-F0CB-40EB-9F34-38962C4D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225-9A7A-4FA9-B828-17197121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6D7-7C8F-4BA5-9B4D-2192315B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2E8-13B5-4C0E-9DF9-4011085F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A9F6-16C2-40A5-B2D4-5AF5EE41FE7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0BED-40A3-4F35-9000-455BED14D46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4EEE-E0A8-4260-87C8-0B2EC34626D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95280" y="836640"/>
            <a:ext cx="813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Қазақстан Республикасы Білім және ғылым министрліг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.А.Бөкетов атындағы Қарағанды университеті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ЛЫҚ ТАЛДА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мандық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В01504 – Физика-Инфор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ры: Искакова Г.Ш., ф.-м.ғ.к., математикалық анализ және дифференциалдық теңдеулер кафедрасының доцент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бақ түрі: дәріс                                 Қарағанды 20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Times New Roman"/>
              </a:rPr>
              <a:t>Сандық тізбектің шегі. Сандық тізбектің шегінің  жалғыздығы</a:t>
            </a:r>
            <a:r>
              <a:rPr b="0" lang="kk-KZ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745200" y="20725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мысал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2195640" y="1989000"/>
                <a:ext cx="1008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Rectangle 5"/>
          <p:cNvSpPr/>
          <p:nvPr/>
        </p:nvSpPr>
        <p:spPr>
          <a:xfrm>
            <a:off x="3412440" y="2059560"/>
            <a:ext cx="49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 тізбегінің шегі 1-ге тең болатыны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29800" y="2637000"/>
            <a:ext cx="76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Times New Roman"/>
              </a:rPr>
              <a:t>сандық тізбегінің шегінің анықтамасын пайдаланып дәлелдеу кер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3203640" y="3141720"/>
                <a:ext cx="6476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8"/>
              <p:cNvSpPr txBox="1"/>
              <p:nvPr/>
            </p:nvSpPr>
            <p:spPr>
              <a:xfrm>
                <a:off x="6227640" y="3213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3059280" y="3716280"/>
                <a:ext cx="6490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Rectangle 10"/>
          <p:cNvSpPr/>
          <p:nvPr/>
        </p:nvSpPr>
        <p:spPr>
          <a:xfrm>
            <a:off x="756000" y="314064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уі. Кез келге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140360" y="31518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ына сәйк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189800" y="3643920"/>
            <a:ext cx="18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ы табылып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4070160" y="3643920"/>
            <a:ext cx="36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сіздігін қанағаттандыраты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6805080" y="3141720"/>
            <a:ext cx="103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натур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960120" y="411840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лық номерлер үші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6"/>
              <p:cNvSpPr txBox="1"/>
              <p:nvPr/>
            </p:nvSpPr>
            <p:spPr>
              <a:xfrm>
                <a:off x="3924360" y="4149720"/>
                <a:ext cx="1008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17"/>
          <p:cNvSpPr/>
          <p:nvPr/>
        </p:nvSpPr>
        <p:spPr>
          <a:xfrm>
            <a:off x="962640" y="458064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ындалатынын дәлелдеу кер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5294880" y="414972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теңсіздігіні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45560" y="148356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мысал.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2195640" y="1413000"/>
                <a:ext cx="1079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Rectangle 4"/>
          <p:cNvSpPr/>
          <p:nvPr/>
        </p:nvSpPr>
        <p:spPr>
          <a:xfrm>
            <a:off x="3492360" y="155628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тізбегі өспелі болатыны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478520" y="90792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f6fc6"/>
                </a:solidFill>
                <a:latin typeface="Times New Roman"/>
              </a:rPr>
              <a:t>Бірсарынды тізбе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819000" y="2109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дәлелдеу кере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2195640" y="2492280"/>
                <a:ext cx="1296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8"/>
              <p:cNvSpPr txBox="1"/>
              <p:nvPr/>
            </p:nvSpPr>
            <p:spPr>
              <a:xfrm>
                <a:off x="3708360" y="2565360"/>
                <a:ext cx="1225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Rectangle 9"/>
          <p:cNvSpPr/>
          <p:nvPr/>
        </p:nvSpPr>
        <p:spPr>
          <a:xfrm>
            <a:off x="972000" y="2575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уі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4111560" y="3367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4111560" y="388080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2"/>
              <p:cNvSpPr txBox="1"/>
              <p:nvPr/>
            </p:nvSpPr>
            <p:spPr>
              <a:xfrm>
                <a:off x="2163600" y="2681280"/>
                <a:ext cx="866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3"/>
              <p:cNvSpPr txBox="1"/>
              <p:nvPr/>
            </p:nvSpPr>
            <p:spPr>
              <a:xfrm>
                <a:off x="2843280" y="3102120"/>
                <a:ext cx="28083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9" name="Rectangle 14"/>
          <p:cNvSpPr/>
          <p:nvPr/>
        </p:nvSpPr>
        <p:spPr>
          <a:xfrm>
            <a:off x="5429520" y="250416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ындалатындықта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613520" y="3140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6626160" y="41774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1764000" y="371556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еш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8"/>
              <p:cNvSpPr txBox="1"/>
              <p:nvPr/>
            </p:nvSpPr>
            <p:spPr>
              <a:xfrm>
                <a:off x="2916360" y="3789360"/>
                <a:ext cx="9414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Rectangle 19"/>
          <p:cNvSpPr/>
          <p:nvPr/>
        </p:nvSpPr>
        <p:spPr>
          <a:xfrm>
            <a:off x="4141080" y="3788280"/>
            <a:ext cx="23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ғни тізбек өспелі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Times New Roman"/>
              </a:rPr>
              <a:t>Шенеулі тізбектер</a:t>
            </a:r>
            <a:r>
              <a:rPr b="0" lang="kk-KZ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033920" y="14230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ыс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2484360" y="1341360"/>
                <a:ext cx="1008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Rectangle 5"/>
          <p:cNvSpPr/>
          <p:nvPr/>
        </p:nvSpPr>
        <p:spPr>
          <a:xfrm>
            <a:off x="3844080" y="148356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тізбегі шенеулі болатыны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1258920" y="203832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дәлелдеу кер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2411280" y="2492280"/>
                <a:ext cx="1584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8"/>
              <p:cNvSpPr txBox="1"/>
              <p:nvPr/>
            </p:nvSpPr>
            <p:spPr>
              <a:xfrm>
                <a:off x="1403280" y="3068640"/>
                <a:ext cx="1224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9"/>
          <p:cNvSpPr/>
          <p:nvPr/>
        </p:nvSpPr>
        <p:spPr>
          <a:xfrm>
            <a:off x="1035720" y="24915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уі.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4211640" y="263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ындалады,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дықт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2624400" y="3140640"/>
            <a:ext cx="52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л бұл тізбектің </a:t>
            </a:r>
            <a:r>
              <a:rPr b="0" lang="kk-KZ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шенеулі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ендігін көрсетед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f6fc6"/>
                </a:solidFill>
                <a:latin typeface="Times New Roman"/>
              </a:rPr>
              <a:t>Бірсарынды және шенеулі тізбектердің жинақтылығы</a:t>
            </a:r>
            <a:r>
              <a:rPr b="0" lang="kk-KZ" sz="24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2050920" y="1484280"/>
                <a:ext cx="1224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3708360" y="1484280"/>
                <a:ext cx="792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411280" y="2076480"/>
                <a:ext cx="5050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4932360" y="2073240"/>
                <a:ext cx="1008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angle 7"/>
          <p:cNvSpPr/>
          <p:nvPr/>
        </p:nvSpPr>
        <p:spPr>
          <a:xfrm>
            <a:off x="601920" y="142308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ысал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4716360" y="1483560"/>
            <a:ext cx="45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уррентті  қатынасым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2988720" y="205956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збегінің шег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827280" y="2491560"/>
            <a:ext cx="32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атынын дәлелдеу кере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759240" y="203832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нықталаты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3"/>
              <p:cNvSpPr txBox="1"/>
              <p:nvPr/>
            </p:nvSpPr>
            <p:spPr>
              <a:xfrm>
                <a:off x="2700360" y="299736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14"/>
              <p:cNvSpPr txBox="1"/>
              <p:nvPr/>
            </p:nvSpPr>
            <p:spPr>
              <a:xfrm>
                <a:off x="4067280" y="2924280"/>
                <a:ext cx="647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5"/>
              <p:cNvSpPr txBox="1"/>
              <p:nvPr/>
            </p:nvSpPr>
            <p:spPr>
              <a:xfrm>
                <a:off x="3419640" y="3284640"/>
                <a:ext cx="576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6"/>
              <p:cNvSpPr txBox="1"/>
              <p:nvPr/>
            </p:nvSpPr>
            <p:spPr>
              <a:xfrm>
                <a:off x="4284720" y="3284640"/>
                <a:ext cx="6490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7"/>
              <p:cNvSpPr txBox="1"/>
              <p:nvPr/>
            </p:nvSpPr>
            <p:spPr>
              <a:xfrm>
                <a:off x="4500720" y="3645000"/>
                <a:ext cx="2374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ra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Rectangle 18"/>
          <p:cNvSpPr/>
          <p:nvPr/>
        </p:nvSpPr>
        <p:spPr>
          <a:xfrm>
            <a:off x="745920" y="29235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уі.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лық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9"/>
          <p:cNvSpPr/>
          <p:nvPr/>
        </p:nvSpPr>
        <p:spPr>
          <a:xfrm>
            <a:off x="3059280" y="29235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ші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0"/>
          <p:cNvSpPr/>
          <p:nvPr/>
        </p:nvSpPr>
        <p:spPr>
          <a:xfrm>
            <a:off x="960120" y="328392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енін дәлелдеу кере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1"/>
          <p:cNvSpPr/>
          <p:nvPr/>
        </p:nvSpPr>
        <p:spPr>
          <a:xfrm>
            <a:off x="3771000" y="3283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2"/>
          <p:cNvSpPr/>
          <p:nvPr/>
        </p:nvSpPr>
        <p:spPr>
          <a:xfrm>
            <a:off x="959760" y="364428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лелденді деп есептейік. Он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1043640" y="40046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ындала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4"/>
              <p:cNvSpPr txBox="1"/>
              <p:nvPr/>
            </p:nvSpPr>
            <p:spPr>
              <a:xfrm>
                <a:off x="2556000" y="4076640"/>
                <a:ext cx="5760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5"/>
              <p:cNvSpPr txBox="1"/>
              <p:nvPr/>
            </p:nvSpPr>
            <p:spPr>
              <a:xfrm>
                <a:off x="3203640" y="4437000"/>
                <a:ext cx="647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6"/>
              <p:cNvSpPr txBox="1"/>
              <p:nvPr/>
            </p:nvSpPr>
            <p:spPr>
              <a:xfrm>
                <a:off x="6012000" y="450864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Rectangle 27"/>
          <p:cNvSpPr/>
          <p:nvPr/>
        </p:nvSpPr>
        <p:spPr>
          <a:xfrm>
            <a:off x="0" y="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3346200" y="4075920"/>
            <a:ext cx="41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ғандықтан математикалық инду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3923280" y="443628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сіздігі барлық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0"/>
          <p:cNvSpPr/>
          <p:nvPr/>
        </p:nvSpPr>
        <p:spPr>
          <a:xfrm>
            <a:off x="6371640" y="44362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шін дәлелденді.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5148000" y="29257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ңсіздігі дұры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2"/>
          <p:cNvSpPr/>
          <p:nvPr/>
        </p:nvSpPr>
        <p:spPr>
          <a:xfrm>
            <a:off x="5148000" y="328464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үшін бұл теңсізді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3"/>
          <p:cNvSpPr/>
          <p:nvPr/>
        </p:nvSpPr>
        <p:spPr>
          <a:xfrm>
            <a:off x="1044720" y="436572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принципі бойын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34"/>
              <p:cNvSpPr txBox="1"/>
              <p:nvPr/>
            </p:nvSpPr>
            <p:spPr>
              <a:xfrm>
                <a:off x="2556000" y="4797360"/>
                <a:ext cx="5760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5"/>
              <p:cNvSpPr txBox="1"/>
              <p:nvPr/>
            </p:nvSpPr>
            <p:spPr>
              <a:xfrm>
                <a:off x="5580000" y="4797360"/>
                <a:ext cx="4334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Rectangle 36"/>
          <p:cNvSpPr/>
          <p:nvPr/>
        </p:nvSpPr>
        <p:spPr>
          <a:xfrm>
            <a:off x="971640" y="47235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ыдан жә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7"/>
          <p:cNvSpPr/>
          <p:nvPr/>
        </p:nvSpPr>
        <p:spPr>
          <a:xfrm>
            <a:off x="3276720" y="479664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ындалатындықта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8"/>
          <p:cNvSpPr/>
          <p:nvPr/>
        </p:nvSpPr>
        <p:spPr>
          <a:xfrm>
            <a:off x="6156360" y="479664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шенеулі.</a:t>
            </a:r>
            <a:r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0"/>
              <p:cNvSpPr txBox="1"/>
              <p:nvPr/>
            </p:nvSpPr>
            <p:spPr>
              <a:xfrm>
                <a:off x="1116000" y="5157720"/>
                <a:ext cx="3240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&g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&gt;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Rectangle 41"/>
          <p:cNvSpPr/>
          <p:nvPr/>
        </p:nvSpPr>
        <p:spPr>
          <a:xfrm>
            <a:off x="4643280" y="52286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сіздігін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2"/>
              <p:cNvSpPr txBox="1"/>
              <p:nvPr/>
            </p:nvSpPr>
            <p:spPr>
              <a:xfrm>
                <a:off x="6156360" y="5229360"/>
                <a:ext cx="5047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Rectangle 43"/>
          <p:cNvSpPr/>
          <p:nvPr/>
        </p:nvSpPr>
        <p:spPr>
          <a:xfrm>
            <a:off x="897120" y="579672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збегі </a:t>
            </a:r>
            <a:r>
              <a:rPr b="0" lang="kk-KZ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өспелі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атыны шыға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4"/>
          <p:cNvSpPr/>
          <p:nvPr/>
        </p:nvSpPr>
        <p:spPr>
          <a:xfrm>
            <a:off x="4357080" y="57776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сыда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46"/>
              <p:cNvSpPr txBox="1"/>
              <p:nvPr/>
            </p:nvSpPr>
            <p:spPr>
              <a:xfrm>
                <a:off x="5508720" y="5805360"/>
                <a:ext cx="20876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985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Adventure"/>
              </a:rPr>
              <a:t>           </a:t>
            </a:r>
            <a:r>
              <a:rPr b="1" lang="kk-KZ" sz="2400" spc="-1" strike="noStrike">
                <a:solidFill>
                  <a:srgbClr val="0f6fc6"/>
                </a:solidFill>
                <a:latin typeface="Times New Roman"/>
              </a:rPr>
              <a:t>Тізбектерге арифметикалық амалдар қолдануға қатысты шектердің қасиеттері</a:t>
            </a:r>
            <a:r>
              <a:rPr b="0" lang="kk-KZ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"/>
              <p:cNvSpPr txBox="1"/>
              <p:nvPr/>
            </p:nvSpPr>
            <p:spPr>
              <a:xfrm>
                <a:off x="539640" y="1197000"/>
                <a:ext cx="79930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539640" y="1844640"/>
                <a:ext cx="7309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468360" y="2708280"/>
                <a:ext cx="8029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539640" y="3357720"/>
                <a:ext cx="7318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9"/>
              <p:cNvSpPr txBox="1"/>
              <p:nvPr/>
            </p:nvSpPr>
            <p:spPr>
              <a:xfrm>
                <a:off x="1116000" y="4941720"/>
                <a:ext cx="5440320" cy="12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2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1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Times New Roman"/>
              </a:rPr>
              <a:t>Ақырсыз аз тізбектер</a:t>
            </a:r>
            <a:r>
              <a:rPr b="0" lang="kk-KZ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1107360" y="14835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ыса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2411280" y="1413000"/>
                <a:ext cx="252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!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Rectangle 5"/>
          <p:cNvSpPr/>
          <p:nvPr/>
        </p:nvSpPr>
        <p:spPr>
          <a:xfrm>
            <a:off x="5217480" y="155664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кті есептеу керек.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967680" y="2204280"/>
            <a:ext cx="43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уі.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өлшектің алымын және бөлімі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5364000" y="1989000"/>
                <a:ext cx="3668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5" name="Rectangle 8"/>
          <p:cNvSpPr/>
          <p:nvPr/>
        </p:nvSpPr>
        <p:spPr>
          <a:xfrm>
            <a:off x="5941080" y="22042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өлеміз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10"/>
              <p:cNvSpPr txBox="1"/>
              <p:nvPr/>
            </p:nvSpPr>
            <p:spPr>
              <a:xfrm>
                <a:off x="2411280" y="2781360"/>
                <a:ext cx="316872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g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⋅</m:t>
                        </m:r>
                        <m:rad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t xml:space="preserve">4</m:t>
                                </m:r>
                              </m:deg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t xml:space="preserve">4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!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11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2"/>
              <p:cNvSpPr txBox="1"/>
              <p:nvPr/>
            </p:nvSpPr>
            <p:spPr>
              <a:xfrm>
                <a:off x="971640" y="3959280"/>
                <a:ext cx="1439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!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13"/>
          <p:cNvSpPr/>
          <p:nvPr/>
        </p:nvSpPr>
        <p:spPr>
          <a:xfrm>
            <a:off x="2625120" y="3933000"/>
            <a:ext cx="28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енулі шама.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ндықт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5"/>
              <p:cNvSpPr txBox="1"/>
              <p:nvPr/>
            </p:nvSpPr>
            <p:spPr>
              <a:xfrm>
                <a:off x="2484360" y="4581360"/>
                <a:ext cx="3240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!!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f6fc6"/>
                </a:solidFill>
                <a:latin typeface="Times New Roman"/>
              </a:rPr>
              <a:t>Резюм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onstantia"/>
              </a:rPr>
              <a:t>Сандық тізбектер тақырыбында тізбектерге анықтама беріліп, тізбек шегінің анықтамасы, оны табу қарастырылды. Тізбек шегінің қасиеттері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onstantia"/>
              </a:rPr>
              <a:t>келтірілді, тізбек шегін табу қасиеттерін пайдаланып,  мысалдардың шығу жолдары көрсетілге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258920" y="966240"/>
            <a:ext cx="633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000" spc="-1" strike="noStrike">
                <a:solidFill>
                  <a:srgbClr val="0f6fc6"/>
                </a:solidFill>
                <a:latin typeface="Arial"/>
                <a:ea typeface="Arial"/>
              </a:rPr>
              <a:t>2-тақырып. Сандық тізбектер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Arial"/>
                <a:ea typeface="Arial"/>
              </a:rPr>
              <a:t>Жоспар:</a:t>
            </a:r>
            <a:r>
              <a:rPr b="0" lang="ru-RU" sz="18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87280" y="2065680"/>
            <a:ext cx="4969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1. Анықтамал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2. Белгілеул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3. Қасиеттер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4. Мысал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49160" y="4221000"/>
            <a:ext cx="7739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Әдебиеттер тізімі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1. Темірғалиев Н. Математикалық анализ. ­ Алматы, 1987, ­ 1т., 1991, ­ 2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2. Фихтенгольц Г.М. Курс дифференциального и интегрального исчисления. ­ Москва, 1960, т.1, т.2, т.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Айдос Е.Ж. Жоғары математика, Алматы, 2010, 1,2,3 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4. Виноградова И.А., Олехник С.Н., Садовничий В.А. Задачи и упражнения по математическому анализу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Москва, 2005,  Т. 1,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"/>
          <p:cNvSpPr/>
          <p:nvPr/>
        </p:nvSpPr>
        <p:spPr>
          <a:xfrm>
            <a:off x="250920" y="206064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дық кеңістіктің элементтерінің тізбегінің шегі. Сандық кеңістік — бұл ара қашықтығы элементтерінің айырымының модулі арқылы анықталатын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етрикалық кеңісті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324000" y="371628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ізбектің дербес шег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бұл оның ішкі тізбектердің біреуінің шег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ізбектің жоғарғы шегі — бұл оның шектік нүктелерінің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ң үлкені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ізбектің төменгі шегі — бұл оның шектік нүктелерінің ең кішіс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26920" y="126828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f6fc6"/>
                </a:solidFill>
                <a:latin typeface="Arial"/>
                <a:ea typeface="Arial"/>
              </a:rPr>
              <a:t>Сандық тізбектің шег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Times New Roman"/>
              </a:rPr>
              <a:t>Сандық тізбектің шегі</a:t>
            </a:r>
            <a:r>
              <a:rPr b="1" lang="ru-RU" sz="4200" spc="-1" strike="noStrike">
                <a:solidFill>
                  <a:srgbClr val="7030a0"/>
                </a:solidFill>
                <a:latin typeface="Adventure"/>
              </a:rPr>
              <a:t> 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324000" y="1411560"/>
            <a:ext cx="8534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лпы мүшесі реттік нөмірі 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  <a:ea typeface="Arial"/>
              </a:rPr>
              <a:t>n</a:t>
            </a:r>
            <a:r>
              <a:rPr b="0" lang="kk-KZ" sz="2400" spc="-1" strike="noStrike">
                <a:solidFill>
                  <a:srgbClr val="0f6fc6"/>
                </a:solidFill>
                <a:latin typeface="Times New Roman"/>
                <a:ea typeface="Arial"/>
              </a:rPr>
              <a:t>-ді</a:t>
            </a:r>
            <a:r>
              <a:rPr b="0" lang="kk-KZ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үлкейткенн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ейбір 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  <a:ea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ына жақындайтындай сандық тізбекті қарастырайық. Бұл жағдайда сандық тізбектің шегі бар деймі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ұл түсініктің бұдан да қатал анықтамасы ба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395280" y="3213000"/>
            <a:ext cx="8001000" cy="2389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ы 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{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у</a:t>
            </a:r>
            <a:r>
              <a:rPr b="0" lang="en-US" sz="2400" spc="-1" strike="noStrike" baseline="-25000">
                <a:solidFill>
                  <a:srgbClr val="0f6fc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}</a:t>
            </a:r>
            <a:r>
              <a:rPr b="0" lang="kk-KZ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сандық тізбегінің шегі деп атала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ер кез келген </a:t>
            </a:r>
            <a:r>
              <a:rPr b="0" i="1" lang="ru-RU" sz="2400" spc="-1" strike="noStrike">
                <a:solidFill>
                  <a:srgbClr val="0f6fc6"/>
                </a:solidFill>
                <a:latin typeface="Times New Roman"/>
              </a:rPr>
              <a:t>ε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&gt; 0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үші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N = N(</a:t>
            </a:r>
            <a:r>
              <a:rPr b="0" i="1" lang="ru-RU" sz="2400" spc="-1" strike="noStrike">
                <a:solidFill>
                  <a:srgbClr val="0f6fc6"/>
                </a:solidFill>
                <a:latin typeface="Times New Roman"/>
              </a:rPr>
              <a:t>ε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)</a:t>
            </a:r>
            <a:r>
              <a:rPr b="0" lang="kk-KZ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абылы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  <a:ea typeface="Arial"/>
              </a:rPr>
              <a:t>n 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ғанда 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│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f6fc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 – a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│</a:t>
            </a: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&lt; </a:t>
            </a:r>
            <a:r>
              <a:rPr b="0" i="1" lang="ru-RU" sz="2400" spc="-1" strike="noStrike">
                <a:solidFill>
                  <a:srgbClr val="0f6fc6"/>
                </a:solidFill>
                <a:latin typeface="Times New Roman"/>
              </a:rPr>
              <a:t>ε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ындал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2987640" y="3645000"/>
                <a:ext cx="1682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9" descr="~a \in \R"/>
          <p:cNvPicPr/>
          <p:nvPr/>
        </p:nvPicPr>
        <p:blipFill>
          <a:blip r:embed="rId1"/>
          <a:stretch/>
        </p:blipFill>
        <p:spPr>
          <a:xfrm>
            <a:off x="785880" y="285840"/>
            <a:ext cx="466560" cy="214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~\{x_n - a\}"/>
          <p:cNvPicPr/>
          <p:nvPr/>
        </p:nvPicPr>
        <p:blipFill>
          <a:blip r:embed="rId2"/>
          <a:stretch/>
        </p:blipFill>
        <p:spPr>
          <a:xfrm>
            <a:off x="1357200" y="642960"/>
            <a:ext cx="695520" cy="2620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2"/>
          <p:cNvSpPr/>
          <p:nvPr/>
        </p:nvSpPr>
        <p:spPr>
          <a:xfrm flipH="1" flipV="1">
            <a:off x="-320760" y="56916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285920" y="214200"/>
            <a:ext cx="35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ы сандық тізбектің шегі болс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14"/>
          <p:cNvSpPr/>
          <p:nvPr/>
        </p:nvSpPr>
        <p:spPr>
          <a:xfrm>
            <a:off x="5581800" y="260280"/>
            <a:ext cx="6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15"/>
          <p:cNvSpPr/>
          <p:nvPr/>
        </p:nvSpPr>
        <p:spPr>
          <a:xfrm>
            <a:off x="214200" y="57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2050920" y="6206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ізбегі шексіз аз шама болса, онда оның барлық элементтерінің модулі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214200" y="90792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ынған кез келген оң саннан кіші бола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3" descr="\lim_{n \to \infty} x_n = a ~ \Leftrightarrow ~ \forall \varepsilon &gt; 0 ~ \exists N = N(\varepsilon) ~ \forall n \geqslant N \colon |x_n - a| &lt; \varepsilon"/>
          <p:cNvPicPr/>
          <p:nvPr/>
        </p:nvPicPr>
        <p:blipFill>
          <a:blip r:embed="rId3"/>
          <a:stretch/>
        </p:blipFill>
        <p:spPr>
          <a:xfrm>
            <a:off x="571680" y="1285920"/>
            <a:ext cx="6929280" cy="3967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9"/>
          <p:cNvSpPr/>
          <p:nvPr/>
        </p:nvSpPr>
        <p:spPr>
          <a:xfrm>
            <a:off x="0" y="1857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Arial"/>
              </a:rPr>
              <a:t>Егер тізбектің ақырлы шегі бар болса, онда тізбек жинақты тізбек деп атала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24"/>
          <p:cNvSpPr/>
          <p:nvPr/>
        </p:nvSpPr>
        <p:spPr>
          <a:xfrm>
            <a:off x="1214280" y="214308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25"/>
          <p:cNvSpPr/>
          <p:nvPr/>
        </p:nvSpPr>
        <p:spPr>
          <a:xfrm>
            <a:off x="1285920" y="2357280"/>
            <a:ext cx="135720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26"/>
          <p:cNvSpPr/>
          <p:nvPr/>
        </p:nvSpPr>
        <p:spPr>
          <a:xfrm>
            <a:off x="-828720" y="2276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7"/>
          <p:cNvSpPr/>
          <p:nvPr/>
        </p:nvSpPr>
        <p:spPr>
          <a:xfrm>
            <a:off x="142920" y="227664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рі жағдайда тізбек жинақсыз деп аталады. Егер шенелмеген болса, онда тізбектің шегі шексіздікке тең бола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1" descr="\lim_{n \to \infty} x_n = \infty ~ \Leftrightarrow ~ \forall A &gt; 0 ~ \exists N = N(A) ~ \forall n \geqslant N \colon |x_n| &gt; A"/>
          <p:cNvPicPr/>
          <p:nvPr/>
        </p:nvPicPr>
        <p:blipFill>
          <a:blip r:embed="rId4"/>
          <a:stretch/>
        </p:blipFill>
        <p:spPr>
          <a:xfrm>
            <a:off x="611280" y="3068640"/>
            <a:ext cx="7124760" cy="4287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9"/>
          <p:cNvSpPr/>
          <p:nvPr/>
        </p:nvSpPr>
        <p:spPr>
          <a:xfrm>
            <a:off x="0" y="35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ер шенелмеген тізбектің барлық элементтері оң мәндерді ғана қабылдаса, онда мұндай тізбектің шегі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люс шексіздікке тең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3" descr="\lim_{n \to \infty} x_n = +\infty ~ \Leftrightarrow ~ \forall A &gt; 0 ~ \exists N = N(A) ~ \forall n \geqslant N \colon x_n &gt; A"/>
          <p:cNvPicPr/>
          <p:nvPr/>
        </p:nvPicPr>
        <p:blipFill>
          <a:blip r:embed="rId5"/>
          <a:stretch/>
        </p:blipFill>
        <p:spPr>
          <a:xfrm>
            <a:off x="357120" y="4357800"/>
            <a:ext cx="7286760" cy="4190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2"/>
          <p:cNvSpPr/>
          <p:nvPr/>
        </p:nvSpPr>
        <p:spPr>
          <a:xfrm>
            <a:off x="0" y="4857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ер шенелмеген тізбектің шегі, кейбір нөмірден бастап, теріс таңба қабылдаса, онда бұл тізбектің шегі м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нус шексіздікке тең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6" descr="\lim_{n \to \infty} x_n = -\infty ~ \Leftrightarrow ~ \forall A &gt; 0 ~ \exists N = N(A) ~ \forall n \geqslant N \colon x_n &lt; -A"/>
          <p:cNvPicPr/>
          <p:nvPr/>
        </p:nvPicPr>
        <p:blipFill>
          <a:blip r:embed="rId6"/>
          <a:stretch/>
        </p:blipFill>
        <p:spPr>
          <a:xfrm>
            <a:off x="357120" y="5786280"/>
            <a:ext cx="7404120" cy="4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~\{x_n\}"/>
          <p:cNvPicPr/>
          <p:nvPr/>
        </p:nvPicPr>
        <p:blipFill>
          <a:blip r:embed="rId7"/>
          <a:stretch/>
        </p:blipFill>
        <p:spPr>
          <a:xfrm>
            <a:off x="4859280" y="333360"/>
            <a:ext cx="3621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Adventure"/>
              </a:rPr>
              <a:t>Тізбек қарастырайық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79280" y="1413000"/>
                <a:ext cx="50166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348000" y="2565360"/>
                <a:ext cx="172872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Box 8"/>
          <p:cNvSpPr/>
          <p:nvPr/>
        </p:nvSpPr>
        <p:spPr>
          <a:xfrm>
            <a:off x="5219640" y="177336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гармониялық қат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468360" y="4365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dventure"/>
              </a:rPr>
              <a:t>Егер</a:t>
            </a:r>
            <a:r>
              <a:rPr b="1" lang="ru-RU" sz="2800" spc="-1" strike="noStrike">
                <a:solidFill>
                  <a:srgbClr val="0f6fc6"/>
                </a:solidFill>
                <a:latin typeface="Adventure"/>
              </a:rPr>
              <a:t>│</a:t>
            </a:r>
            <a:r>
              <a:rPr b="1" lang="en-US" sz="2800" spc="-1" strike="noStrike">
                <a:solidFill>
                  <a:srgbClr val="0f6fc6"/>
                </a:solidFill>
                <a:latin typeface="Adventure"/>
              </a:rPr>
              <a:t>q</a:t>
            </a:r>
            <a:r>
              <a:rPr b="1" lang="ru-RU" sz="2800" spc="-1" strike="noStrike">
                <a:solidFill>
                  <a:srgbClr val="0f6fc6"/>
                </a:solidFill>
                <a:latin typeface="Adventure"/>
              </a:rPr>
              <a:t>│</a:t>
            </a:r>
            <a:r>
              <a:rPr b="1" lang="en-US" sz="2800" spc="-1" strike="noStrike">
                <a:solidFill>
                  <a:srgbClr val="0f6fc6"/>
                </a:solidFill>
                <a:latin typeface="Adventure"/>
              </a:rPr>
              <a:t>&lt; 1</a:t>
            </a:r>
            <a:r>
              <a:rPr b="1" lang="ru-RU" sz="2800" spc="-1" strike="noStrike">
                <a:solidFill>
                  <a:srgbClr val="000000"/>
                </a:solidFill>
                <a:latin typeface="Adventure"/>
              </a:rPr>
              <a:t>, он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4427640" y="4149720"/>
                <a:ext cx="23619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Box 11"/>
          <p:cNvSpPr/>
          <p:nvPr/>
        </p:nvSpPr>
        <p:spPr>
          <a:xfrm>
            <a:off x="468360" y="522936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dventure"/>
              </a:rPr>
              <a:t>Егер </a:t>
            </a:r>
            <a:r>
              <a:rPr b="1" lang="ru-RU" sz="2800" spc="-1" strike="noStrike">
                <a:solidFill>
                  <a:srgbClr val="0f6fc6"/>
                </a:solidFill>
                <a:latin typeface="Adventure"/>
              </a:rPr>
              <a:t>│</a:t>
            </a:r>
            <a:r>
              <a:rPr b="1" lang="en-US" sz="2800" spc="-1" strike="noStrike">
                <a:solidFill>
                  <a:srgbClr val="0f6fc6"/>
                </a:solidFill>
                <a:latin typeface="Adventure"/>
              </a:rPr>
              <a:t>q</a:t>
            </a:r>
            <a:r>
              <a:rPr b="1" lang="ru-RU" sz="2800" spc="-1" strike="noStrike">
                <a:solidFill>
                  <a:srgbClr val="0f6fc6"/>
                </a:solidFill>
                <a:latin typeface="Adventure"/>
              </a:rPr>
              <a:t>│</a:t>
            </a:r>
            <a:r>
              <a:rPr b="1" lang="en-US" sz="2800" spc="-1" strike="noStrike">
                <a:solidFill>
                  <a:srgbClr val="0f6fc6"/>
                </a:solidFill>
                <a:latin typeface="Adventure"/>
              </a:rPr>
              <a:t>&gt; 1</a:t>
            </a:r>
            <a:r>
              <a:rPr b="1" lang="ru-RU" sz="2800" spc="-1" strike="noStrike">
                <a:solidFill>
                  <a:srgbClr val="000000"/>
                </a:solidFill>
                <a:latin typeface="Adventure"/>
              </a:rPr>
              <a:t>, онда тізбек  </a:t>
            </a:r>
            <a:r>
              <a:rPr b="1" lang="ru-RU" sz="2800" spc="-1" strike="noStrike">
                <a:solidFill>
                  <a:srgbClr val="0f6fc6"/>
                </a:solidFill>
                <a:latin typeface="Adventure"/>
              </a:rPr>
              <a:t>у</a:t>
            </a:r>
            <a:r>
              <a:rPr b="1" lang="en-US" sz="2800" spc="-1" strike="noStrike" baseline="-25000">
                <a:solidFill>
                  <a:srgbClr val="0f6fc6"/>
                </a:solidFill>
                <a:latin typeface="Adventure"/>
              </a:rPr>
              <a:t>n</a:t>
            </a:r>
            <a:r>
              <a:rPr b="1" lang="en-US" sz="2800" spc="-1" strike="noStrike">
                <a:solidFill>
                  <a:srgbClr val="0f6fc6"/>
                </a:solidFill>
                <a:latin typeface="Adventure"/>
              </a:rPr>
              <a:t> = q</a:t>
            </a:r>
            <a:r>
              <a:rPr b="1" lang="ru-RU" sz="800" spc="-1" strike="noStrike">
                <a:solidFill>
                  <a:srgbClr val="0f6fc6"/>
                </a:solidFill>
                <a:latin typeface="Adventure"/>
              </a:rPr>
              <a:t> </a:t>
            </a:r>
            <a:r>
              <a:rPr b="1" lang="en-US" sz="2800" spc="-1" strike="noStrike" baseline="30000">
                <a:solidFill>
                  <a:srgbClr val="0f6fc6"/>
                </a:solidFill>
                <a:latin typeface="Adventure"/>
              </a:rPr>
              <a:t>n</a:t>
            </a:r>
            <a:r>
              <a:rPr b="1" lang="en-US" sz="2800" spc="-1" strike="noStrike">
                <a:solidFill>
                  <a:srgbClr val="7030a0"/>
                </a:solidFill>
                <a:latin typeface="Adventure"/>
              </a:rPr>
              <a:t> </a:t>
            </a:r>
            <a:r>
              <a:rPr b="1" lang="kk-KZ" sz="2800" spc="-1" strike="noStrike">
                <a:solidFill>
                  <a:srgbClr val="7030a0"/>
                </a:solidFill>
                <a:latin typeface="Adventur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dventure"/>
              </a:rPr>
              <a:t>жинақсыз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Управляющая кнопка: назад 10"/>
          <p:cNvGrpSpPr/>
          <p:nvPr/>
        </p:nvGrpSpPr>
        <p:grpSpPr>
          <a:xfrm>
            <a:off x="8272440" y="5986440"/>
            <a:ext cx="871560" cy="871560"/>
            <a:chOff x="8272440" y="5986440"/>
            <a:chExt cx="871560" cy="871560"/>
          </a:xfrm>
        </p:grpSpPr>
        <p:pic>
          <p:nvPicPr>
            <p:cNvPr id="189" name="Управляющая кнопка: назад 10" descr=""/>
            <p:cNvPicPr/>
            <p:nvPr/>
          </p:nvPicPr>
          <p:blipFill>
            <a:blip r:embed="rId1"/>
            <a:stretch/>
          </p:blipFill>
          <p:spPr>
            <a:xfrm>
              <a:off x="8272440" y="5986440"/>
              <a:ext cx="871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518680" y="62326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2"/>
          <p:cNvSpPr/>
          <p:nvPr/>
        </p:nvSpPr>
        <p:spPr>
          <a:xfrm>
            <a:off x="179280" y="162864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Тізб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" descr="~\{x_n\}"/>
          <p:cNvPicPr/>
          <p:nvPr/>
        </p:nvPicPr>
        <p:blipFill>
          <a:blip r:embed="rId1"/>
          <a:stretch/>
        </p:blipFill>
        <p:spPr>
          <a:xfrm>
            <a:off x="1332000" y="1700280"/>
            <a:ext cx="857160" cy="4507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7"/>
          <p:cNvSpPr/>
          <p:nvPr/>
        </p:nvSpPr>
        <p:spPr>
          <a:xfrm>
            <a:off x="3276720" y="164304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ына жинақталады дегенді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~a"/>
          <p:cNvPicPr/>
          <p:nvPr/>
        </p:nvPicPr>
        <p:blipFill>
          <a:blip r:embed="rId2"/>
          <a:stretch/>
        </p:blipFill>
        <p:spPr>
          <a:xfrm>
            <a:off x="2556000" y="1763640"/>
            <a:ext cx="360360" cy="3254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9"/>
          <p:cNvSpPr/>
          <p:nvPr/>
        </p:nvSpPr>
        <p:spPr>
          <a:xfrm>
            <a:off x="214200" y="235728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елесі амалдардың  біреуімен белгілейд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\lim_{n \to \infty} x_n = a"/>
          <p:cNvPicPr/>
          <p:nvPr/>
        </p:nvPicPr>
        <p:blipFill>
          <a:blip r:embed="rId3"/>
          <a:stretch/>
        </p:blipFill>
        <p:spPr>
          <a:xfrm>
            <a:off x="2484360" y="3068640"/>
            <a:ext cx="2598840" cy="64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x_n ~ \xrightarrow[n \to \infty]{} ~ a"/>
          <p:cNvPicPr/>
          <p:nvPr/>
        </p:nvPicPr>
        <p:blipFill>
          <a:blip r:embed="rId4"/>
          <a:stretch/>
        </p:blipFill>
        <p:spPr>
          <a:xfrm>
            <a:off x="2411280" y="4149720"/>
            <a:ext cx="2786040" cy="6429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539640" y="606240"/>
            <a:ext cx="50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Arial"/>
                <a:ea typeface="Arial"/>
              </a:rPr>
              <a:t>Белгілеул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486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Adventure"/>
              </a:rPr>
              <a:t>Шектің қасиеттері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3276720" y="1773360"/>
                <a:ext cx="2803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3492360" y="2852640"/>
                <a:ext cx="2094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3635280" y="4005360"/>
                <a:ext cx="1971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Прямоугольник 12"/>
          <p:cNvSpPr/>
          <p:nvPr/>
        </p:nvSpPr>
        <p:spPr>
          <a:xfrm>
            <a:off x="179280" y="35733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dventur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imes New Roman"/>
              </a:rPr>
              <a:t>Бөлшектің шегі шектердің бөліндісіне тең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13"/>
          <p:cNvSpPr/>
          <p:nvPr/>
        </p:nvSpPr>
        <p:spPr>
          <a:xfrm>
            <a:off x="152280" y="23623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dventur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imes New Roman"/>
              </a:rPr>
              <a:t>Көбейтіндінің шегі шектердің көбейтіндісіне тең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оугольник 14"/>
          <p:cNvSpPr/>
          <p:nvPr/>
        </p:nvSpPr>
        <p:spPr>
          <a:xfrm>
            <a:off x="152280" y="134136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dventur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imes New Roman"/>
              </a:rPr>
              <a:t>Қосындының шегі шектердің қосындысына тең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228600" y="5029200"/>
            <a:ext cx="82296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dventur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Тұрақты көбейткіш шек таңбасының алдына шыға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3564000" y="5661000"/>
                <a:ext cx="1901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х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Box 18"/>
          <p:cNvSpPr/>
          <p:nvPr/>
        </p:nvSpPr>
        <p:spPr>
          <a:xfrm>
            <a:off x="684360" y="90792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г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9"/>
              <p:cNvSpPr txBox="1"/>
              <p:nvPr/>
            </p:nvSpPr>
            <p:spPr>
              <a:xfrm>
                <a:off x="1619280" y="907920"/>
                <a:ext cx="1584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0"/>
              <p:cNvSpPr txBox="1"/>
              <p:nvPr/>
            </p:nvSpPr>
            <p:spPr>
              <a:xfrm>
                <a:off x="4556160" y="836640"/>
                <a:ext cx="161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21"/>
          <p:cNvSpPr/>
          <p:nvPr/>
        </p:nvSpPr>
        <p:spPr>
          <a:xfrm>
            <a:off x="3402000" y="8571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ә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6373080" y="8366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болса, о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818640" y="148356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мысал.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2195640" y="1484280"/>
                <a:ext cx="1439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Rectangle 4"/>
          <p:cNvSpPr/>
          <p:nvPr/>
        </p:nvSpPr>
        <p:spPr>
          <a:xfrm>
            <a:off x="3914640" y="162792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збегінің алғашқы бес мүшесін жазыңыз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629440" y="90792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f6fc6"/>
                </a:solidFill>
                <a:latin typeface="Times New Roman"/>
              </a:rPr>
              <a:t>Тізбек ұғы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042560" y="2215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уі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2195640" y="227664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8"/>
          <p:cNvSpPr/>
          <p:nvPr/>
        </p:nvSpPr>
        <p:spPr>
          <a:xfrm>
            <a:off x="2549520" y="2204280"/>
            <a:ext cx="54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е 1, 2, 3, 4, 5 мәндерін беріп, келесіні аламыз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9"/>
              <p:cNvSpPr txBox="1"/>
              <p:nvPr/>
            </p:nvSpPr>
            <p:spPr>
              <a:xfrm>
                <a:off x="1258920" y="2865600"/>
                <a:ext cx="72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0"/>
              <p:cNvSpPr txBox="1"/>
              <p:nvPr/>
            </p:nvSpPr>
            <p:spPr>
              <a:xfrm>
                <a:off x="2340000" y="2924280"/>
                <a:ext cx="663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3419640" y="2924280"/>
                <a:ext cx="7491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4572000" y="2997360"/>
                <a:ext cx="72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5651640" y="2924280"/>
                <a:ext cx="815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Rectangle 14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443480" y="2156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1763640" y="3159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2908080" y="3141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4132080" y="30679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6508800" y="3212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529272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897120" y="3704040"/>
            <a:ext cx="620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2-мысал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Егер тізбектің алғашқы бес мүшесі белгіл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болса, онда жалпы мүшесінің формуласын жазу керек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2"/>
              <p:cNvSpPr txBox="1"/>
              <p:nvPr/>
            </p:nvSpPr>
            <p:spPr>
              <a:xfrm>
                <a:off x="1332000" y="4581360"/>
                <a:ext cx="5032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3"/>
              <p:cNvSpPr txBox="1"/>
              <p:nvPr/>
            </p:nvSpPr>
            <p:spPr>
              <a:xfrm>
                <a:off x="2124000" y="4508640"/>
                <a:ext cx="647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4"/>
              <p:cNvSpPr txBox="1"/>
              <p:nvPr/>
            </p:nvSpPr>
            <p:spPr>
              <a:xfrm>
                <a:off x="3132000" y="4581360"/>
                <a:ext cx="576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5"/>
              <p:cNvSpPr txBox="1"/>
              <p:nvPr/>
            </p:nvSpPr>
            <p:spPr>
              <a:xfrm>
                <a:off x="4067280" y="4581360"/>
                <a:ext cx="504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6"/>
              <p:cNvSpPr txBox="1"/>
              <p:nvPr/>
            </p:nvSpPr>
            <p:spPr>
              <a:xfrm>
                <a:off x="4859280" y="4581360"/>
                <a:ext cx="5763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1" name="Rectangle 27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8"/>
          <p:cNvSpPr/>
          <p:nvPr/>
        </p:nvSpPr>
        <p:spPr>
          <a:xfrm>
            <a:off x="1836720" y="4652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9"/>
          <p:cNvSpPr/>
          <p:nvPr/>
        </p:nvSpPr>
        <p:spPr>
          <a:xfrm>
            <a:off x="2844720" y="4652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3709800" y="4652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4645080" y="4652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5435640" y="465228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740880" y="49410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уі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делінді формула ретінд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4"/>
              <p:cNvSpPr txBox="1"/>
              <p:nvPr/>
            </p:nvSpPr>
            <p:spPr>
              <a:xfrm>
                <a:off x="4859280" y="4941720"/>
                <a:ext cx="2016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Rectangle 35"/>
          <p:cNvSpPr/>
          <p:nvPr/>
        </p:nvSpPr>
        <p:spPr>
          <a:xfrm>
            <a:off x="1043280" y="545544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ға бола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7:03Z</dcterms:created>
  <dc:creator>user</dc:creator>
  <dc:description/>
  <dc:language>en-US</dc:language>
  <cp:lastModifiedBy>Admin</cp:lastModifiedBy>
  <dcterms:modified xsi:type="dcterms:W3CDTF">2021-05-24T17:47:51Z</dcterms:modified>
  <cp:revision>77</cp:revision>
  <dc:subject/>
  <dc:title>  Понятие функции. </dc:title>
</cp:coreProperties>
</file>