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DD0-30BF-41A6-9A63-C640DBDB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0E6-EE81-4EB4-980A-F6FB0DE5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96A-C44F-4EA7-B839-A53017B9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38F-6BAA-4FB0-A1F6-68FE1C3F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142-D9AB-4FFC-845F-711D907F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957-4EDF-441A-B1B3-B896B68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E9FC-9124-47DE-9DEB-3081845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A85-95A4-4878-B996-E5CBCBD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A0D3-5235-4BD8-8958-9E004EF1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422C-297D-456C-82DC-634B3B1B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D45E-3D38-4C19-ACBB-83E6668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31E-A3DE-4DAD-85A3-22C4B071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037B-5B69-4A3B-B908-A9BBA07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042-DE71-4D94-91D2-4564DE1F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59B4-0C45-43FC-84F1-5E32D87D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3AFF-2F1D-4F93-A15D-2C089AE8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4C8-5A47-44A4-9F9D-41CDE353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3F36-CD5B-437D-9EB5-050BB595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E23B-02E7-4D09-ACFF-C46B86FE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4407-5584-49E3-B34A-30FDA488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C590-65DD-441A-90D2-29F3D23C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CF84-61E0-4A24-97A6-302196BF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F55-CDEA-4F9F-B42D-87F1ABB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FA22-D6F4-40BA-B8B4-33779027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215C-CE29-49B3-9542-97A346F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FB67-572B-4426-96E5-67A41A0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F910-276D-4BD1-A8D9-6C9BE7A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A693-A617-4C56-B4D5-727CBDB5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B5A9-A508-4ACA-952A-D2D6BB4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AE58-76E5-456B-AA66-B4824CCE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E30-BD74-4D20-AC96-A76119AD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189-23F8-403D-80F6-697604A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5F2-6FB1-4DBC-BFDD-9B31131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C15-96DC-4E7E-A25D-D44D23E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221-B4F6-473D-984D-930CDEF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56C-CA42-4C38-A97E-EBF198AC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FAB-553E-4C37-82FE-253965AA5E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1974-7F2B-4FE5-9CBB-76C4DFC8FEE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31B-2952-4163-83DF-3EAEC540FC7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836640"/>
            <a:ext cx="813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Қазақстан Республикасы Білім және ғылым министрліг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.А.Бөкетов атындағы Қарағанды университеті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ЛЫҚ ТАЛДА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мандық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В01504 – Физика-Инфор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бақ түрі: дәріс                                 Қарағанды 20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5-мысал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шуі. Интегралды келесі түрде жазып ал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з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1011240" cy="689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060720" y="906480"/>
            <a:ext cx="30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интегралын есептеңі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251136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539640" y="3066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Дәреже көрсеткіштерінің бөлімінің ең кіші ортақ еселігі 12-ге тең, келесі жаңа айнымалы енгіземіз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3"/>
          <a:stretch/>
        </p:blipFill>
        <p:spPr>
          <a:xfrm>
            <a:off x="2556000" y="4076640"/>
            <a:ext cx="3663720" cy="7984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684360" y="4940280"/>
            <a:ext cx="418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Интеграл келесі түрд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4"/>
          <a:stretch/>
        </p:blipFill>
        <p:spPr>
          <a:xfrm>
            <a:off x="2050920" y="5516640"/>
            <a:ext cx="434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елесі түрлендірулерден кейін соңғы жауапты аламыз: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5883480" cy="2011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77914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Иррационал функцияларды интегралдау әдістерін қарастырдық. Бұл тақырып бойынша 5-мысалдың шешу жолдары ретімен көрсетілді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7268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8-тақырып. Иррационал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функциялар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интегралда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87280" y="1913760"/>
            <a:ext cx="4969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Жоспа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ррационал функцияларды интегралдау әдістер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Мысалд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49160" y="4221000"/>
            <a:ext cx="7739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Әдебиеттер тізімі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1. Темірғалиев Н. Математикалық анализ. ­ Алматы, 1987, ­ 1т., 1991, ­ 2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2. Фихтенгольц Г.М. Курс дифференциального и интегрального исчисления. ­ Москва, 1960, т.1, т.2, т.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Айдос Е.Ж. Жоғары математика, Алматы, 2010, 1,2,3 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4. Виноградова И.А., Олехник С.Н., Садовничий В.А. Задачи и упражнения по математическому анализу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Москва, 2005,  Т. 1,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183528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дегі  иррационал функцияны интегралдау үші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26920" y="98100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Иррационал функциялар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интегралдау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611280" y="2205000"/>
                <a:ext cx="987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3276720" y="2852640"/>
                <a:ext cx="1214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Rectangle 7"/>
          <p:cNvSpPr/>
          <p:nvPr/>
        </p:nvSpPr>
        <p:spPr>
          <a:xfrm>
            <a:off x="755640" y="393264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уыстыруы қолданылады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ұнда n – осы функцияға кіретін барлық бөлшек дәрежелердің ең кіші ортақ еселігі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900000" y="10332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дәрежелі түбір астындағ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 рационал функц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өмендегі түрдег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с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3059280" y="2205000"/>
                <a:ext cx="1369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9" name="Text Box 12"/>
          <p:cNvSpPr/>
          <p:nvPr/>
        </p:nvSpPr>
        <p:spPr>
          <a:xfrm>
            <a:off x="952920" y="359424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Он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016000" cy="1177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4"/>
          <p:cNvSpPr/>
          <p:nvPr/>
        </p:nvSpPr>
        <p:spPr>
          <a:xfrm>
            <a:off x="1045440" y="5011920"/>
            <a:ext cx="49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ауыстыруы арқылы интегралдана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1- мысал</a:t>
            </a:r>
            <a:r>
              <a:rPr b="1" lang="kk-KZ" sz="28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6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1223640" cy="803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2197080" y="1266840"/>
            <a:ext cx="30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интегралын есептеңі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10560" y="198756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Шешу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айнымалы енгіземі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5743800" cy="798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540720" y="3356280"/>
            <a:ext cx="33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Интегралды есептеймі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1692360" y="4005360"/>
            <a:ext cx="54324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2-мысал.</a:t>
            </a:r>
            <a:br>
              <a:rPr sz="46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1378080" cy="896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636720" y="835200"/>
            <a:ext cx="30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интегралын есептеңі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83280" y="16988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Шешуі: Келесі ауыстыруды пайдаланамы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2411280" y="2276640"/>
            <a:ext cx="3426120" cy="4633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468360" y="2523960"/>
            <a:ext cx="79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да интегра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арқылы белгілеймі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келесі түрде бола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4919760" cy="841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"/>
          <p:cNvSpPr/>
          <p:nvPr/>
        </p:nvSpPr>
        <p:spPr>
          <a:xfrm>
            <a:off x="825840" y="4075200"/>
            <a:ext cx="709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Алымын бөліміне бөліп, дұрыс бөлшекке келтіремі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4"/>
          <a:stretch/>
        </p:blipFill>
        <p:spPr>
          <a:xfrm>
            <a:off x="2916360" y="4724280"/>
            <a:ext cx="2431800" cy="725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828000" y="551556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Ізделініп отырған интегралды аламыз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3-мысал.</a:t>
            </a:r>
            <a:r>
              <a:rPr b="1" lang="ru-RU" sz="46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гралын есептеңіз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600" spc="-1" strike="noStrike">
                <a:solidFill>
                  <a:srgbClr val="000000"/>
                </a:solidFill>
                <a:latin typeface="Times New Roman"/>
              </a:rPr>
              <a:t>Шешуі: Интегралды келесі түрде жазамыз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1170000" cy="65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2438280" cy="871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611280" y="321120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Дәреже көрсеткішінің бөлімінің ең кіші ортақ еселігі 3 болғандықтан, ауыстыру жасаймыз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2340000" y="4076640"/>
            <a:ext cx="3798720" cy="658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>
            <a:off x="469080" y="4867560"/>
            <a:ext cx="32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Жаңа интеграл аламы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4"/>
          <a:stretch/>
        </p:blipFill>
        <p:spPr>
          <a:xfrm>
            <a:off x="3780000" y="4797360"/>
            <a:ext cx="43592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ғы бір жаңа айнымалы енгіземіз: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395960" cy="6699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540000" y="2132280"/>
            <a:ext cx="46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Соңғы жауап келесі түрд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6516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4-мысал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1109520" cy="828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278160" y="1051200"/>
            <a:ext cx="30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интегралын есептеңі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41080" y="1843200"/>
            <a:ext cx="66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Шешуі. Интегралды төмендегідей жазып аламы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2843280" y="2492280"/>
            <a:ext cx="2468520" cy="731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611280" y="3140280"/>
            <a:ext cx="57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Жаңа айнымалы енгіземі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2484360" y="3645000"/>
            <a:ext cx="3676680" cy="798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612000" y="436428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Times New Roman"/>
              </a:rPr>
              <a:t>Жаңа айнымалының интегралы келесі түрд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1" descr=""/>
          <p:cNvPicPr/>
          <p:nvPr/>
        </p:nvPicPr>
        <p:blipFill>
          <a:blip r:embed="rId4"/>
          <a:stretch/>
        </p:blipFill>
        <p:spPr>
          <a:xfrm>
            <a:off x="2268360" y="4941720"/>
            <a:ext cx="377352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50:50Z</dcterms:modified>
  <cp:revision>85</cp:revision>
  <dc:subject/>
  <dc:title>  Понятие функции. </dc:title>
</cp:coreProperties>
</file>