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01C-06EE-4F1A-86C1-3627BA16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291-6AAA-4C5C-B68C-C2A36FA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49A-703B-402D-939B-DBF3C5EB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4FB-5745-43E3-BEC8-908310F9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0DD-84B5-40DF-B38A-DCA9E615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C095-99F1-472A-95C8-B64C099B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A66C-1A5D-4DD8-A744-070D8F6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7A48-A076-4328-829C-05FEBF4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4E80-F885-481E-808A-237DD75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BF96-B9AB-4585-9357-B3465C2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058-5B7F-46D9-AE4A-9A83495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F99-35B6-4069-BC24-CD159E2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C1D2-0FBF-438A-B6F5-FF28DC9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D3D-4280-44B3-911F-E540E29C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9767-0EB9-45F8-8E89-E3DADD6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83E-8D8A-4573-93C7-610A7CEC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C906-0F46-4AF7-966C-7F3B710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5B17-0507-4038-BEB5-0E174347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BB84-0E36-427E-A353-3461948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B040-D005-47B1-89C6-CCA6B7B3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CD8F-D6B1-4C89-BB82-51256D8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FEC2-7B13-43EF-8AA7-9A1B988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F50-7578-43C0-B045-5BCFAAE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62BA-2383-4AE0-B4B3-DE01D813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FC52-9EA7-4F66-837D-8346176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97DE-B215-4CF5-B6FA-F01E0CAC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2B65-F51D-4D4D-944A-1ACE3C0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399C-83BE-4059-BD73-DED39B2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1A32-7A6B-4C98-A036-FECF0495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D404-BDC9-46AF-A58C-A36F4F3F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69D-F73C-4E1B-8E33-BF2F5A19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DB6-C5B4-4968-B534-33268A25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65D-5296-4A2A-BB88-DB65304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EFF-441A-465D-A102-8F51FE9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579-616C-4BC7-8A8B-0499CDD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8C6-F6B6-449B-95CD-A1D963C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720-20CE-4FB5-B142-F592911442F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8B92-6AA3-497F-9789-E57FC34E98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C84-2EAC-4BDA-8503-9CABFC093F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15360" y="-11894040"/>
            <a:ext cx="109440" cy="1266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57168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11200" y="693720"/>
            <a:ext cx="8086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МАТИКАЛЫҚ ТАЛДА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мандық: 6В01504 – Физика-Информати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бақ түрі: дәріс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63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2)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  <a:ea typeface="Times New Roman"/>
              </a:rPr>
              <a:t>Туындының г</a:t>
            </a:r>
            <a:r>
              <a:rPr b="1" lang="ru-RU" sz="2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еометри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  <a:ea typeface="Times New Roman"/>
              </a:rPr>
              <a:t>ялық мағына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ℓ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ез келген қисық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қисығындағы нүкт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ℓ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ді кем дегенде екі нүктеде қиятын кез келген түз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юшы (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сық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ℓ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үзуіне жүргізілген жанама, егер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 қисық бойымен жылжи отырып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ге ұмтылс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сығының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ектік жағдай деп аталады. Егер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жанамасы бар болса, ол жалғыз екені айқ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2484360" y="3789360"/>
          <a:ext cx="361332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789360"/>
                    <a:ext cx="361332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3748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қисығын қарастырайық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көлденең емес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N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анамаға ие бол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20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онымен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ясының графигіне 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нүктесі арқылы жүргізілген жанаманың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бұрыштық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эффициент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ның нүктедегі туындысының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еометр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ялық мағынас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а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жүргізілген жанаманың теңдеуін келесі түрде жазуға болады: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2195640" y="1341360"/>
          <a:ext cx="432108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432108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484360" y="5805360"/>
                <a:ext cx="3635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37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кертулер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 арқылы өтетін жанамаға перпендикуляр түзу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гі қисықтың нормалі деп атала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пендикуляр түзулердің бұрыштық коэффициенті үшін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k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k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ңдігіне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ың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гі нормаль теңдеуі мына түрде бола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 д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 = 0,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сығына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жүргізілген жанама теңдеу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Rockwel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412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норма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теңдеуі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а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76360" y="3141720"/>
                <a:ext cx="38908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9280" y="488880"/>
            <a:ext cx="863784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)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сығы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ертикаль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анамаға ие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 угол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қиюшысының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Ox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kk-KZ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е көлбеу бұрышы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19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ныме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қисығының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ертика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анамасы бол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да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ың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туындысы болмай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үктесінде жанамасы болса және жанама мен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O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асындағы бұрыш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ұмтылған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қа ұмтыл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 үшін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II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кті үзіліс нүктесі деп атала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ән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700360" y="1341360"/>
          <a:ext cx="293544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341360"/>
                    <a:ext cx="29354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3203640" y="5445000"/>
                <a:ext cx="1847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6374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алдау ережелер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ұрақты санның туындысы нөлге тең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ғ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,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ұн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ұрақ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ялардың қосындысының (айырмасының) туындыс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ындыларының қосындысы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йырмасы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ң, яғн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өбейтіндінің туындысы келесі ереже бойынша табыла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2843280" y="2997360"/>
                <a:ext cx="2181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±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2484360" y="4653000"/>
                <a:ext cx="2795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Rectangle 10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637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ұн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ұрақты са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йтылу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ұрақты туындының алдына шыға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»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өлшектің туындысы келесі ереже бойынша табыла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)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ың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үктесінде туындысы бар болса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ың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үктесінде туындысы бар болса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)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үрделі функциясының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үктесінде туындысы бар болады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ән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lnSpc>
                <a:spcPct val="8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үрделі функцияны дифференциалдау ережес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)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ТЕОРЕМ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ері функцияның туындыс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ның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туындысы болсын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әне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0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 кері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бар болса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оның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 туындысы бар болады жән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395280" y="549360"/>
                <a:ext cx="1687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2195640" y="1557360"/>
                <a:ext cx="352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203640" y="3284640"/>
                <a:ext cx="1584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3419640" y="5516640"/>
                <a:ext cx="1788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37480" cy="63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ынды кестес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cos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cos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кенін біліп келесі формулаларды алуға болады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 algn="just">
              <a:lnSpc>
                <a:spcPct val="90000"/>
              </a:lnSpc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ері функцияның туындысын табу теоремасын пайдаланып келесі формулаларды алу,а болад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6"/>
              <p:cNvSpPr txBox="1"/>
              <p:nvPr/>
            </p:nvSpPr>
            <p:spPr>
              <a:xfrm>
                <a:off x="1925640" y="1177920"/>
                <a:ext cx="5197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669960" y="2292480"/>
                <a:ext cx="3584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900000" y="2708280"/>
                <a:ext cx="43801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h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371120" y="541440"/>
            <a:ext cx="4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371120" y="137376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1332000" y="4365720"/>
                <a:ext cx="681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1332000" y="5373720"/>
                <a:ext cx="6121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tg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4368960" y="2058840"/>
            <a:ext cx="1761840" cy="781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2"/>
          <a:stretch/>
        </p:blipFill>
        <p:spPr>
          <a:xfrm>
            <a:off x="6512040" y="2058840"/>
            <a:ext cx="17715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"/>
          <p:cNvPicPr/>
          <p:nvPr/>
        </p:nvPicPr>
        <p:blipFill>
          <a:blip r:embed="rId3"/>
          <a:stretch/>
        </p:blipFill>
        <p:spPr>
          <a:xfrm>
            <a:off x="7380360" y="2852640"/>
            <a:ext cx="1305000" cy="733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11811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 мыса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  <a:ea typeface="HY중고딕"/>
              </a:rPr>
              <a:t>                                         функциясын дифференциалдау керек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Calibri"/>
                <a:ea typeface="HY중고딕"/>
              </a:rPr>
              <a:t>Шешуі.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  <a:ea typeface="HY중고딕"/>
              </a:rPr>
              <a:t> Функцияны дифференциалдау ережесін пайдаланып, формулаларды қолдана отырып,           табамыз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HY중고딕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619280" y="893880"/>
                <a:ext cx="20890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7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4140360" y="1589040"/>
                <a:ext cx="442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403280" y="2133720"/>
                <a:ext cx="55436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1979640" y="2924280"/>
                <a:ext cx="194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12"/>
          <p:cNvSpPr/>
          <p:nvPr/>
        </p:nvSpPr>
        <p:spPr>
          <a:xfrm>
            <a:off x="468360" y="381852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мыса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Дифференциалдау кере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3"/>
              <p:cNvSpPr txBox="1"/>
              <p:nvPr/>
            </p:nvSpPr>
            <p:spPr>
              <a:xfrm>
                <a:off x="4932360" y="3716280"/>
                <a:ext cx="1871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250920" y="42915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Шешуі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6"/>
              <p:cNvSpPr txBox="1"/>
              <p:nvPr/>
            </p:nvSpPr>
            <p:spPr>
              <a:xfrm>
                <a:off x="1692360" y="4724280"/>
                <a:ext cx="44877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763640" y="5661000"/>
                <a:ext cx="2592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116000" y="981000"/>
                <a:ext cx="6696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1042920" y="1844640"/>
                <a:ext cx="67690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1116000" y="2781360"/>
                <a:ext cx="6486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11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1187280" y="3716280"/>
                <a:ext cx="4873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2"/>
              <p:cNvSpPr txBox="1"/>
              <p:nvPr/>
            </p:nvSpPr>
            <p:spPr>
              <a:xfrm>
                <a:off x="1187280" y="4653000"/>
                <a:ext cx="5329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1187280" y="5516640"/>
                <a:ext cx="2737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826200" y="937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мыса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479840" y="34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828360" y="167796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</a:rPr>
              <a:t>Шешу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052720" y="90684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Егер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2"/>
              <p:cNvSpPr txBox="1"/>
              <p:nvPr/>
            </p:nvSpPr>
            <p:spPr>
              <a:xfrm>
                <a:off x="2916360" y="765000"/>
                <a:ext cx="1224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Text Box 14"/>
          <p:cNvSpPr/>
          <p:nvPr/>
        </p:nvSpPr>
        <p:spPr>
          <a:xfrm>
            <a:off x="4551480" y="90648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олса, он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5"/>
              <p:cNvSpPr txBox="1"/>
              <p:nvPr/>
            </p:nvSpPr>
            <p:spPr>
              <a:xfrm>
                <a:off x="6084720" y="907920"/>
                <a:ext cx="393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4" name="Text Box 18"/>
          <p:cNvSpPr/>
          <p:nvPr/>
        </p:nvSpPr>
        <p:spPr>
          <a:xfrm>
            <a:off x="6568200" y="8571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абу кер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985680" y="2276640"/>
                <a:ext cx="390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1"/>
              <p:cNvSpPr txBox="1"/>
              <p:nvPr/>
            </p:nvSpPr>
            <p:spPr>
              <a:xfrm>
                <a:off x="3203640" y="2205000"/>
                <a:ext cx="438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0"/>
              <p:cNvSpPr txBox="1"/>
              <p:nvPr/>
            </p:nvSpPr>
            <p:spPr>
              <a:xfrm>
                <a:off x="4788000" y="220500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9"/>
              <p:cNvSpPr txBox="1"/>
              <p:nvPr/>
            </p:nvSpPr>
            <p:spPr>
              <a:xfrm>
                <a:off x="7380360" y="2133720"/>
                <a:ext cx="9367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23"/>
          <p:cNvSpPr/>
          <p:nvPr/>
        </p:nvSpPr>
        <p:spPr>
          <a:xfrm>
            <a:off x="1979640" y="184392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Параметрден тәуелді функция берілген, сондықтан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599840" y="22748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табу үші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3853800" y="23256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ә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5560560" y="22255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абамыз 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2"/>
          <p:cNvSpPr/>
          <p:nvPr/>
        </p:nvSpPr>
        <p:spPr>
          <a:xfrm>
            <a:off x="808920" y="299412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формуласын пайдаланамы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33"/>
              <p:cNvSpPr txBox="1"/>
              <p:nvPr/>
            </p:nvSpPr>
            <p:spPr>
              <a:xfrm>
                <a:off x="971640" y="3429000"/>
                <a:ext cx="756108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Rectangle 3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5"/>
              <p:cNvSpPr txBox="1"/>
              <p:nvPr/>
            </p:nvSpPr>
            <p:spPr>
              <a:xfrm>
                <a:off x="1979640" y="5013360"/>
                <a:ext cx="43210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476360" y="2565360"/>
            <a:ext cx="35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азмұ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1" action="ppaction://hlinksldjump"/>
              </a:rPr>
              <a:t>Анықтамал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Қасиеттер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3" action="ppaction://hlinksldjump"/>
              </a:rPr>
              <a:t>Теория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Мысалд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4360" y="1052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4-тақырып. Бір айнымалыдан тәуелді функциялардың дифференциалдық есептеулер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87280" y="4508640"/>
            <a:ext cx="71298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Әдебиеттер тізімі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1. Темірғалиев Н. Математикалық анализ. ­ Алматы, 1987, ­ 1т., 1991, ­ 2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Айдос Е.Ж. Жоғары математика, Алматы, 2010, 1,2,3 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Москва, 2005,  Т. 1,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Object 11"/>
              <p:cNvSpPr txBox="1"/>
              <p:nvPr/>
            </p:nvSpPr>
            <p:spPr>
              <a:xfrm>
                <a:off x="3059280" y="1266840"/>
                <a:ext cx="2376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t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0"/>
              <p:cNvSpPr txBox="1"/>
              <p:nvPr/>
            </p:nvSpPr>
            <p:spPr>
              <a:xfrm>
                <a:off x="1547640" y="1700280"/>
                <a:ext cx="7128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1979640" y="2133720"/>
                <a:ext cx="1225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3419640" y="2133720"/>
                <a:ext cx="792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4356000" y="2133720"/>
                <a:ext cx="720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547640" y="4076640"/>
                <a:ext cx="395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2340000" y="4076640"/>
                <a:ext cx="48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1403280" y="4737240"/>
                <a:ext cx="48276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Rectangle 12"/>
          <p:cNvSpPr/>
          <p:nvPr/>
        </p:nvSpPr>
        <p:spPr>
          <a:xfrm>
            <a:off x="971640" y="721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мысал.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дық нүктенің қозғалыс заң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826920" y="2132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484000" y="1627920"/>
            <a:ext cx="56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ақытындағы жылдамдық пен үдеуін табу кер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5078160" y="2204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24000" y="2707200"/>
            <a:ext cx="1332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ындының механикалық мағынасынан бізге жолдың уақы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ынша туындысы қозғалыстың жылдамдығын беретіні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 уақыт бойынша екінші ретті туындысы үдеуді беретіні белгіл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ықтан бізге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1828800" y="4220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3267720" y="4159800"/>
            <a:ext cx="42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у қажет және осы туындылард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474280" y="4736160"/>
            <a:ext cx="42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үктесіндегі мәндерін есептеу кер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619280" y="5373720"/>
                <a:ext cx="1195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3348000" y="5373720"/>
                <a:ext cx="1295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8"/>
              <p:cNvSpPr txBox="1"/>
              <p:nvPr/>
            </p:nvSpPr>
            <p:spPr>
              <a:xfrm>
                <a:off x="755640" y="6093000"/>
                <a:ext cx="358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7"/>
              <p:cNvSpPr txBox="1"/>
              <p:nvPr/>
            </p:nvSpPr>
            <p:spPr>
              <a:xfrm>
                <a:off x="1403280" y="6021360"/>
                <a:ext cx="3175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6"/>
              <p:cNvSpPr txBox="1"/>
              <p:nvPr/>
            </p:nvSpPr>
            <p:spPr>
              <a:xfrm>
                <a:off x="1979640" y="6093000"/>
                <a:ext cx="43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5"/>
              <p:cNvSpPr txBox="1"/>
              <p:nvPr/>
            </p:nvSpPr>
            <p:spPr>
              <a:xfrm>
                <a:off x="2700360" y="6093000"/>
                <a:ext cx="431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9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0"/>
          <p:cNvSpPr/>
          <p:nvPr/>
        </p:nvSpPr>
        <p:spPr>
          <a:xfrm>
            <a:off x="1042920" y="6165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1692360" y="6165000"/>
            <a:ext cx="26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13080" y="6091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3564000" y="5960160"/>
            <a:ext cx="34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әндерін шартқа қоямы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042920" y="836640"/>
                <a:ext cx="2882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6"/>
              <p:cNvSpPr txBox="1"/>
              <p:nvPr/>
            </p:nvSpPr>
            <p:spPr>
              <a:xfrm>
                <a:off x="1042920" y="1413000"/>
                <a:ext cx="3024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4572000" y="1413000"/>
                <a:ext cx="25671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0"/>
              <p:cNvSpPr txBox="1"/>
              <p:nvPr/>
            </p:nvSpPr>
            <p:spPr>
              <a:xfrm>
                <a:off x="971640" y="2060640"/>
                <a:ext cx="3241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5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2"/>
              <p:cNvSpPr txBox="1"/>
              <p:nvPr/>
            </p:nvSpPr>
            <p:spPr>
              <a:xfrm>
                <a:off x="4716360" y="2060640"/>
                <a:ext cx="3097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Rectangle 14"/>
          <p:cNvSpPr/>
          <p:nvPr/>
        </p:nvSpPr>
        <p:spPr>
          <a:xfrm>
            <a:off x="539640" y="2707200"/>
            <a:ext cx="83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000" spc="-1" strike="noStrike">
                <a:solidFill>
                  <a:srgbClr val="0f6fc6"/>
                </a:solidFill>
                <a:latin typeface="Times New Roman"/>
              </a:rPr>
              <a:t>Дифференциалдық есептеулерді қолданатын тапсырмал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52880" y="3211920"/>
            <a:ext cx="8311320" cy="131364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5-мысал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Қабырғасы 3 см тең мыстан жасалған кубиктің жан-жағы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тегістеді. Оның салмағы 0,96 грамға азайғанын байқай отырып жә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мыстың үлесті салмағы 8 деп алып, кубтың өлшемі қаншаға кішірейгені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яғни қабырғасы нешеге қысқарғанын анықтау кер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7"/>
              <p:cNvSpPr txBox="1"/>
              <p:nvPr/>
            </p:nvSpPr>
            <p:spPr>
              <a:xfrm>
                <a:off x="3419640" y="4762440"/>
                <a:ext cx="79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6"/>
              <p:cNvSpPr txBox="1"/>
              <p:nvPr/>
            </p:nvSpPr>
            <p:spPr>
              <a:xfrm>
                <a:off x="5435640" y="47973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18"/>
          <p:cNvSpPr/>
          <p:nvPr/>
        </p:nvSpPr>
        <p:spPr>
          <a:xfrm>
            <a:off x="539640" y="470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Шешуі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Кубтың көлем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4356000" y="4736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, мұнда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5868000" y="472356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- кубтың қабырғасы.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611640" y="5229360"/>
            <a:ext cx="52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Көлем салмақты үлесті салмаққа бөлгенге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4"/>
              <p:cNvSpPr txBox="1"/>
              <p:nvPr/>
            </p:nvSpPr>
            <p:spPr>
              <a:xfrm>
                <a:off x="1258920" y="573408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3"/>
              <p:cNvSpPr txBox="1"/>
              <p:nvPr/>
            </p:nvSpPr>
            <p:spPr>
              <a:xfrm>
                <a:off x="2484360" y="5877000"/>
                <a:ext cx="346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2"/>
              <p:cNvSpPr txBox="1"/>
              <p:nvPr/>
            </p:nvSpPr>
            <p:spPr>
              <a:xfrm>
                <a:off x="4211640" y="5877000"/>
                <a:ext cx="293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25"/>
          <p:cNvSpPr/>
          <p:nvPr/>
        </p:nvSpPr>
        <p:spPr>
          <a:xfrm>
            <a:off x="0" y="26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6"/>
          <p:cNvSpPr/>
          <p:nvPr/>
        </p:nvSpPr>
        <p:spPr>
          <a:xfrm flipV="1" rot="10800000">
            <a:off x="2124000" y="5858280"/>
            <a:ext cx="2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916720" y="581580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- салмақ,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4642920" y="581580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- үлесті салмақ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684720" y="1010160"/>
            <a:ext cx="28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Кубтың өзгерген көлем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3780000" y="977760"/>
                <a:ext cx="165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7"/>
          <p:cNvSpPr/>
          <p:nvPr/>
        </p:nvSpPr>
        <p:spPr>
          <a:xfrm>
            <a:off x="5508000" y="10515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(см3) тең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757440" y="1627560"/>
            <a:ext cx="31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Жуықтап есептей отырып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24360" y="1773360"/>
                <a:ext cx="10810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1"/>
          <p:cNvSpPr/>
          <p:nvPr/>
        </p:nvSpPr>
        <p:spPr>
          <a:xfrm>
            <a:off x="5219640" y="1699200"/>
            <a:ext cx="11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жә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2"/>
              <p:cNvSpPr txBox="1"/>
              <p:nvPr/>
            </p:nvSpPr>
            <p:spPr>
              <a:xfrm>
                <a:off x="6156360" y="1700280"/>
                <a:ext cx="1440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Rectangle 14"/>
          <p:cNvSpPr/>
          <p:nvPr/>
        </p:nvSpPr>
        <p:spPr>
          <a:xfrm>
            <a:off x="756720" y="220392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ескеріп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5"/>
              <p:cNvSpPr txBox="1"/>
              <p:nvPr/>
            </p:nvSpPr>
            <p:spPr>
              <a:xfrm>
                <a:off x="1908000" y="2276640"/>
                <a:ext cx="15130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7"/>
          <p:cNvSpPr/>
          <p:nvPr/>
        </p:nvSpPr>
        <p:spPr>
          <a:xfrm>
            <a:off x="3565080" y="22039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аламыз.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755640" y="2707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Демек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9"/>
              <p:cNvSpPr txBox="1"/>
              <p:nvPr/>
            </p:nvSpPr>
            <p:spPr>
              <a:xfrm>
                <a:off x="2124000" y="2924280"/>
                <a:ext cx="180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1"/>
          <p:cNvSpPr/>
          <p:nvPr/>
        </p:nvSpPr>
        <p:spPr>
          <a:xfrm>
            <a:off x="3851280" y="29530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с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824040" y="3602880"/>
            <a:ext cx="60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Ақырында, кубтың қабырғасы </a:t>
            </a: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HY신명조"/>
              </a:rPr>
              <a:t>0,0044 см-ге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HY신명조"/>
              </a:rPr>
              <a:t> қысқар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Бір айнымалыдан тәуелді функция туындысының анықтамасы, күрделі функция, параметр арқылы берілген функция, айқындалмаған түрде берілген функция туындыларын есептеу ережелері, әртүрлі функцияларды дифференциалдауға және туындыны қолдануға мысалдар келтірілг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15800" y="1145880"/>
            <a:ext cx="84441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ункцияның туындыс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ункцияның туындысының анықтамасы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ындының бар болуының қажетті шар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ункцияс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үктесінде және оның аймағында анықталған болсы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үктесіне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өсімшесін қосайық, жә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жағдайда функция өсімшесі келесі түрде болады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39640" y="692280"/>
            <a:ext cx="84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ункцияның туындыс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− математиканың негізгі түсініктерінің бірі, ал математикалық анализде туынды мен интеграл екеуі негізгі орталығы болып табылады. Туынды табу процесі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фференциалдау де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алады. Кері амал  − туындысы белгілі функцияны табу −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тегралда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п аталады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"/>
          <p:cNvSpPr/>
          <p:nvPr/>
        </p:nvSpPr>
        <p:spPr>
          <a:xfrm flipV="1" rot="10800000">
            <a:off x="610920" y="2900520"/>
            <a:ext cx="811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қталу облысы кейбір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үктесінің маңайындағы интервал болаты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сын қарастырай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д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нүктесінің маңайынд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лданатын функция деп атала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әне оның туындысы келесі формуламен анықталад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http://www.math24.ru/images/1der01.gif"/>
          <p:cNvPicPr/>
          <p:nvPr/>
        </p:nvPicPr>
        <p:blipFill>
          <a:blip r:embed="rId1"/>
          <a:stretch/>
        </p:blipFill>
        <p:spPr>
          <a:xfrm>
            <a:off x="1332000" y="4653000"/>
            <a:ext cx="57722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1193760" y="2117880"/>
            <a:ext cx="65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фференциалдаудың қарапайым ережеле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152360" y="5278320"/>
            <a:ext cx="69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69640" y="333000"/>
            <a:ext cx="8637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нықтама.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нүктесіндегі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функциясының туындысы деп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ргумент өсімшесі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функция өсімшесі мен аргумент өсімшесінің қатынасының шегін айтады (егер бұл шек бар болса және ақырлы болса), яғ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6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Белгілеуі: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нүктесіндегі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функциясының сол жақтағы туындысы деп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гер бұл шек бар болса және ақырлы бол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елгілеуі: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-дің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оң жақтағы туындысы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-дің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сол жақтағы туындысы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835280" y="1557360"/>
                <a:ext cx="539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2195640" y="3213000"/>
                <a:ext cx="18032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4716360" y="3213000"/>
                <a:ext cx="22640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2843280" y="4005360"/>
                <a:ext cx="1903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5003640" y="4005360"/>
                <a:ext cx="2195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800" y="46548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871560" y="5487840"/>
                <a:ext cx="2190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866880" y="6022800"/>
                <a:ext cx="2190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−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63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ОРЕМА (туындының бар болуының қажетті және жеткілікті шарты)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функциясының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нүктесінде туындысы бар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осы нүктеде оң жақты және сол жақты  туындылары бар және олар тең. Және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ОРЕМА (функцияның нүктеде туындысының бар болуының қажетті шарты)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гер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функциясының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нүктесінде туындысы бар болса, онда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функциясы осы нүктеде үзіліссіз бола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керту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үктесінд функцияның үзіліссіздігінен осы нүктеде туындысының бар болуының жеткілікті шарты шықпайды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сал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|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| функциясы барлық аймақта үзіліссіз, бірақ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0 нүктесінде туындысы болмайды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65440" y="2063880"/>
                <a:ext cx="3284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63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әйкесінше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функциясы 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D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жиынында анықталған функция.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ы </a:t>
            </a:r>
            <a:r>
              <a:rPr b="1" i="1" lang="ru-RU" sz="2200" spc="-1" strike="noStrike">
                <a:solidFill>
                  <a:srgbClr val="cc0000"/>
                </a:solidFill>
                <a:latin typeface="Constantia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ункциясының туындысы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п атайды және келесі түрде белгілейді: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188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ясы үшін оның туындысын табу 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ясы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ифференц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лдау деп аталад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ептер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елесі теңдіктерді туындының анықтамасы бойынша дәлелдеңіз: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sin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cos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cos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sin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ℝ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x 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ln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,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2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ℝ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16360" y="2708280"/>
                <a:ext cx="1206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4356000" y="2781360"/>
                <a:ext cx="16318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763640" y="5877000"/>
                <a:ext cx="5297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637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4617b"/>
                </a:solidFill>
                <a:latin typeface="Arial"/>
                <a:ea typeface="Times New Roman"/>
              </a:rPr>
              <a:t>Туындының физикалық және геометриялық мағынала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ындының физикалық мағынасы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сы және оның аргументі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калық шамалар бол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да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f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уындыс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шамасына қатысты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масының өзгеру жылдамдығ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салдар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–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ндағы нүктенің ара қашықтығы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туындысы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S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ндағы жылдамдық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–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ндағы тоқ өткізу серігінің көлденең қимасы арқылы өтетін тоқтың саны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оның туындыс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ндағы тоқтың санының өзгеру жылдамдығ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ғни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ндағы тоқтың күші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– [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есіндісінің массасы болсы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да туындыс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m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 –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гі массаның өзгеру жылдамдығ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ғни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үктесіндегі сызықтық тығыздық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49:52Z</dcterms:modified>
  <cp:revision>87</cp:revision>
  <dc:subject/>
  <dc:title>  Понятие функции. </dc:title>
</cp:coreProperties>
</file>