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8A85-909C-4C39-82A9-701D7C11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B87B-1369-4471-A6E0-D1E15CC5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F20-FA7C-4E5F-A0D7-EED92287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0DD-23C4-4D3C-B81C-57C52530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ABB3-A037-4D3F-AD11-E0EF255C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EA25-2EAD-4BC0-ACBD-48D30FC5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37BF-1DDC-4CAC-B32B-04022E6F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4E58-252F-48B5-A149-9D45F230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2368-9D34-4A21-A756-8A95B260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34FD-71A9-4F8C-8B2C-CE7E05E2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E61C-90A2-4A2F-B2B4-FB7AC4F1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7C71-5BA0-4913-8CA2-C3F6C83E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1689-1C43-40FE-9545-E6CB9403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30CC-B5C6-49AF-9FE1-87223B73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B34E-13E1-46CE-9EEC-F833FF15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25D3-A2FA-41FE-A99F-425DEBA0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413C-D986-48ED-A999-13C49149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7795D-AEBF-4985-909E-72F62B9B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1EFC4-55ED-4553-B7F8-4FB1B65A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AE44B-C390-4A66-97A3-81A03F45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50F5D-8050-4A7E-A514-C3A7582D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273F1-0201-4E2A-B1AF-068CE2F2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A29-300C-42AA-822D-2E1025F2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3B999-E987-45A2-AD8B-F2777187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8E65F-A615-45CA-A124-7FFE0B7A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27AD3-A620-4255-B981-B9DF8524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DB97D-1AF9-4E22-8B18-AF59453C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DBAC9-F4AE-4D0F-9540-58E8588B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6EED7-1102-4371-AD3E-3EB01460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48419-E6BD-4289-A7CB-9738BB05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596F-0B64-4AD9-A8ED-8DEF90F5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C99-845E-42C5-956C-DCDF0BA8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15D-7B95-4212-BC36-A4E1AF6B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84E6-6B47-4183-B2C8-A17F4545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00B-103B-4B21-A5D1-6A7D6A00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05BF-CAE7-48C8-B0EF-59CAF3DB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F071-DE1A-4842-8DFC-63EA990D3CA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A66E-B296-455B-BDB8-A1955F6A37F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4ADE-01A8-4A87-A97C-E15BD16F9DD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395280" y="836640"/>
            <a:ext cx="8137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Қазақстан Республикасы Білім және ғылым министрліг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Е.А.Бөкетов атындағы Қарағанды университеті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КАЛЫҚ ТАЛДА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амандық: 5В011000- Физик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вторы: Искакова Г.Ш., ф.-м.ғ.к., математикалық анализ және дифференциалдық теңдеулер кафедрасының доцент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абақ түрі: дәріс                                 Қарағанды 202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900000" y="834840"/>
            <a:ext cx="698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f6fc6"/>
                </a:solidFill>
                <a:latin typeface="Arial"/>
                <a:ea typeface="Arial"/>
              </a:rPr>
              <a:t>10-тақырып. Меншіксіз интегралдар</a:t>
            </a:r>
            <a:r>
              <a:rPr b="1" lang="kk-K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971640" y="2275560"/>
            <a:ext cx="496872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kk-KZ" sz="2000" spc="-1" strike="noStrike" u="sng">
                <a:solidFill>
                  <a:srgbClr val="e2d700"/>
                </a:solidFill>
                <a:uFillTx/>
                <a:latin typeface="Arial"/>
                <a:ea typeface="Arial"/>
                <a:hlinkClick r:id="rId1" action="ppaction://hlinksldjump"/>
              </a:rPr>
              <a:t>Анықтамала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kk-KZ" sz="2000" spc="-1" strike="noStrike" u="sng">
                <a:solidFill>
                  <a:srgbClr val="e2d700"/>
                </a:solidFill>
                <a:uFillTx/>
                <a:latin typeface="Arial"/>
                <a:ea typeface="Arial"/>
                <a:hlinkClick r:id="rId2" action="ppaction://hlinksldjump"/>
              </a:rPr>
              <a:t>Белгілеул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kk-KZ" sz="2000" spc="-1" strike="noStrike" u="sng">
                <a:solidFill>
                  <a:srgbClr val="e2d700"/>
                </a:solidFill>
                <a:uFillTx/>
                <a:latin typeface="Arial"/>
                <a:ea typeface="Arial"/>
                <a:hlinkClick r:id="rId3" action="ppaction://hlinksldjump"/>
              </a:rPr>
              <a:t>Қасиеттер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kk-KZ" sz="2000" spc="-1" strike="noStrike" u="sng">
                <a:solidFill>
                  <a:srgbClr val="e2d700"/>
                </a:solidFill>
                <a:uFillTx/>
                <a:latin typeface="Arial"/>
                <a:ea typeface="Arial"/>
                <a:hlinkClick r:id="rId4" action="ppaction://hlinksldjump"/>
              </a:rPr>
              <a:t>Мысалда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49160" y="4221000"/>
            <a:ext cx="77396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Arial"/>
              </a:rPr>
              <a:t>Әдебиеттер тізімі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1. Темірғалиев Н. Математикалық анализ. ­ Алматы, 1987, ­ 1т., 1991, ­ 2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2. Фихтенгольц Г.М. Курс дифференциального и интегрального исчисления. ­ Москва, 1960, т.1, т.2, т.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Айдос Е.Ж. Жоғары математика, Алматы, 2010, 1,2,3 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4. Виноградова И.А., Олехник С.Н., Садовничий В.А. Задачи и упражнения по математическому анализу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Москва, 2005,  Т. 1,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332720" y="184464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f6fc6"/>
                </a:solidFill>
                <a:latin typeface="Times New Roman"/>
              </a:rPr>
              <a:t>Жоспар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f6fc6"/>
                </a:solidFill>
                <a:latin typeface="Arial"/>
              </a:rPr>
              <a:t>Меншіксіз интегралдар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468360" y="1557360"/>
            <a:ext cx="79912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ықталған интегралда интегралдау интервалдары шекті деп және интегра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ындағы функция сол аралықта шексіздікке айналмайды деп алдық. Онда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лдарды </a:t>
            </a:r>
            <a:r>
              <a:rPr b="0" i="1" lang="kk-KZ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меншікті интегралдар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п атаймыз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ер ең болмағанда жоғарыдағы екі шарттың біреуі орындалмаса, он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л </a:t>
            </a:r>
            <a:r>
              <a:rPr b="0" i="1" lang="kk-KZ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меншіксіз интеграл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п аталад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ктері шексіздік болып келетін интегралдар. f(x) функциясы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сәулесінде берілсін және кезкелген шекті [a,b] кесіндіде интегралданатын болсы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6948360" y="2997360"/>
                <a:ext cx="57636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Rectangle 8"/>
          <p:cNvSpPr/>
          <p:nvPr/>
        </p:nvSpPr>
        <p:spPr>
          <a:xfrm>
            <a:off x="684360" y="3933000"/>
            <a:ext cx="15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Kz Times New Roman"/>
                <a:ea typeface="Times New Roman"/>
              </a:rPr>
              <a:t>Анықтама.</a:t>
            </a:r>
            <a:r>
              <a:rPr b="0" lang="kk-KZ" sz="1000" spc="-1" strike="noStrike">
                <a:solidFill>
                  <a:srgbClr val="000000"/>
                </a:solidFill>
                <a:latin typeface="Kz 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7"/>
              <p:cNvSpPr txBox="1"/>
              <p:nvPr/>
            </p:nvSpPr>
            <p:spPr>
              <a:xfrm>
                <a:off x="2411280" y="3860640"/>
                <a:ext cx="12240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5" name="Rectangle 9"/>
          <p:cNvSpPr/>
          <p:nvPr/>
        </p:nvSpPr>
        <p:spPr>
          <a:xfrm>
            <a:off x="3749760" y="4004640"/>
            <a:ext cx="53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000" spc="-1" strike="noStrike">
                <a:solidFill>
                  <a:srgbClr val="000000"/>
                </a:solidFill>
                <a:latin typeface="Kz Times New Roman"/>
                <a:ea typeface="Times New Roman"/>
              </a:rPr>
              <a:t>      </a:t>
            </a:r>
            <a:r>
              <a:rPr b="0" lang="kk-KZ" sz="1800" spc="-1" strike="noStrike">
                <a:solidFill>
                  <a:srgbClr val="000000"/>
                </a:solidFill>
                <a:latin typeface="Kz Times New Roman"/>
                <a:ea typeface="Times New Roman"/>
              </a:rPr>
              <a:t>бар болса, онда ол f(x) функциясыны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675000" y="4581360"/>
            <a:ext cx="72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жоғары шегі шексіздік болып келген </a:t>
            </a:r>
            <a:r>
              <a:rPr b="0" lang="kk-KZ" sz="1800" spc="-1" strike="noStrike">
                <a:solidFill>
                  <a:srgbClr val="0f6fc6"/>
                </a:solidFill>
                <a:latin typeface="Times New Roman"/>
              </a:rPr>
              <a:t>меншіксіз интегралы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деп аталад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783360" y="509688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Kz Times New Roman"/>
                <a:ea typeface="Times New Roman"/>
              </a:rPr>
              <a:t>жән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1"/>
              <p:cNvSpPr txBox="1"/>
              <p:nvPr/>
            </p:nvSpPr>
            <p:spPr>
              <a:xfrm>
                <a:off x="1692360" y="4941720"/>
                <a:ext cx="7920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9" name="Rectangle 13"/>
          <p:cNvSpPr/>
          <p:nvPr/>
        </p:nvSpPr>
        <p:spPr>
          <a:xfrm>
            <a:off x="2669400" y="508392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000" spc="-1" strike="noStrike">
                <a:solidFill>
                  <a:srgbClr val="000000"/>
                </a:solidFill>
                <a:latin typeface="Kz 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0000"/>
                </a:solidFill>
                <a:latin typeface="Kz Times New Roman"/>
                <a:ea typeface="Times New Roman"/>
              </a:rPr>
              <a:t>деп белгілейді.</a:t>
            </a:r>
            <a:r>
              <a:rPr b="0" lang="kk-KZ" sz="1000" spc="-1" strike="noStrike">
                <a:solidFill>
                  <a:srgbClr val="000000"/>
                </a:solidFill>
                <a:latin typeface="Kz 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685440" y="565992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Сонымен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5"/>
              <p:cNvSpPr txBox="1"/>
              <p:nvPr/>
            </p:nvSpPr>
            <p:spPr>
              <a:xfrm>
                <a:off x="2843280" y="5589720"/>
                <a:ext cx="24494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453600" y="106452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Kz Times New Roman"/>
                <a:ea typeface="Times New Roman"/>
              </a:rPr>
              <a:t>Егер осы шек бар болс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3276720" y="981000"/>
                <a:ext cx="7189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" name="Rectangle 6"/>
          <p:cNvSpPr/>
          <p:nvPr/>
        </p:nvSpPr>
        <p:spPr>
          <a:xfrm>
            <a:off x="4199400" y="105192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000" spc="-1" strike="noStrike">
                <a:solidFill>
                  <a:srgbClr val="000000"/>
                </a:solidFill>
                <a:latin typeface="Kz 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0000"/>
                </a:solidFill>
                <a:latin typeface="Kz Times New Roman"/>
                <a:ea typeface="Times New Roman"/>
              </a:rPr>
              <a:t>меншіксіз интегралы</a:t>
            </a:r>
            <a:r>
              <a:rPr b="0" lang="kk-KZ" sz="1000" spc="-1" strike="noStrike">
                <a:solidFill>
                  <a:srgbClr val="000000"/>
                </a:solidFill>
                <a:latin typeface="Kz 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03720" y="1627560"/>
            <a:ext cx="69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f6fc6"/>
                </a:solidFill>
                <a:latin typeface="Times New Roman"/>
              </a:rPr>
              <a:t>жинақталады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дейді. Егер бұл шек болмаса онда  </a:t>
            </a:r>
            <a:r>
              <a:rPr b="0" lang="kk-KZ" sz="1800" spc="-1" strike="noStrike">
                <a:solidFill>
                  <a:srgbClr val="0f6fc6"/>
                </a:solidFill>
                <a:latin typeface="Times New Roman"/>
              </a:rPr>
              <a:t>шашырайды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дейді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388080" y="2204280"/>
            <a:ext cx="83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Сонымен қарастырылған интеграл жөнінде мынандай қорытынды жасауға бола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0"/>
              <p:cNvSpPr txBox="1"/>
              <p:nvPr/>
            </p:nvSpPr>
            <p:spPr>
              <a:xfrm>
                <a:off x="1403280" y="2787480"/>
                <a:ext cx="504720" cy="2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9"/>
              <p:cNvSpPr txBox="1"/>
              <p:nvPr/>
            </p:nvSpPr>
            <p:spPr>
              <a:xfrm>
                <a:off x="3564000" y="2637000"/>
                <a:ext cx="10080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α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Rectangle 11"/>
          <p:cNvSpPr/>
          <p:nvPr/>
        </p:nvSpPr>
        <p:spPr>
          <a:xfrm>
            <a:off x="592200" y="270756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Kz Times New Roman"/>
                <a:ea typeface="Times New Roman"/>
              </a:rPr>
              <a:t>Еге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2050920" y="25704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000" spc="-1" strike="noStrike">
                <a:solidFill>
                  <a:srgbClr val="000000"/>
                </a:solidFill>
                <a:latin typeface="Kz 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0000"/>
                </a:solidFill>
                <a:latin typeface="Kz Times New Roman"/>
                <a:ea typeface="Times New Roman"/>
              </a:rPr>
              <a:t>болса, он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4442040" y="278064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000" spc="-1" strike="noStrike">
                <a:solidFill>
                  <a:srgbClr val="000000"/>
                </a:solidFill>
                <a:latin typeface="Kz 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0000"/>
                </a:solidFill>
                <a:latin typeface="Kz Times New Roman"/>
                <a:ea typeface="Times New Roman"/>
              </a:rPr>
              <a:t>болады, яғни интеграл жиақтала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5"/>
              <p:cNvSpPr txBox="1"/>
              <p:nvPr/>
            </p:nvSpPr>
            <p:spPr>
              <a:xfrm>
                <a:off x="1332000" y="3429000"/>
                <a:ext cx="51588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4"/>
              <p:cNvSpPr txBox="1"/>
              <p:nvPr/>
            </p:nvSpPr>
            <p:spPr>
              <a:xfrm>
                <a:off x="3492360" y="3284640"/>
                <a:ext cx="792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α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16"/>
          <p:cNvSpPr/>
          <p:nvPr/>
        </p:nvSpPr>
        <p:spPr>
          <a:xfrm>
            <a:off x="611280" y="332028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Kz Times New Roman"/>
                <a:ea typeface="Times New Roman"/>
              </a:rPr>
              <a:t>Еге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1892520" y="335700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000" spc="-1" strike="noStrike">
                <a:solidFill>
                  <a:srgbClr val="000000"/>
                </a:solidFill>
                <a:latin typeface="Kz 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0000"/>
                </a:solidFill>
                <a:latin typeface="Kz Times New Roman"/>
                <a:ea typeface="Times New Roman"/>
              </a:rPr>
              <a:t>болса, он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4356720" y="3428280"/>
            <a:ext cx="435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000" spc="-1" strike="noStrike">
                <a:solidFill>
                  <a:srgbClr val="000000"/>
                </a:solidFill>
                <a:latin typeface="Kz 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0000"/>
                </a:solidFill>
                <a:latin typeface="Kz Times New Roman"/>
                <a:ea typeface="Times New Roman"/>
              </a:rPr>
              <a:t>болады, яғни интеграл шашырай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664920" y="400464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Kz Times New Roman"/>
                <a:ea typeface="Times New Roman"/>
              </a:rPr>
              <a:t>Еге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9"/>
              <p:cNvSpPr txBox="1"/>
              <p:nvPr/>
            </p:nvSpPr>
            <p:spPr>
              <a:xfrm>
                <a:off x="1403280" y="4005360"/>
                <a:ext cx="5749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Rectangle 22"/>
          <p:cNvSpPr/>
          <p:nvPr/>
        </p:nvSpPr>
        <p:spPr>
          <a:xfrm>
            <a:off x="2196000" y="400536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болса, он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23"/>
              <p:cNvSpPr txBox="1"/>
              <p:nvPr/>
            </p:nvSpPr>
            <p:spPr>
              <a:xfrm>
                <a:off x="3492360" y="3925800"/>
                <a:ext cx="1133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83" name="Rectangle 25"/>
          <p:cNvSpPr/>
          <p:nvPr/>
        </p:nvSpPr>
        <p:spPr>
          <a:xfrm>
            <a:off x="4857480" y="393372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болады, яғни интеграл шашырайды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058160" cy="1581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6985080" cy="113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3"/>
          <a:stretch/>
        </p:blipFill>
        <p:spPr>
          <a:xfrm>
            <a:off x="900000" y="4437000"/>
            <a:ext cx="67248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610920" y="1037160"/>
            <a:ext cx="39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мыса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нақтылығын зертте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4643280" y="981000"/>
                <a:ext cx="11527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9" name="Rectangle 6"/>
          <p:cNvSpPr/>
          <p:nvPr/>
        </p:nvSpPr>
        <p:spPr>
          <a:xfrm>
            <a:off x="2766600" y="366624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663840" y="1770120"/>
            <a:ext cx="21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Шешуі. Есептейі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8"/>
              <p:cNvSpPr txBox="1"/>
              <p:nvPr/>
            </p:nvSpPr>
            <p:spPr>
              <a:xfrm>
                <a:off x="1835280" y="2349360"/>
                <a:ext cx="4752720" cy="6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Rectangle 1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0"/>
              <p:cNvSpPr txBox="1"/>
              <p:nvPr/>
            </p:nvSpPr>
            <p:spPr>
              <a:xfrm>
                <a:off x="1619280" y="3357720"/>
                <a:ext cx="5184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Rectangle 12"/>
          <p:cNvSpPr/>
          <p:nvPr/>
        </p:nvSpPr>
        <p:spPr>
          <a:xfrm>
            <a:off x="902520" y="4394880"/>
            <a:ext cx="37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нда интеграл жинақты бола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665280" y="1001880"/>
            <a:ext cx="51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f6fc6"/>
                </a:solidFill>
                <a:latin typeface="Times New Roman"/>
              </a:rPr>
              <a:t>2-мысал.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Меншіксіз интегралды есептеңіз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5940360" y="981000"/>
            <a:ext cx="1206720" cy="6526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806760" y="1843200"/>
            <a:ext cx="651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Шешуі. Интегралды екі қосылғыш түрінде жазып аламыз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2"/>
          <a:stretch/>
        </p:blipFill>
        <p:spPr>
          <a:xfrm>
            <a:off x="2050920" y="2349360"/>
            <a:ext cx="4054680" cy="658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3"/>
          <a:stretch/>
        </p:blipFill>
        <p:spPr>
          <a:xfrm>
            <a:off x="1116000" y="3084480"/>
            <a:ext cx="648036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6048720" cy="85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f6fc6"/>
                </a:solidFill>
                <a:latin typeface="Times New Roman"/>
              </a:rPr>
              <a:t>Резюм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onstantia"/>
              </a:rPr>
              <a:t>Меншіксіз интегралдар тақырыбы қарастырылды. Бұл тақырыпта меншіксіз интегралға анықтама берілді, меншіксіз интегралдардың жинақтылығы, жинақсыздығы туралы теоремалар келтірілді. Мысалдар қарастырылд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2:47:03Z</dcterms:created>
  <dc:creator>user</dc:creator>
  <dc:description/>
  <dc:language>en-US</dc:language>
  <cp:lastModifiedBy>Admin</cp:lastModifiedBy>
  <dcterms:modified xsi:type="dcterms:W3CDTF">2021-05-24T17:51:15Z</dcterms:modified>
  <cp:revision>120</cp:revision>
  <dc:subject/>
  <dc:title>  Понятие функции. </dc:title>
</cp:coreProperties>
</file>