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9.jpeg" ContentType="image/jpeg"/>
  <Override PartName="/ppt/media/image44.wmf" ContentType="image/x-wmf"/>
  <Override PartName="/ppt/media/image34.png" ContentType="image/png"/>
  <Override PartName="/ppt/media/image45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46.wmf" ContentType="image/x-wmf"/>
  <Override PartName="/ppt/media/image51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8.jpeg" ContentType="image/jpeg"/>
  <Override PartName="/ppt/media/image41.wmf" ContentType="image/x-wmf"/>
  <Override PartName="/ppt/media/image10.wmf" ContentType="image/x-wmf"/>
  <Override PartName="/ppt/media/image47.wmf" ContentType="image/x-wmf"/>
  <Override PartName="/ppt/media/image12.wmf" ContentType="image/x-wmf"/>
  <Override PartName="/ppt/media/image39.wmf" ContentType="image/x-wmf"/>
  <Override PartName="/ppt/media/image9.wmf" ContentType="image/x-wmf"/>
  <Override PartName="/ppt/media/image7.wmf" ContentType="image/x-wmf"/>
  <Override PartName="/ppt/media/image3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FFC-C5ED-4DEC-93CF-00F37605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3D9-7477-42A8-BA15-C9200CCD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570-19F0-499B-9A77-28FB5AA6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EFA-C552-466F-A238-1C2E634E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6FFD-D4E9-4702-AB8A-72C135C6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B58C-E1B1-4D95-9EDD-5DCF9DC2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31C-24C1-43F7-A947-678266B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68E-73AC-40A1-84CF-870C6611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106-ACCA-482C-B29F-48756937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844A-55AF-4CB7-BF0D-B19A647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2A73-55D0-4546-8D31-3AB43CF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D34-295C-4267-A613-298B430E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A6E-5D54-46DB-8DB9-4D7F044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6416-0B1A-4E30-A112-8707E49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1CA2-343E-41B1-8C03-3B836D8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CC2A-0B13-4832-900C-00E0254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E19A-DAB0-4B5B-8608-C918640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E35C-252D-4484-9633-1C2D7F7D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8A35E-9E13-4D49-9657-7618D3A5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4FBB-FE00-4069-B3BE-17C0B309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C1D3-D16F-4B0C-B2CB-B3372A87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D9EB-E871-4609-BBC6-6331BC7D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631-0F97-4403-A92D-D0211FF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A466-440F-4AC9-8274-D3EF187C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77B1-436E-4396-AA55-1BB61A3C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8F05-07AB-4F7A-B879-9365C7A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1F53-B8EA-476E-8460-71ED1E6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EAB8B-8D3B-4CE9-8B5F-3BE2639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49C3-9608-489C-87B5-2D2A5F9A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EB46-25A8-4C5A-802E-72133FF4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4402-0DCB-456D-B3A7-561C9726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5856C-6671-4969-B487-A39C72A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B3FC-D0F0-4E5A-9BE8-DA82C0A2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4AA-4E57-43C2-8CF0-28A80657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9E98-73A5-4F19-9CA4-48E6291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0808-D110-4788-B7E0-193C6293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DABE2-1ABA-4042-82BE-912BC5C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86E6-FA58-424A-95AA-2739E21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38AF-A381-435A-A97C-101921C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C902C-C3DB-4E9B-A877-BD7968A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8A44-3B10-44E1-95D1-65DAE603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A3F0B-6AC2-4FDA-B47B-2953667D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04E1-BBBF-45EB-B215-1C6F64CD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83D-60C9-45F4-AFE9-98E94F2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52F-68A7-48F8-955F-1EBD3C47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FA2-0DAC-45AD-A5AF-0131AA8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655-3DD0-4085-9F9C-62BF89F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EF6-2AFE-45A8-8661-AB00BE6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16E-3D0B-4DAC-B24D-3B04D311332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D34-EB6F-4E79-AC85-F76AADF4FA8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23B-DB95-4E32-9960-A8827D2548C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7F94-9765-4C63-AD6C-788A984CDFF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jpeg"/><Relationship Id="rId3" Type="http://schemas.openxmlformats.org/officeDocument/2006/relationships/image" Target="../media/image48.wmf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71640" y="549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инский университет имени Е.А. Букет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ЕТ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статистические распределен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В04106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Учет и ауд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     Атабаева А.К.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D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а 20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324000" y="47628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дискретных случайных величин вероятность отдельного значения для непрерывной случайной величины равна нул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для непрерывной случайной велич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4503600" cy="621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rcRect l="0" t="0" r="37496" b="0"/>
          <a:stretch/>
        </p:blipFill>
        <p:spPr>
          <a:xfrm>
            <a:off x="324000" y="4149720"/>
            <a:ext cx="8256600" cy="57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rcRect l="59608" t="16667" r="0" b="0"/>
          <a:stretch/>
        </p:blipFill>
        <p:spPr>
          <a:xfrm>
            <a:off x="1042920" y="4941720"/>
            <a:ext cx="5400720" cy="4860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7168320" y="479736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250560" y="333000"/>
            <a:ext cx="84358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кретная случайная величина Х задана законом распределения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функцию распределения и построить её графи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1268280"/>
          <a:ext cx="4103640" cy="863640"/>
        </p:xfrm>
        <a:graphic>
          <a:graphicData uri="http://schemas.openxmlformats.org/drawingml/2006/table">
            <a:tbl>
              <a:tblPr/>
              <a:tblGrid>
                <a:gridCol w="1063800"/>
                <a:gridCol w="1139760"/>
                <a:gridCol w="950760"/>
                <a:gridCol w="949320"/>
              </a:tblGrid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4" name="Picture 23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3830760" cy="504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2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5053320" cy="503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6372360" cy="433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45720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0" descr=""/>
          <p:cNvPicPr/>
          <p:nvPr/>
        </p:nvPicPr>
        <p:blipFill>
          <a:blip r:embed="rId4"/>
          <a:stretch/>
        </p:blipFill>
        <p:spPr>
          <a:xfrm>
            <a:off x="900000" y="5013360"/>
            <a:ext cx="62103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искомая интегральная функция имеет вид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5288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6"/>
          <p:cNvSpPr/>
          <p:nvPr/>
        </p:nvSpPr>
        <p:spPr>
          <a:xfrm>
            <a:off x="324000" y="476280"/>
            <a:ext cx="8643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отностью распределения непрерывной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зываетс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908000" y="3284640"/>
            <a:ext cx="2908440" cy="720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24000" y="4395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ункцию               называют такж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фференциальной функцией распределени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106848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324000" y="476280"/>
            <a:ext cx="864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распределения любой непрерывной случайной величины неотрицательна, т. е. ; обладает свойством нормирова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2735280" cy="1565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2376360" cy="7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6"/>
          <p:cNvSpPr/>
          <p:nvPr/>
        </p:nvSpPr>
        <p:spPr>
          <a:xfrm>
            <a:off x="324000" y="476280"/>
            <a:ext cx="864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 функции            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вой рас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распредел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ыражается через плотность распределения форму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3708360" y="765000"/>
            <a:ext cx="1224000" cy="762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1547640" y="3357720"/>
            <a:ext cx="3600720" cy="1584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766764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6"/>
          <p:cNvSpPr/>
          <p:nvPr/>
        </p:nvSpPr>
        <p:spPr>
          <a:xfrm>
            <a:off x="324000" y="620640"/>
            <a:ext cx="8643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попадания непрерывной случайной величин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омежу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,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яется равен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187280" y="3357720"/>
            <a:ext cx="54723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425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ая величина Х задана интегральной функци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357120" y="2571840"/>
            <a:ext cx="82296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ероятность того, что в результате испытания величина Х примет значение, заключенное в интервале (0,5;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5222880" cy="14288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428760" y="4143240"/>
            <a:ext cx="9029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6"/>
          <p:cNvSpPr/>
          <p:nvPr/>
        </p:nvSpPr>
        <p:spPr>
          <a:xfrm>
            <a:off x="179280" y="260280"/>
            <a:ext cx="878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распределения случайны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Биномиальный закон рас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ая случайная 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омиальное распределени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а по биномиальному закон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на принимает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, …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соответствующими вероятнос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5457600" cy="71928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395280" y="5229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 p &lt; 1, q = 1- p, m = 0,1, 2, …,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6"/>
          <p:cNvSpPr/>
          <p:nvPr/>
        </p:nvSpPr>
        <p:spPr>
          <a:xfrm>
            <a:off x="324000" y="476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ожидание и дисперсия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ющей биномиальное распределение, находятся по формул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564600" cy="792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179280" y="4052160"/>
            <a:ext cx="859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учайная величи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 = 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число наступлений события А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х испытаниях (Р(А) = р)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а по биномиальному зак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4388760" y="646920"/>
            <a:ext cx="3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Calibri"/>
              </a:rPr>
              <a:t>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2"/>
          <p:cNvSpPr/>
          <p:nvPr/>
        </p:nvSpPr>
        <p:spPr>
          <a:xfrm>
            <a:off x="7956720" y="285264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285840" y="428760"/>
            <a:ext cx="85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Функция распределения случайной величины и е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Функция распределения и плотность вероятности непрерывной случайной вел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ы распределения случайных вели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6"/>
          <p:cNvSpPr/>
          <p:nvPr/>
        </p:nvSpPr>
        <p:spPr>
          <a:xfrm>
            <a:off x="324000" y="476280"/>
            <a:ext cx="8643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2 Равномерный закон рас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прерывная случайная величи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ме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вномерный закон  распред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на отрезке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], если ее плотность вероятности  постоянна на этом отрезке и равна нулю вне 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7236000" y="2852640"/>
            <a:ext cx="936360" cy="584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1476360" y="4581360"/>
            <a:ext cx="5256360" cy="189396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4"/>
          <p:cNvSpPr/>
          <p:nvPr/>
        </p:nvSpPr>
        <p:spPr>
          <a:xfrm>
            <a:off x="8101080" y="5157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6"/>
          <p:cNvSpPr/>
          <p:nvPr/>
        </p:nvSpPr>
        <p:spPr>
          <a:xfrm>
            <a:off x="324000" y="476280"/>
            <a:ext cx="8643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е распределение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участке 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(ил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) обозначают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распределен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равномерно распределен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6732720" y="1557360"/>
            <a:ext cx="2160360" cy="57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1332000" y="4149720"/>
            <a:ext cx="50752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324000" y="476280"/>
            <a:ext cx="86439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ожидание и дисперсия случайной велич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ющей равномерное распределение, находятся по формул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3106800" cy="1295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3384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6"/>
          <p:cNvSpPr/>
          <p:nvPr/>
        </p:nvSpPr>
        <p:spPr>
          <a:xfrm>
            <a:off x="324000" y="476280"/>
            <a:ext cx="8643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роятность попадания равномерно распределенной случайной величины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яется по форму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2411280" y="1916280"/>
            <a:ext cx="2489400" cy="544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462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6"/>
          <p:cNvSpPr/>
          <p:nvPr/>
        </p:nvSpPr>
        <p:spPr>
          <a:xfrm>
            <a:off x="324000" y="476280"/>
            <a:ext cx="8643960" cy="82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льный закон рас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льный закон распределения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 Гау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грает исключительную роль в теории вероят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кона Гаусса состоит в том, что он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ельным зако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 которому приближаются, при определенных условиях, другие законы распред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6"/>
          <p:cNvSpPr/>
          <p:nvPr/>
        </p:nvSpPr>
        <p:spPr>
          <a:xfrm>
            <a:off x="324000" y="476280"/>
            <a:ext cx="86439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прерывная случайная величин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мее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рмальный закон распределения (закон Гаусса)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 параметрами      и      , если ее плотность вероятности имеет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647640" cy="544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574920" cy="484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>
            <a:off x="1763640" y="3357720"/>
            <a:ext cx="5113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324000" y="476280"/>
            <a:ext cx="8643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ую нормального закона распределения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льной крив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вой Гау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льная кривая               изображена на рис.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1523880" cy="5479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5" descr="10-10"/>
          <p:cNvPicPr/>
          <p:nvPr/>
        </p:nvPicPr>
        <p:blipFill>
          <a:blip r:embed="rId2"/>
          <a:stretch/>
        </p:blipFill>
        <p:spPr>
          <a:xfrm>
            <a:off x="2268360" y="2781360"/>
            <a:ext cx="5328000" cy="3024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7"/>
          <p:cNvSpPr/>
          <p:nvPr/>
        </p:nvSpPr>
        <p:spPr>
          <a:xfrm>
            <a:off x="900000" y="601416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2. Нормальная крив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571680" cy="209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4"/>
          <a:stretch/>
        </p:blipFill>
        <p:spPr>
          <a:xfrm>
            <a:off x="5148360" y="6093000"/>
            <a:ext cx="152388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6"/>
          <p:cNvSpPr/>
          <p:nvPr/>
        </p:nvSpPr>
        <p:spPr>
          <a:xfrm>
            <a:off x="395280" y="33336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 факт, что случайная величи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спределена по нормальному закону с параметрами     и     , коротко записывают та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3049560" y="1413000"/>
            <a:ext cx="514440" cy="431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457200" cy="527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29797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324000" y="476280"/>
            <a:ext cx="86439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стандартной случайной велич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т 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ей Гау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38512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ним из наиболее удобных и универсальных способов задания закона распределения случайной величины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является функция распредел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ункцией распределения (или интегральной функцией распределения)   случайной величины 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X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зывается функция , которая для любого числа          равна вероятности события, состоящего в том, что случайная величина  примет значение, меньшее, че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124000" cy="40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451640" y="2997360"/>
            <a:ext cx="9223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9364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снов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учебник / В. А. Валентинов. - 2-е изд. - М. : Дашков и К°, 2009. - 44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практикум / В. А. Валентинов. - 3-е изд. - М.: Даш-ков и К°, 2010. - 43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Под ред. И.И. Елисеевой. – М.: Финансы и статистика, 2002. – 3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 по эконометрике: Учебн. пособие / Под ред. И.И. Елисеевой. – М.: Финансы и статистика, 2003. – 19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полнитель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емер Н.Ш., Путко Б.А. Эконометрика: Учебник для вузов / Под ред. проф. Н.Ш. Кремера. – М.: ЮНИТИ-ДАНА, 2002. – 311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Тихомиров Н.П., Дорохина Е.Ю. – М.: Издательство «Экзамен», 2003. – 51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179280" y="476280"/>
            <a:ext cx="8788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вопрос. Функция распределения случайной величины и ее св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ункцией распределения (или интегральной функцией распределения)   случайной величины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функци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ая для люб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а вероятности события, состоящего в том, что случайная величи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мет значение, меньшее, че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 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6804000" y="3357720"/>
            <a:ext cx="1595520" cy="620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1908000" y="5589720"/>
            <a:ext cx="38563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6"/>
          <p:cNvSpPr/>
          <p:nvPr/>
        </p:nvSpPr>
        <p:spPr>
          <a:xfrm>
            <a:off x="324000" y="47628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 функция распределения интерпретируется как вероятность того, что случайная точк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падет левее данной точк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унок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2" descr="5"/>
          <p:cNvPicPr/>
          <p:nvPr/>
        </p:nvPicPr>
        <p:blipFill>
          <a:blip r:embed="rId1"/>
          <a:stretch/>
        </p:blipFill>
        <p:spPr>
          <a:xfrm>
            <a:off x="1042920" y="2637000"/>
            <a:ext cx="7489800" cy="1728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79280" y="449964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 1. Графическая интерпретация функции рас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ункц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существует как для дискретных, так и непрерывных случайных велич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6"/>
          <p:cNvSpPr/>
          <p:nvPr/>
        </p:nvSpPr>
        <p:spPr>
          <a:xfrm>
            <a:off x="324000" y="47628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распределения обладает следующими свойст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убывающая функция, т. 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прерывна слева в любой точк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808360" cy="519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808360" cy="66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584360" cy="753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"/>
          <p:cNvPicPr/>
          <p:nvPr/>
        </p:nvPicPr>
        <p:blipFill>
          <a:blip r:embed="rId4"/>
          <a:stretch/>
        </p:blipFill>
        <p:spPr>
          <a:xfrm>
            <a:off x="826920" y="3357720"/>
            <a:ext cx="1748160" cy="502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5"/>
          <a:stretch/>
        </p:blipFill>
        <p:spPr>
          <a:xfrm>
            <a:off x="2843280" y="3357720"/>
            <a:ext cx="1673280" cy="502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6"/>
          <a:stretch/>
        </p:blipFill>
        <p:spPr>
          <a:xfrm>
            <a:off x="1187280" y="4437000"/>
            <a:ext cx="2382840" cy="549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7"/>
          <a:stretch/>
        </p:blipFill>
        <p:spPr>
          <a:xfrm>
            <a:off x="3780000" y="4437000"/>
            <a:ext cx="1152360" cy="500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8"/>
          <a:stretch/>
        </p:blipFill>
        <p:spPr>
          <a:xfrm>
            <a:off x="900000" y="5013360"/>
            <a:ext cx="4337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475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. Случайная величина Х задана интегральной функци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5112000" cy="17542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8"/>
          <p:cNvSpPr/>
          <p:nvPr/>
        </p:nvSpPr>
        <p:spPr>
          <a:xfrm>
            <a:off x="395280" y="342900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вероятность того, что в результате испытания величина х примет значение, заключенное в интервале (0,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468360" y="5300640"/>
            <a:ext cx="8245440" cy="865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"/>
          <p:cNvSpPr/>
          <p:nvPr/>
        </p:nvSpPr>
        <p:spPr>
          <a:xfrm>
            <a:off x="0" y="1019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ункция распределе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искретно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случайной величины имеет вид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3960720" cy="1079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7380360" y="184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50920" y="3039120"/>
            <a:ext cx="86644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суммирование ведется по всем индекс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котор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x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0"/>
          <p:cNvSpPr/>
          <p:nvPr/>
        </p:nvSpPr>
        <p:spPr>
          <a:xfrm>
            <a:off x="250920" y="4797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скретной случайной величин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 распределения е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рывная ступенчатая функция,  непрерывная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78920" y="189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вопрос. Функция распределения и плотность вероятности непрерывной случайной величин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учайная величина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епрерывной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если ее функция распределения непрерывна в любой точке и дифференцируема всюду, кроме, быть может, отдельных точ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Асия</cp:lastModifiedBy>
  <dcterms:modified xsi:type="dcterms:W3CDTF">2022-12-01T03:47:48Z</dcterms:modified>
  <cp:revision>120</cp:revision>
  <dc:subject/>
  <dc:title>Курс: «Эконометрика»  Преподаватель: Костюнин Владимир Ильич</dc:title>
</cp:coreProperties>
</file>