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3.jpeg" ContentType="image/jpeg"/>
  <Override PartName="/ppt/media/image9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EED-7369-4D34-A0B6-7FA53691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CAF-E5D9-4DC7-B041-B994D4F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407-FE64-412B-95F8-5632C548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416-039D-4B2C-A190-57C96926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C9F8-E30D-4AD0-AE7C-ABACFB2D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643D-C255-43E8-A772-B30CA449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69D9-CC5B-4B6F-A35D-0AE6BD30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B14-414E-4061-9A62-B657BC4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C812-B8A3-4262-95DC-A4E79BAC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704A-CF0D-485F-96FA-41592108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E62F-EE35-4C53-AD4D-684DA562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8B7-C0B6-4F83-83B3-FFBA5C50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EA32-5467-45B4-91CC-FC10A5C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5081-7821-4B32-BF54-25E498A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8C6D-1AE2-460D-83CB-391D40C4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F31D-A348-4782-A7B6-015A31C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9DC2-87A9-4324-97BE-920286DE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C1A2-9AA5-4EBE-B283-4A09BB22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307E2-C5D9-4380-9F5F-41A34FC5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A0374-7B9C-4E09-956F-72141C16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38FC-8414-4A05-A0BA-C3089CE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39A2-1C3D-454C-AFD7-0AFB89DE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880-278E-4737-8904-9560E3DB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C56D-EFB2-4CFF-A6FA-A601FEF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5396-DCAD-4278-ABD0-A3934EB8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5D9A5-B232-4E23-A576-00CA8F5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48B2-23FE-4916-A359-965A1B6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C1E72-7034-4271-B6CB-46894FE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C5D63-EBA7-42F3-A512-59A80A5A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DEDF-A90B-4B8B-85C4-2CD36056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07EA-D633-4653-9972-9750138F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5FA3-078C-4E1B-961E-FAA5001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5CDC-4615-4208-B969-A590415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C6A-568F-4385-9028-86B75D5A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8EB1-A396-47B1-8347-B4477C0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2B6C7-795D-48E5-90A6-49308E0C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438B-5196-49E5-B55A-84ECF625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70C3-DA29-4E7D-B2EC-38BC23D0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646D-6EAF-4B26-99DC-769774A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58034-29DB-41FF-8CC3-7056064D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FD3D-8890-4A0B-9AC7-70982972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5B1B7-0202-4370-9A01-C0381BE4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5C77-A28B-4C63-B6B3-BB5BC8FA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757-A41D-4122-830D-1E5AD06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A49-E570-4603-8B75-910B2C2B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2E1-5FE5-4F4F-8565-94BB951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A49-F0CB-4145-93AC-17F65FE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5DE-A1D2-4A63-8CB5-1A4C64F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9EB-8BE7-4E03-AFDA-D74E25A7F1C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9614-BF71-48BE-AAD0-055CBE41DEA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DF0-1A41-4E71-8627-130C2415B5A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84CA-88EB-441A-9D9E-96117C2CC9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71640" y="54936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инский университет имени Е.А. Букето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ЕТ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ОСНОВЫ ЭКОНОМЕТРИ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В04106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Учет и ауди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     Атабаева А.К.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D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преподава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занятий: лекц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ганда 20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6"/>
          <p:cNvSpPr/>
          <p:nvPr/>
        </p:nvSpPr>
        <p:spPr>
          <a:xfrm>
            <a:off x="324000" y="476280"/>
            <a:ext cx="86439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асти решения проблем изучаемой экономической сис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нвестиционная, социальная, финансовая поли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цено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спределительные отно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спрос и потреб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отдельно выделенный комплекс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6"/>
          <p:cNvSpPr/>
          <p:nvPr/>
        </p:nvSpPr>
        <p:spPr>
          <a:xfrm>
            <a:off x="324000" y="33336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вопрос. Классификация переменных в эконометрических моде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юбой эконометрической модели в зависимости от конечных прикладных целей ее использования все участвующие в ней переменные подразделяю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зог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 е. задаваемые как бы «извне», автономно, в определенной степени управляемые (планируем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6"/>
          <p:cNvSpPr/>
          <p:nvPr/>
        </p:nvSpPr>
        <p:spPr>
          <a:xfrm>
            <a:off x="324000" y="476280"/>
            <a:ext cx="8643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ндог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е. такие переменные, значения которых формируются в процессе и внутри функционирования анализируемой социально-экономической системы в существенной мере под воздействием экзогенных переменных и во взаимодействии друг с друг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эконометрической модели они являются предметом объясне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324000" y="476280"/>
            <a:ext cx="8643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редел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 е. выступающие в системе в роли факторов-аргументов, или объясняющих перем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6"/>
          <p:cNvSpPr/>
          <p:nvPr/>
        </p:nvSpPr>
        <p:spPr>
          <a:xfrm>
            <a:off x="395280" y="26028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нометрическая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д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ит для объяснения поведения эндогенных переменных в зависимости от значения экзогенных и лаговых эндогенных перем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етрических исследованиях, как правило, используются два типа выборочных дан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е (cross-sectional dat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ые (time-series da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6"/>
          <p:cNvSpPr/>
          <p:nvPr/>
        </p:nvSpPr>
        <p:spPr>
          <a:xfrm>
            <a:off x="324000" y="47628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определен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ного ряда от пространственной выбор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элементы динамического ряда не являются статистически независимыми, в отличие от элементов случайной пространственной выборки, т. е. они подвержены явлен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корреля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висимости между прошлыми и текущими наблюдениями временного ряд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лементы динамического ряда не являются одинаково распределенными величи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6"/>
          <p:cNvSpPr/>
          <p:nvPr/>
        </p:nvSpPr>
        <p:spPr>
          <a:xfrm>
            <a:off x="324000" y="476280"/>
            <a:ext cx="86439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Этапы эконометрического исслед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ояснения сущности именно эконометрической модели и описания основных возникающих при ее построении и анализе проблем удобно разбить весь процесс моделирования 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основных эта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6"/>
          <p:cNvSpPr/>
          <p:nvPr/>
        </p:nvSpPr>
        <p:spPr>
          <a:xfrm>
            <a:off x="324000" y="476280"/>
            <a:ext cx="8643960" cy="72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й этап (постановочный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определение конечных целей моделирования, набора участвующих в модели факторов и показателей, их 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ом этапе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ые цел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ада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следования и набор участвующих в модели факторных и результативных экономических переме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6"/>
          <p:cNvSpPr/>
          <p:nvPr/>
        </p:nvSpPr>
        <p:spPr>
          <a:xfrm>
            <a:off x="324000" y="476280"/>
            <a:ext cx="8643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й этап (априорны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анализ экономической сущности изучаемого явления, формирование и формализация априорной информации, в частности, относящейся к природе и генезису исходных статистических данных и случайных остаточных составляющ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6"/>
          <p:cNvSpPr/>
          <p:nvPr/>
        </p:nvSpPr>
        <p:spPr>
          <a:xfrm>
            <a:off x="324000" y="476280"/>
            <a:ext cx="8643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персией (рассеиванием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скретной случайной величины называется математическое ожидание квадрата отклонения случайной величины от ее математическ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"/>
              <p:cNvSpPr txBox="1"/>
              <p:nvPr/>
            </p:nvSpPr>
            <p:spPr>
              <a:xfrm>
                <a:off x="1403280" y="4076640"/>
                <a:ext cx="5761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285840" y="428760"/>
            <a:ext cx="85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экономет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Классификация переменных в эконометрических мод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Этапы эконометрического исслед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сновные проблемы эконометрического модел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6"/>
          <p:cNvSpPr/>
          <p:nvPr/>
        </p:nvSpPr>
        <p:spPr>
          <a:xfrm>
            <a:off x="324000" y="476280"/>
            <a:ext cx="8643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мер 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меется закон распределения случайной вел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476360" y="2133720"/>
          <a:ext cx="5400720" cy="1325520"/>
        </p:xfrm>
        <a:graphic>
          <a:graphicData uri="http://schemas.openxmlformats.org/drawingml/2006/table">
            <a:tbl>
              <a:tblPr/>
              <a:tblGrid>
                <a:gridCol w="1224000"/>
                <a:gridCol w="1619280"/>
                <a:gridCol w="1278000"/>
                <a:gridCol w="1279440"/>
              </a:tblGrid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826920" y="37594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математическое ожидан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ю случайной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324000" y="476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ческое ожидание случайной величины рав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"/>
              <p:cNvSpPr txBox="1"/>
              <p:nvPr/>
            </p:nvSpPr>
            <p:spPr>
              <a:xfrm>
                <a:off x="324000" y="2205000"/>
                <a:ext cx="67356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25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Прямоугольник 4"/>
          <p:cNvSpPr/>
          <p:nvPr/>
        </p:nvSpPr>
        <p:spPr>
          <a:xfrm>
            <a:off x="324000" y="2708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е значения квадрата откло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39640" y="3284640"/>
                <a:ext cx="5064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,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539640" y="4005360"/>
                <a:ext cx="504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,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39640" y="4724280"/>
                <a:ext cx="4969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,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6"/>
          <p:cNvSpPr/>
          <p:nvPr/>
        </p:nvSpPr>
        <p:spPr>
          <a:xfrm>
            <a:off x="324000" y="4762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116000" y="1341360"/>
          <a:ext cx="6408720" cy="1079640"/>
        </p:xfrm>
        <a:graphic>
          <a:graphicData uri="http://schemas.openxmlformats.org/drawingml/2006/table">
            <a:tbl>
              <a:tblPr/>
              <a:tblGrid>
                <a:gridCol w="2085840"/>
                <a:gridCol w="1640160"/>
                <a:gridCol w="1341360"/>
                <a:gridCol w="1341360"/>
              </a:tblGrid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X-M(X)]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Прямоугольник 3"/>
          <p:cNvSpPr/>
          <p:nvPr/>
        </p:nvSpPr>
        <p:spPr>
          <a:xfrm>
            <a:off x="395280" y="278136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персия рав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"/>
              <p:cNvSpPr txBox="1"/>
              <p:nvPr/>
            </p:nvSpPr>
            <p:spPr>
              <a:xfrm>
                <a:off x="179280" y="3645000"/>
                <a:ext cx="8523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2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Rectangle 3"/>
          <p:cNvSpPr/>
          <p:nvPr/>
        </p:nvSpPr>
        <p:spPr>
          <a:xfrm>
            <a:off x="250920" y="458784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на практике подобный способ вычисления дисперсии неудобен, т.к. приводит при большом количестве значений случайной величины к громоздким вычисл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рименяется друго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"/>
          <p:cNvSpPr/>
          <p:nvPr/>
        </p:nvSpPr>
        <p:spPr>
          <a:xfrm>
            <a:off x="324000" y="476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орем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исперсия равна разности между математическим ожиданием квадрата случайной величины Х и квадратом ее математического ожи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733400" y="2708280"/>
                <a:ext cx="5340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6"/>
          <p:cNvSpPr/>
          <p:nvPr/>
        </p:nvSpPr>
        <p:spPr>
          <a:xfrm>
            <a:off x="324000" y="476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"/>
              <p:cNvSpPr txBox="1"/>
              <p:nvPr/>
            </p:nvSpPr>
            <p:spPr>
              <a:xfrm>
                <a:off x="250920" y="1125360"/>
                <a:ext cx="8424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3"/>
          <p:cNvSpPr/>
          <p:nvPr/>
        </p:nvSpPr>
        <p:spPr>
          <a:xfrm>
            <a:off x="179280" y="19260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казательств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четом того, что математическое ожидание М(Х) и квадрат математического ожидания 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 – величины постоянные, можно запис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250920" y="1773360"/>
                <a:ext cx="8569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2340000" y="2492280"/>
                <a:ext cx="4124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Прямоугольник 8"/>
          <p:cNvSpPr/>
          <p:nvPr/>
        </p:nvSpPr>
        <p:spPr>
          <a:xfrm>
            <a:off x="287280" y="306864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м эту формулу для рассмотренного выше при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58920" y="3573360"/>
          <a:ext cx="6095880" cy="1471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68360" y="5157720"/>
                <a:ext cx="60483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2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8"/>
              <p:cNvSpPr txBox="1"/>
              <p:nvPr/>
            </p:nvSpPr>
            <p:spPr>
              <a:xfrm>
                <a:off x="468360" y="5661000"/>
                <a:ext cx="6048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,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6"/>
          <p:cNvSpPr/>
          <p:nvPr/>
        </p:nvSpPr>
        <p:spPr>
          <a:xfrm>
            <a:off x="324000" y="47628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им квадратическим отклонение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ой величины называется вели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2808360" cy="8064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3"/>
          <p:cNvSpPr/>
          <p:nvPr/>
        </p:nvSpPr>
        <p:spPr>
          <a:xfrm>
            <a:off x="324000" y="393372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е квадратическое отклон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мера рассеяния значений случайной величины около ее математического ожи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6"/>
          <p:cNvSpPr/>
          <p:nvPr/>
        </p:nvSpPr>
        <p:spPr>
          <a:xfrm>
            <a:off x="324000" y="4762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ис. 2 и 3 показана мода для дискретной и непрерывной случайной вел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2"/>
          <p:cNvPicPr/>
          <p:nvPr/>
        </p:nvPicPr>
        <p:blipFill>
          <a:blip r:embed="rId1"/>
          <a:stretch/>
        </p:blipFill>
        <p:spPr>
          <a:xfrm>
            <a:off x="324000" y="1700280"/>
            <a:ext cx="3138480" cy="26654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3"/>
          <p:cNvPicPr/>
          <p:nvPr/>
        </p:nvPicPr>
        <p:blipFill>
          <a:blip r:embed="rId2"/>
          <a:stretch/>
        </p:blipFill>
        <p:spPr>
          <a:xfrm>
            <a:off x="4067280" y="1628640"/>
            <a:ext cx="4897440" cy="280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539640" y="45118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Calibri"/>
              </a:rPr>
              <a:t>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mbria"/>
                <a:ea typeface="Calibri"/>
              </a:rPr>
              <a:t>Рис. 2                                                                                         Рис.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6"/>
          <p:cNvSpPr/>
          <p:nvPr/>
        </p:nvSpPr>
        <p:spPr>
          <a:xfrm>
            <a:off x="324000" y="476280"/>
            <a:ext cx="8643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дианой  непрерывной случайной величин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          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зывается такое ее значение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для которого одинаково вероятно, окажется ли случайная величин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ньше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больше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.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1089000" cy="719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7068960" cy="16560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5"/>
          <p:cNvSpPr/>
          <p:nvPr/>
        </p:nvSpPr>
        <p:spPr>
          <a:xfrm>
            <a:off x="8028000" y="458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6"/>
          <p:cNvSpPr/>
          <p:nvPr/>
        </p:nvSpPr>
        <p:spPr>
          <a:xfrm>
            <a:off x="0" y="476280"/>
            <a:ext cx="914400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 вертикальная прямая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ходящая через точку с абсциссой, рав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елит площадь фигуры под кривой распределения на две равные части  (рис. 4). Каждая из этих площадей равна 1/2, т. к. площадь, ограниченная кривой распределения,  равна единице. Поэтому функция распределения в точке               равна 1/2, т. 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7308720" y="836640"/>
            <a:ext cx="1419480" cy="647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1087560" cy="71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1419120" cy="64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1763640" y="4724280"/>
            <a:ext cx="3024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2" descr="4"/>
          <p:cNvPicPr/>
          <p:nvPr/>
        </p:nvPicPr>
        <p:blipFill>
          <a:blip r:embed="rId1"/>
          <a:stretch/>
        </p:blipFill>
        <p:spPr>
          <a:xfrm>
            <a:off x="1835280" y="765000"/>
            <a:ext cx="5545080" cy="37436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250920" y="450072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унок 4. Кривая распределения и 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скретной случайной величины медиана обычно не опреде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68360" y="593640"/>
            <a:ext cx="8229600" cy="60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снов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учебник / В. А. Валентинов. - 2-е изд. - М. : Дашков и К°, 2009. - 44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алентинов, В. А.  Эконометрика: практикум / В. А. Валентинов. - 3-е изд. - М.: Даш-ков и К°, 2010. - 435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Под ред. И.И. Елисеевой. – М.: Финансы и статистика, 2002. – 344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ктикум по эконометрике: Учебн. пособие / Под ред. И.И. Елисеевой. – М.: Финансы и статистика, 2003. – 19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полнительная литератур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емер Н.Ш., Путко Б.А. Эконометрика: Учебник для вузов / Под ред. проф. Н.Ш. Кремера. – М.: ЮНИТИ-ДАНА, 2002. – 311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конометрика: Учебник / Тихомиров Н.П., Дорохина Е.Ю. – М.: Издательство «Экзамен», 2003. – 512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0560" y="549000"/>
            <a:ext cx="8713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современном этапе развития науки неотъемлемым фактором развития эконометрики является развитие компьютерных технологий и специальных пакетов прикладных програм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м предметом исследования эконометрики являются массовые экономические явления и процессы. Предметы эконометрики и статистики очень схожи, так как статистика имеет дело с массовыми социально-экономическими явлениями. Эконометрика ставит своей целью количественно охарактеризовать те экономические закономерности, которые экономическая теория выявляет и определяет лишь в общ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лиз экономических процессов и явлений в эконометрике осуществляется с помощью математических моделей, построенных на эмпирических данн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324000" y="476280"/>
            <a:ext cx="86439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вопрос. Понятие экономет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етр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наука, которая на базе статистических данных дает количественную характеристику взаимозависимым экономическим явлениям и процес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6"/>
          <p:cNvSpPr/>
          <p:nvPr/>
        </p:nvSpPr>
        <p:spPr>
          <a:xfrm>
            <a:off x="324000" y="90792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мин «эконометрика» был введен в 1926 г. норвежским ученым Р. Фриш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етр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наука об экономических измер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6"/>
          <p:cNvSpPr/>
          <p:nvPr/>
        </p:nvSpPr>
        <p:spPr>
          <a:xfrm>
            <a:off x="324000" y="47628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ождение эконометрики является следствием междисциплинарного подхода к изучению эконом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етрика представляет собой сочетание трех нау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экономической теор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атематической и экономической статис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атемат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6"/>
          <p:cNvSpPr/>
          <p:nvPr/>
        </p:nvSpPr>
        <p:spPr>
          <a:xfrm>
            <a:off x="324000" y="476280"/>
            <a:ext cx="86439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следования эконометрики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совые экономические явления и процес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етрика ставит свое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ичествен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характеризовать те экономические закономерности, которые экономическая теория выявляет и определяет лишь в об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6"/>
          <p:cNvSpPr/>
          <p:nvPr/>
        </p:nvSpPr>
        <p:spPr>
          <a:xfrm>
            <a:off x="324000" y="476280"/>
            <a:ext cx="86439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конометрики решается очень широкий круг задач. Их можно классифицировать по трем призна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ечным прикладным целя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гноз социально-экономических показателей, определяющих состояние и развитие изучаемой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оделирование возможных вариантов социально-экономического развития системы для определения тех параметров, которые оказывают наиболее мощное влияние на состояние системы в це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6"/>
          <p:cNvSpPr/>
          <p:nvPr/>
        </p:nvSpPr>
        <p:spPr>
          <a:xfrm>
            <a:off x="324000" y="47628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иерарх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задачи, решаемые на макроуровне (страна в цело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задачи, решаемые на мезоуровне (уровень отраслей, регион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дачи, решаемые на микроуровне (уровень фирмы, семьи, предприят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23:27:16Z</dcterms:created>
  <dc:creator>WIK</dc:creator>
  <dc:description/>
  <dc:language>en-US</dc:language>
  <cp:lastModifiedBy>Асия</cp:lastModifiedBy>
  <dcterms:modified xsi:type="dcterms:W3CDTF">2022-12-01T04:19:10Z</dcterms:modified>
  <cp:revision>102</cp:revision>
  <dc:subject/>
  <dc:title>Курс: «Эконометрика»  Преподаватель: Костюнин Владимир Ильич</dc:title>
</cp:coreProperties>
</file>