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29.wmf" ContentType="image/x-wmf"/>
  <Override PartName="/ppt/media/image28.wmf" ContentType="image/x-wmf"/>
  <Override PartName="/ppt/media/image27.wmf" ContentType="image/x-wmf"/>
  <Override PartName="/ppt/media/image26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13.wmf" ContentType="image/x-wmf"/>
  <Override PartName="/ppt/media/image5.png" ContentType="image/png"/>
  <Override PartName="/ppt/media/image9.wmf" ContentType="image/x-wmf"/>
  <Override PartName="/ppt/media/image34.wmf" ContentType="image/x-wmf"/>
  <Override PartName="/ppt/media/image30.wmf" ContentType="image/x-wmf"/>
  <Override PartName="/ppt/media/image3.png" ContentType="image/png"/>
  <Override PartName="/ppt/media/image11.wmf" ContentType="image/x-wmf"/>
  <Override PartName="/ppt/media/image31.wmf" ContentType="image/x-wmf"/>
  <Override PartName="/ppt/media/image32.wmf" ContentType="image/x-wmf"/>
  <Override PartName="/ppt/media/image33.wmf" ContentType="image/x-wmf"/>
  <Override PartName="/ppt/media/image35.wmf" ContentType="image/x-wmf"/>
  <Override PartName="/ppt/media/image12.wmf" ContentType="image/x-wmf"/>
  <Override PartName="/ppt/media/image36.wmf" ContentType="image/x-wmf"/>
  <Override PartName="/ppt/media/image7.wmf" ContentType="image/x-wmf"/>
  <Override PartName="/ppt/media/image37.wmf" ContentType="image/x-wmf"/>
  <Override PartName="/ppt/media/image10.wmf" ContentType="image/x-wmf"/>
  <Override PartName="/ppt/media/image8.wmf" ContentType="image/x-wmf"/>
  <Override PartName="/ppt/media/image4.jpeg" ContentType="image/jpeg"/>
  <Override PartName="/ppt/media/image2.png" ContentType="image/png"/>
  <Override PartName="/ppt/media/image6.png" ContentType="image/png"/>
  <Override PartName="/ppt/media/image14.wmf" ContentType="image/x-wmf"/>
  <Override PartName="/ppt/media/image1.jpeg" ContentType="image/jpeg"/>
  <Override PartName="/ppt/media/image15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D95F3-C28E-4063-B077-F583A1DCD19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EB2F1-FD24-40D6-8C41-13137FAEF1F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90646-1F3F-4CA6-A8D1-FA8D9F437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10096-8ED1-4E7C-B368-92851E4C1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48610-8F5E-46F4-BB27-C6223A92F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8591F-4E1C-45F8-A2FB-BC273D15A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13D46-33E9-4A00-9CFE-DDB0FE17F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4E801-A2D7-4C7B-AAB4-E7343EDA1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97F4D-78D4-4DF3-8D4B-01538BCFB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C58DB-2AB7-441A-95D7-72D40F496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E8830-C4E2-4BB5-A20A-0C95A1FD1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9F17A-E128-414A-A743-EDBD90D83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B3E7F-08F9-423D-84F6-7568F7B3B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27EEC-505E-4895-840D-C6E95A2AB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8EFD4-8794-4F4B-AEC6-DF0C3DF50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15E57-51A3-4CA4-B82E-53F5CC383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567F7-8FFA-4B69-80CB-46A0A9F4C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67B0F-5E1F-4638-8871-B57DB19E3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214C8-9A43-4D1F-80FD-B399E570C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7875E3-6292-4CE4-9DCB-EB7477FEE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C0826A-5338-4D1A-8A13-4C152037C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1BC7F5-0ABC-4D2E-AA29-592501A46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DA9D64-04BC-49B9-991F-2A1D00E24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9BEBC5-0A89-4169-90F6-03D8753C3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42630-2BEA-450F-8B85-436FAC92E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4FE203-6FB7-48FC-9950-006E51C69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F2F6BC-6F0E-42F2-AEDA-50E3A0A9C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56EFDF-657D-4AFB-A845-012DF7BA6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D4E1C4-C3B7-49C8-91FB-370622D47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40BFF0-E9F5-4B6A-AF72-F72F168E0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954F4F-7982-4524-848B-9995D5AF9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7BE611-E965-46ED-96FD-526A68108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88F88D-A697-4086-9C2F-42AF664F3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EBABFC-677C-4CAD-9D4D-60D31BAF7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8069E0-5BCF-4599-9A9A-AC0BD3096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ECCF8-0A3C-4416-B9FD-EE66CB0FF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99ED3E-21D3-4249-9780-7E1563C3D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16FB41-6CEF-488C-9F4F-6A1C83695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EE1AD3-A401-4945-9F12-0C7A9F7B6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1E80F2-9812-4F62-8D4C-7762CB3ED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C9AFD4-0F8E-44BF-BB58-38148924D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B6712F-8BF7-45D3-AA11-F324BDF38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099041-D234-4CA9-9D84-C5EB17239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5C7329-BD3E-4CCE-ACB6-236443ED4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B50190-9396-41C0-93DE-2CD6A3DF2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782074-8BE2-47AE-968C-8623610D5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46059-76B6-407C-BC70-D5242F57B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2328F2-48E3-4140-B753-4307E3461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856380-2D84-4FC8-A7E6-068F20B20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564208-9A53-436D-AC0B-CB5A2623E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510689-DA19-4EE0-9F56-9735C8F9F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A4AB35-B092-4C52-A7B6-39A9C60D4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6F294E-21A6-48A1-8CE1-C6EE8A89D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EA68C3-956F-4947-80D0-7290C593B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B32463-822E-46CD-BFE3-71C0B3B00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8E1AFA-57DA-4C86-B721-9C864B380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E08060-AB01-4BCD-8590-79164DBC0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168E2-3A66-49EB-833E-E0A7BC666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BE4B99-6656-4828-B547-FA6664336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C49B4-1D70-482E-9220-83100C0B0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90177-5790-4E8A-BE7C-720A95B25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ECED4-32F4-49F6-A33D-0BBC87D1C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DEA52-204C-4C7F-96C0-BD25F69EE70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33795-AAC2-4FB9-B7DB-88AED8D5789B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49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0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3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94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5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6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98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061F9-9658-48B5-8E9B-E1CA24282FF1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44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45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6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48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9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C5CFC-4C24-4DAD-951F-0EA5C7A63D90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 type="sldNum" idx="15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6E551-DDAE-4874-8716-4109825D8E8D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7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8.wmf"/><Relationship Id="rId1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1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4.wmf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2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1.wmf"/><Relationship Id="rId1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971640" y="549360"/>
            <a:ext cx="77040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инистерство образования и науки Республики Казахстан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рагандинский университет имени Е.А. Букетова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ЭКОНОМЕТРИКА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ема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7</a:t>
            </a:r>
            <a:r>
              <a:rPr b="1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ножественная линейная регрессия и корреляция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В04106 </a:t>
            </a:r>
            <a:r>
              <a:rPr b="1" lang="ru-RU" sz="2600" spc="-1" strike="noStrike">
                <a:solidFill>
                  <a:srgbClr val="ffffff"/>
                </a:solidFill>
                <a:latin typeface="Constantia"/>
              </a:rPr>
              <a:t>– Учет и аудит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втор:      Атабаева А.К.,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hD,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арший преподаватель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ид занятий: лекция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раганда 20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2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TextBox 6"/>
          <p:cNvSpPr/>
          <p:nvPr/>
        </p:nvSpPr>
        <p:spPr>
          <a:xfrm>
            <a:off x="179280" y="189000"/>
            <a:ext cx="8643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ак, для уравнения, включающего три объясняющих переменн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4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0" name="Объект 2"/>
          <p:cNvGraphicFramePr/>
          <p:nvPr/>
        </p:nvGraphicFramePr>
        <p:xfrm>
          <a:off x="1042920" y="1341360"/>
          <a:ext cx="5934240" cy="100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1" name="Объект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1341360"/>
                    <a:ext cx="5934240" cy="10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2" name="Прямоугольник 3"/>
          <p:cNvSpPr/>
          <p:nvPr/>
        </p:nvSpPr>
        <p:spPr>
          <a:xfrm>
            <a:off x="204840" y="2421000"/>
            <a:ext cx="864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трица коэффициентов корреляции между факторами имела бы определитель, равный единиц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4" name="Объект 5"/>
          <p:cNvGraphicFramePr/>
          <p:nvPr/>
        </p:nvGraphicFramePr>
        <p:xfrm>
          <a:off x="684360" y="3429000"/>
          <a:ext cx="7557840" cy="2232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5" name="Объект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4360" y="3429000"/>
                    <a:ext cx="7557840" cy="22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TextBox 6"/>
          <p:cNvSpPr/>
          <p:nvPr/>
        </p:nvSpPr>
        <p:spPr>
          <a:xfrm>
            <a:off x="324000" y="476280"/>
            <a:ext cx="86439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сли же, наоборот, между факторами существует полная линейная зависимость и все коэффициенты корреляции равны единице, то определитель такой матрицы равен нулю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9" name="Объект 2"/>
          <p:cNvGraphicFramePr/>
          <p:nvPr/>
        </p:nvGraphicFramePr>
        <p:xfrm>
          <a:off x="625320" y="3213000"/>
          <a:ext cx="7893360" cy="2365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0" name="Объект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5320" y="3213000"/>
                    <a:ext cx="7893360" cy="236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TextBox 6"/>
          <p:cNvSpPr/>
          <p:nvPr/>
        </p:nvSpPr>
        <p:spPr>
          <a:xfrm>
            <a:off x="324000" y="476280"/>
            <a:ext cx="864396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дним из путей учета внутренней корреляции факторов является переход к совмещенным уравнениям регрессии, т.е. к уравнениям, которые отражают не только влияние факторов, но и их взаимодействие. Так, если                               , то возможно построение следующего совмещенного уравне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4" name="Объект 2"/>
          <p:cNvGraphicFramePr/>
          <p:nvPr/>
        </p:nvGraphicFramePr>
        <p:xfrm>
          <a:off x="2268360" y="2924280"/>
          <a:ext cx="3095640" cy="67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5" name="Объект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68360" y="2924280"/>
                    <a:ext cx="3095640" cy="67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6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7" name="Объект 4"/>
          <p:cNvGraphicFramePr/>
          <p:nvPr/>
        </p:nvGraphicFramePr>
        <p:xfrm>
          <a:off x="108000" y="4797360"/>
          <a:ext cx="8785080" cy="64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18" name="Объект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8000" y="4797360"/>
                    <a:ext cx="878508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7"/>
          <p:cNvSpPr/>
          <p:nvPr/>
        </p:nvSpPr>
        <p:spPr>
          <a:xfrm>
            <a:off x="174600" y="309240"/>
            <a:ext cx="87868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бор факторов, включаемых в регрессию, является одним из важнейших этапов практического использования методов регресси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иболее широкое применение получили следующие методы построения уравнения множественной регресси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тод исключения – отсев факторов из полного его набо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тод включения – дополнительное введение факто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Шаговый регрессионный анализ – исключение ранее введенного факто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 txBox="1"/>
          <p:nvPr/>
        </p:nvSpPr>
        <p:spPr>
          <a:xfrm>
            <a:off x="179280" y="189000"/>
            <a:ext cx="878544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вопрос. Метод наименьших квадратов (МНК). Свойства оценок на основе МНК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ы разные виды уравнений множественной регрессии: линейные и нелинейны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виду четкой интерпретации параметров наиболее широко используется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нейна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функция. В линейной множественной регрессии  параметры при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ываются коэффициентами «чистой» регрессии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3" name="Object 3"/>
          <p:cNvGraphicFramePr/>
          <p:nvPr/>
        </p:nvGraphicFramePr>
        <p:xfrm>
          <a:off x="826920" y="4005360"/>
          <a:ext cx="5267520" cy="71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4005360"/>
                    <a:ext cx="5267520" cy="71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250560" y="188640"/>
            <a:ext cx="8713800" cy="61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ссмотрим линейную модель множественной регрессии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лассический подход к оцениванию параметров линейной модели множественной регрессии основан на методе наименьших квадратов (МНК). МНК позволяет получить такие оценки параметров, при которых сумма квадратов отклонений фактических значений результативного признака  от расчетных  минимальна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7" name="Object 1"/>
          <p:cNvGraphicFramePr/>
          <p:nvPr/>
        </p:nvGraphicFramePr>
        <p:xfrm>
          <a:off x="1476360" y="1197000"/>
          <a:ext cx="5541840" cy="57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8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197000"/>
                    <a:ext cx="554184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9" name="Прямоугольник 5"/>
          <p:cNvSpPr/>
          <p:nvPr/>
        </p:nvSpPr>
        <p:spPr>
          <a:xfrm>
            <a:off x="7671600" y="1268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 txBox="1"/>
          <p:nvPr/>
        </p:nvSpPr>
        <p:spPr>
          <a:xfrm>
            <a:off x="250560" y="404280"/>
            <a:ext cx="87138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 наименьших квадратов применим и к уравнению множественной регрессии в стандартизированном масштабе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де                       -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ндартизированные переменные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которых среднее значение равно нулю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среднее квадратическое отклонение равно единице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     - стандартизированные коэффициенты регрессии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2" name="Object 1"/>
          <p:cNvGraphicFramePr/>
          <p:nvPr/>
        </p:nvGraphicFramePr>
        <p:xfrm>
          <a:off x="2411280" y="189000"/>
          <a:ext cx="3672000" cy="981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3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11280" y="189000"/>
                    <a:ext cx="3672000" cy="98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5" name="Object 3"/>
          <p:cNvGraphicFramePr/>
          <p:nvPr/>
        </p:nvGraphicFramePr>
        <p:xfrm>
          <a:off x="1692360" y="2205000"/>
          <a:ext cx="5257800" cy="615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6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92360" y="2205000"/>
                    <a:ext cx="5257800" cy="61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7" name="Прямоугольник 7"/>
          <p:cNvSpPr/>
          <p:nvPr/>
        </p:nvSpPr>
        <p:spPr>
          <a:xfrm>
            <a:off x="7671600" y="220500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9" name="Object 5"/>
          <p:cNvGraphicFramePr/>
          <p:nvPr/>
        </p:nvGraphicFramePr>
        <p:xfrm>
          <a:off x="900000" y="2997360"/>
          <a:ext cx="2089440" cy="585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40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900000" y="2997360"/>
                    <a:ext cx="2089440" cy="58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1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2" name="Object 7"/>
          <p:cNvGraphicFramePr/>
          <p:nvPr/>
        </p:nvGraphicFramePr>
        <p:xfrm>
          <a:off x="2771640" y="3645000"/>
          <a:ext cx="1440000" cy="9604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43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771640" y="3645000"/>
                    <a:ext cx="1440000" cy="96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4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5" name="Object 9"/>
          <p:cNvGraphicFramePr/>
          <p:nvPr/>
        </p:nvGraphicFramePr>
        <p:xfrm>
          <a:off x="4716360" y="3645000"/>
          <a:ext cx="1656000" cy="10033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46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716360" y="3645000"/>
                    <a:ext cx="1656000" cy="10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7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8" name="Object 11"/>
          <p:cNvGraphicFramePr/>
          <p:nvPr/>
        </p:nvGraphicFramePr>
        <p:xfrm>
          <a:off x="6948360" y="4581360"/>
          <a:ext cx="1559160" cy="5493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49" name="Object 11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948360" y="4581360"/>
                    <a:ext cx="1559160" cy="5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0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1" name="Object 16"/>
          <p:cNvGraphicFramePr/>
          <p:nvPr/>
        </p:nvGraphicFramePr>
        <p:xfrm>
          <a:off x="250920" y="5661000"/>
          <a:ext cx="2000160" cy="6476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352" name="Object 16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50920" y="5661000"/>
                    <a:ext cx="200016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3" name="Rectangle 1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4" name="Object 18"/>
          <p:cNvGraphicFramePr/>
          <p:nvPr/>
        </p:nvGraphicFramePr>
        <p:xfrm>
          <a:off x="2556000" y="5661000"/>
          <a:ext cx="382320" cy="5047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355" name="Object 18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556000" y="5661000"/>
                    <a:ext cx="38232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 txBox="1"/>
          <p:nvPr/>
        </p:nvSpPr>
        <p:spPr>
          <a:xfrm>
            <a:off x="179280" y="189000"/>
            <a:ext cx="8785440" cy="59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именяя МНК к уравнению множественной регрессии в стандартизированном масштабе, получим систему нормальных уравнений вида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де       и        – коэффициенты парной и межфакторной корреляци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8" name="Object 1"/>
          <p:cNvGraphicFramePr/>
          <p:nvPr/>
        </p:nvGraphicFramePr>
        <p:xfrm>
          <a:off x="684360" y="1844640"/>
          <a:ext cx="6480000" cy="2454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9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844640"/>
                    <a:ext cx="6480000" cy="245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1" name="Object 3"/>
          <p:cNvGraphicFramePr/>
          <p:nvPr/>
        </p:nvGraphicFramePr>
        <p:xfrm>
          <a:off x="826920" y="4581360"/>
          <a:ext cx="673200" cy="797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2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26920" y="4581360"/>
                    <a:ext cx="673200" cy="79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3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4" name="Object 5"/>
          <p:cNvGraphicFramePr/>
          <p:nvPr/>
        </p:nvGraphicFramePr>
        <p:xfrm>
          <a:off x="1763640" y="4581360"/>
          <a:ext cx="611280" cy="774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65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763640" y="4581360"/>
                    <a:ext cx="611280" cy="77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 txBox="1"/>
          <p:nvPr/>
        </p:nvSpPr>
        <p:spPr>
          <a:xfrm>
            <a:off x="179280" y="189000"/>
            <a:ext cx="8785440" cy="59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оэффициенты «чистой» регрессии       связаны со стандартизованными коэффициентами регрессии      следующим образом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8" name="Object 1"/>
          <p:cNvGraphicFramePr/>
          <p:nvPr/>
        </p:nvGraphicFramePr>
        <p:xfrm>
          <a:off x="6588000" y="189000"/>
          <a:ext cx="360360" cy="614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9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88000" y="189000"/>
                    <a:ext cx="360360" cy="61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1" name="Object 3"/>
          <p:cNvGraphicFramePr/>
          <p:nvPr/>
        </p:nvGraphicFramePr>
        <p:xfrm>
          <a:off x="2411280" y="1197000"/>
          <a:ext cx="395280" cy="520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72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11280" y="1197000"/>
                    <a:ext cx="395280" cy="52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3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4" name="Object 5"/>
          <p:cNvGraphicFramePr/>
          <p:nvPr/>
        </p:nvGraphicFramePr>
        <p:xfrm>
          <a:off x="1692360" y="1773360"/>
          <a:ext cx="2087640" cy="1452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75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692360" y="1773360"/>
                    <a:ext cx="2087640" cy="145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179280" y="189000"/>
            <a:ext cx="8785440" cy="59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.е. уравнения регрессии, которые связывают результативный признак с соответствующим фактором  при закреплении остальных факторов на среднем уровне. В развернутом виде систему можно переписать в виде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8" name="Object 1"/>
          <p:cNvGraphicFramePr/>
          <p:nvPr/>
        </p:nvGraphicFramePr>
        <p:xfrm>
          <a:off x="611280" y="2781360"/>
          <a:ext cx="7853400" cy="251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9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2781360"/>
                    <a:ext cx="7853400" cy="25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TextBox 3"/>
          <p:cNvSpPr/>
          <p:nvPr/>
        </p:nvSpPr>
        <p:spPr>
          <a:xfrm>
            <a:off x="285840" y="428760"/>
            <a:ext cx="8572320" cy="346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лан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.Спецификация модели. Отбор факторов при построении уравнения множественной регресс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.Метод наименьших квадратов (МНК). Свойства оценок на основе МН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179280" y="189000"/>
            <a:ext cx="8785440" cy="59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и подстановке в эти уравнения средних значений соответствующих факторов они принимают вид парных уравнений линейной регрессии, т.е. имее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д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2" name="Object 1"/>
          <p:cNvGraphicFramePr/>
          <p:nvPr/>
        </p:nvGraphicFramePr>
        <p:xfrm>
          <a:off x="826920" y="2205000"/>
          <a:ext cx="4824720" cy="29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3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2205000"/>
                    <a:ext cx="4824720" cy="29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179280" y="189000"/>
            <a:ext cx="8785440" cy="59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6" name="Object 1"/>
          <p:cNvGraphicFramePr/>
          <p:nvPr/>
        </p:nvGraphicFramePr>
        <p:xfrm>
          <a:off x="436680" y="836640"/>
          <a:ext cx="8096040" cy="295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7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6680" y="836640"/>
                    <a:ext cx="8096040" cy="295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250560" y="549000"/>
            <a:ext cx="8713800" cy="61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юм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ожественная регрессия – один из наиболее распространенных методов в эконометрике. Основная цель множественной регрессии – построить модель с большим числом факторов, определив при этом влияние каждого из них в отдельности, а также совокупное их воздействие на моделируемый показател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роение уравнения множественной регрессии начинается с решения вопроса о спецификации модели. Он включает в себя два круга вопросов: отбор факторов и выбор вида уравнения регресси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ключение в уравнение множественной регрессии того или иного набора факторов связано прежде всего с представлением исследователя о природе взаимосвязи моделируемого показателя с другими экономическими явлениям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468360" y="593640"/>
            <a:ext cx="8229600" cy="60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nstantia"/>
              </a:rPr>
              <a:t>Основная литература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Валентинов, В. А.  Эконометрика: учебник / В. А. Валентинов. - 2-е изд. - М. : Дашков и К°, 2009. - 445 с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Валентинов, В. А.  Эконометрика: практикум / В. А. Валентинов. - 3-е изд. - М.: Даш-ков и К°, 2010. - 435 с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Эконометрика: Учебник / Под ред. И.И. Елисеевой. – М.: Финансы и статистика, 2002. – 344 с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Практикум по эконометрике: Учебн. пособие / Под ред. И.И. Елисеевой. – М.: Финансы и статистика, 2003. – 192 с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nstantia"/>
              </a:rPr>
              <a:t>Дополнительная литература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Кремер Н.Ш., Путко Б.А. Эконометрика: Учебник для вузов / Под ред. проф. Н.Ш. Кремера. – М.: ЮНИТИ-ДАНА, 2002. – 311 с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Эконометрика: Учебник / Тихомиров Н.П., Дорохина Е.Ю. – М.: Издательство «Экзамен», 2003. – 512 с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Box 6"/>
          <p:cNvSpPr/>
          <p:nvPr/>
        </p:nvSpPr>
        <p:spPr>
          <a:xfrm>
            <a:off x="179280" y="189000"/>
            <a:ext cx="8785440" cy="55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опрос: Спецификация модели. Отбор факторов при построении уравнения множественной регресс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арная регрессия может дать хороший результат при моделировании, если влиянием других факторов, воздействующих на объект исследования, можно пренебречь. Если же этим влиянием пренебречь нельзя, то в этом случае следует попытаться выявить влияние других факторов, введя их в модель, т.е. построить уравнение множественной регресси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TextBox 6"/>
          <p:cNvSpPr/>
          <p:nvPr/>
        </p:nvSpPr>
        <p:spPr>
          <a:xfrm>
            <a:off x="500040" y="3141720"/>
            <a:ext cx="8248680" cy="25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де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зависимая переменная (результативный признак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– независимые, или объясняющие, переменные (признаки-факторы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13" descr=""/>
          <p:cNvPicPr/>
          <p:nvPr/>
        </p:nvPicPr>
        <p:blipFill>
          <a:blip r:embed="rId1"/>
          <a:stretch/>
        </p:blipFill>
        <p:spPr>
          <a:xfrm>
            <a:off x="2124000" y="836640"/>
            <a:ext cx="5910480" cy="8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TextBox 6"/>
          <p:cNvSpPr/>
          <p:nvPr/>
        </p:nvSpPr>
        <p:spPr>
          <a:xfrm>
            <a:off x="395280" y="1268280"/>
            <a:ext cx="86439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сновная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цель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множественной регрессии – построить модель с большим числом факторов, определив при этом влияние каждого из них в отдельности, а также совокупное их воздействие на моделируемый показател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Прямоугольник 4"/>
          <p:cNvSpPr/>
          <p:nvPr/>
        </p:nvSpPr>
        <p:spPr>
          <a:xfrm>
            <a:off x="395280" y="1484280"/>
            <a:ext cx="820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строение уравнения множественной регрессии начинается с решения вопроса о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пецификаци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модели. Он включает в себя два круга вопросо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бор фактор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бор вида уравнения регресс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TextBox 6"/>
          <p:cNvSpPr/>
          <p:nvPr/>
        </p:nvSpPr>
        <p:spPr>
          <a:xfrm>
            <a:off x="179280" y="476280"/>
            <a:ext cx="87886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 дополнительном включении в регрессию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+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актора коэффициент детерминации должен возрастать, а остаточная дисперсия уменьшатьс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8" name="Object 3"/>
          <p:cNvGraphicFramePr/>
          <p:nvPr/>
        </p:nvGraphicFramePr>
        <p:xfrm>
          <a:off x="785880" y="2857680"/>
          <a:ext cx="2467080" cy="92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5880" y="2857680"/>
                    <a:ext cx="2467080" cy="92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0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1" name="Object 5"/>
          <p:cNvGraphicFramePr/>
          <p:nvPr/>
        </p:nvGraphicFramePr>
        <p:xfrm>
          <a:off x="4633920" y="2786040"/>
          <a:ext cx="2509920" cy="979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2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33920" y="2786040"/>
                    <a:ext cx="2509920" cy="97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3" name="Rectangle 8"/>
          <p:cNvSpPr/>
          <p:nvPr/>
        </p:nvSpPr>
        <p:spPr>
          <a:xfrm>
            <a:off x="142920" y="3825360"/>
            <a:ext cx="87868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Если же этого не происходит и данные показатели практически не отличаются друг от друга, то включаемый в анализ фактор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mbria"/>
                <a:ea typeface="Times New Roman"/>
              </a:rPr>
              <a:t>не улучшает </a:t>
            </a:r>
            <a:r>
              <a:rPr b="0" lang="ru-RU" sz="3200" spc="-1" strike="noStrike">
                <a:solidFill>
                  <a:srgbClr val="000000"/>
                </a:solidFill>
                <a:latin typeface="Cambria"/>
                <a:ea typeface="Times New Roman"/>
              </a:rPr>
              <a:t>модель и практически является </a:t>
            </a:r>
            <a:r>
              <a:rPr b="1" lang="ru-RU" sz="3200" spc="-1" strike="noStrike">
                <a:solidFill>
                  <a:srgbClr val="000000"/>
                </a:solidFill>
                <a:latin typeface="Cambria"/>
                <a:ea typeface="Times New Roman"/>
              </a:rPr>
              <a:t>лишним фактором</a:t>
            </a:r>
            <a:r>
              <a:rPr b="0" lang="ru-RU" sz="3200" spc="-1" strike="noStrike">
                <a:solidFill>
                  <a:srgbClr val="000000"/>
                </a:solidFill>
                <a:latin typeface="Cambria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9"/>
          <p:cNvSpPr/>
          <p:nvPr/>
        </p:nvSpPr>
        <p:spPr>
          <a:xfrm>
            <a:off x="288360" y="6287040"/>
            <a:ext cx="22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mbria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6" name="Object 10"/>
          <p:cNvGraphicFramePr/>
          <p:nvPr/>
        </p:nvGraphicFramePr>
        <p:xfrm>
          <a:off x="8143920" y="4786200"/>
          <a:ext cx="803160" cy="647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77" name="Object 1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143920" y="4786200"/>
                    <a:ext cx="80316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TextBox 6"/>
          <p:cNvSpPr/>
          <p:nvPr/>
        </p:nvSpPr>
        <p:spPr>
          <a:xfrm>
            <a:off x="324000" y="476280"/>
            <a:ext cx="86439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усть, например, при изучении зависим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атрица парных коэффициентов корреляции оказалась следующе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1" name="Object 6"/>
          <p:cNvGraphicFramePr/>
          <p:nvPr/>
        </p:nvGraphicFramePr>
        <p:xfrm>
          <a:off x="285840" y="1000080"/>
          <a:ext cx="2428920" cy="59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2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5840" y="1000080"/>
                    <a:ext cx="2428920" cy="59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3" name=""/>
          <p:cNvGraphicFramePr/>
          <p:nvPr/>
        </p:nvGraphicFramePr>
        <p:xfrm>
          <a:off x="214200" y="2571840"/>
          <a:ext cx="8786880" cy="4143240"/>
        </p:xfrm>
        <a:graphic>
          <a:graphicData uri="http://schemas.openxmlformats.org/drawingml/2006/table">
            <a:tbl>
              <a:tblPr/>
              <a:tblGrid>
                <a:gridCol w="1757520"/>
                <a:gridCol w="1755720"/>
                <a:gridCol w="1758960"/>
                <a:gridCol w="1757520"/>
                <a:gridCol w="1757160"/>
              </a:tblGrid>
              <a:tr h="828720"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8720"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7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8360"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8720"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7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8720"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84" name="Object 10"/>
          <p:cNvGraphicFramePr/>
          <p:nvPr/>
        </p:nvGraphicFramePr>
        <p:xfrm>
          <a:off x="785880" y="4357800"/>
          <a:ext cx="571320" cy="571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5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5880" y="4357800"/>
                    <a:ext cx="57132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6" name="Object 9"/>
          <p:cNvGraphicFramePr/>
          <p:nvPr/>
        </p:nvGraphicFramePr>
        <p:xfrm>
          <a:off x="857160" y="5143680"/>
          <a:ext cx="571680" cy="58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87" name="Object 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57160" y="5143680"/>
                    <a:ext cx="571680" cy="58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8" name="Object 8"/>
          <p:cNvGraphicFramePr/>
          <p:nvPr/>
        </p:nvGraphicFramePr>
        <p:xfrm>
          <a:off x="785880" y="6010200"/>
          <a:ext cx="642960" cy="6336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89" name="Object 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85880" y="6010200"/>
                    <a:ext cx="642960" cy="63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0" name="Object 47"/>
          <p:cNvGraphicFramePr/>
          <p:nvPr/>
        </p:nvGraphicFramePr>
        <p:xfrm>
          <a:off x="7786800" y="2643120"/>
          <a:ext cx="642960" cy="6336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91" name="Object 4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786800" y="2643120"/>
                    <a:ext cx="642960" cy="63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2" name="Object 48"/>
          <p:cNvGraphicFramePr/>
          <p:nvPr/>
        </p:nvGraphicFramePr>
        <p:xfrm>
          <a:off x="6072120" y="2643120"/>
          <a:ext cx="571680" cy="5828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93" name="Object 48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072120" y="2643120"/>
                    <a:ext cx="57168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4" name="Object 49"/>
          <p:cNvGraphicFramePr/>
          <p:nvPr/>
        </p:nvGraphicFramePr>
        <p:xfrm>
          <a:off x="4286160" y="2643120"/>
          <a:ext cx="571680" cy="5716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95" name="Object 49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286160" y="2643120"/>
                    <a:ext cx="571680" cy="5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3T23:27:16Z</dcterms:created>
  <dc:creator>WIK</dc:creator>
  <dc:description/>
  <dc:language>en-US</dc:language>
  <cp:lastModifiedBy>Асия</cp:lastModifiedBy>
  <dcterms:modified xsi:type="dcterms:W3CDTF">2022-12-01T04:14:32Z</dcterms:modified>
  <cp:revision>153</cp:revision>
  <dc:subject/>
  <dc:title>Курс: «Эконометрика»  Преподаватель: Костюнин Владимир Ильич</dc:title>
</cp:coreProperties>
</file>