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7.wmf" ContentType="image/x-wmf"/>
  <Override PartName="/ppt/media/image12.wmf" ContentType="image/x-wmf"/>
  <Override PartName="/ppt/media/image10.wmf" ContentType="image/x-wmf"/>
  <Override PartName="/ppt/media/image2.png" ContentType="image/png"/>
  <Override PartName="/ppt/media/image28.png" ContentType="image/png"/>
  <Override PartName="/ppt/media/image5.png" ContentType="image/png"/>
  <Override PartName="/ppt/media/image13.wmf" ContentType="image/x-wmf"/>
  <Override PartName="/ppt/media/image4.jpeg" ContentType="image/jpeg"/>
  <Override PartName="/ppt/media/image8.wmf" ContentType="image/x-wmf"/>
  <Override PartName="/ppt/media/image9.wmf" ContentType="image/x-wmf"/>
  <Override PartName="/ppt/media/image27.png" ContentType="image/png"/>
  <Override PartName="/ppt/media/image30.wmf" ContentType="image/x-wmf"/>
  <Override PartName="/ppt/media/image31.png" ContentType="image/png"/>
  <Override PartName="/ppt/media/image14.wmf" ContentType="image/x-wmf"/>
  <Override PartName="/ppt/media/image29.png" ContentType="image/png"/>
  <Override PartName="/ppt/media/image11.wmf" ContentType="image/x-wmf"/>
  <Override PartName="/ppt/media/image3.png" ContentType="image/png"/>
  <Override PartName="/ppt/media/image6.wmf" ContentType="image/x-wmf"/>
  <Override PartName="/ppt/media/image1.jpeg" ContentType="image/jpeg"/>
  <Override PartName="/ppt/media/image15.wmf" ContentType="image/x-wmf"/>
  <Override PartName="/ppt/media/image16.wmf" ContentType="image/x-wmf"/>
  <Override PartName="/ppt/media/image18.wmf" ContentType="image/x-wmf"/>
  <Override PartName="/ppt/media/image20.wmf" ContentType="image/x-wmf"/>
  <Override PartName="/ppt/media/image17.png" ContentType="image/png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ECAC-437A-48DE-816B-0A765AD09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15C9-9CFB-4246-8C33-03F0A951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7057-BD3E-4113-85ED-5D9CF29AB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C4CD-4F1E-4CD1-8824-5422C14D7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B6F3-2811-4C83-AF45-7A244DD93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FD9EA-7A48-4E59-BF8B-6C0AB39B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B023-D479-498C-A2AF-51F27EA1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8AD8C-7FD1-4F5B-B1F6-6B7653A9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74BE-F7CB-4923-8471-6016552E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DFDD-8C03-4835-8422-47BD0E0D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DEB0-E527-4E54-9A76-D6A85BD5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3DEA-7071-4899-9468-0E9226E4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A648-F87A-49AD-BCCD-3C6DA91A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6DC5-4EA5-4B77-91C7-54E93A7C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D737-8999-453E-BB27-DD40D250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E0407-6768-4F96-AE4C-D1B977BAA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57D7-AC08-4EE2-8776-699314C02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44F88-BAA7-426F-8FEF-13E29F6A2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35C44-7F0D-4F2C-8BB3-165A62DB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A09FC-AC7B-432E-AEBE-5B3F635C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1EE4D-3C13-4104-9E6B-40846879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718DF-E4AB-4952-BB6B-947251F9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30D5-D4BD-4EC3-8730-F778185F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51C95-12AA-472E-890A-4C7E5F9D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BACC4-2BFA-4DCE-BFDE-D96054C0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04641-2760-48DA-9143-BF675BE3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CFA62-6D6E-4DD9-AF6C-9622D1F3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44FA4-515E-4FE5-8A86-C10CDC6A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E01CD-7EF8-4C27-A757-91664F5A5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EF148-D675-48E5-A6EC-A9BACA595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59F18-1B63-4E6F-947C-2FA35C0B1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C806E-123D-4EC4-89DF-CD00601E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3E162-9F14-4484-8DEC-B3AC7BA0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D31D-34A1-4B91-AECF-F6730FE0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4FFBE-F912-4F76-8BD0-49B1C365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EE5CC-5064-4E12-9C21-3A1A0A59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17645-8AC8-43B9-A951-F66465CB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8669C-C9BE-49BF-8E71-377B1C28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8A585-E7D4-4098-833B-50DC192E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7F07B-83CD-448F-9D28-06F867BC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F70FD-211A-4B2E-86D1-225A49DA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C8990-1348-411B-8B71-C2EBFCA47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210D5-4259-4A33-AD4F-2E6090082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0214-1ED6-4CAE-BE06-2B0F8C03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C400-A660-4D21-A223-094A5D61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7E38-7C15-4521-81BC-813F12B7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6D9D-72E9-49ED-8BAC-A3C27A2E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4F6D-EB44-4929-816F-D3DC3FF0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99CA-BB76-4E22-87EB-DE4EF05D2FA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D266-216A-45BA-A4B8-4974709FF87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C21A-0574-47FB-9EA2-DBC041412797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233A-2312-4227-A86B-7E65E3017C7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6.wmf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971640" y="549360"/>
            <a:ext cx="7704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нистерство образования и науки Республики Казахстан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агандинский университет имени Е.А. Букетов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КОНОМЕТРИК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: Статистические оценки распредел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В04106 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– Учет и ауди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тор:      Атабаева А.К.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D,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рший преподаватель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 занятий: лекци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аганда 20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2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          – оценка теоретической дисперси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– также является случайной переменной.  Вычитая (2) из (1), имеем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овательно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       зависит от (и только от) чисто случайной составляющей наблюдений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выборке. Поскольку эти составляющие меняются от выборки к выборке, также от выборки к выборке меняется и величина оценки        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Object 1"/>
          <p:cNvGraphicFramePr/>
          <p:nvPr/>
        </p:nvGraphicFramePr>
        <p:xfrm>
          <a:off x="1979640" y="189000"/>
          <a:ext cx="468360" cy="57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89000"/>
                    <a:ext cx="46836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Object 3"/>
          <p:cNvGraphicFramePr/>
          <p:nvPr/>
        </p:nvGraphicFramePr>
        <p:xfrm>
          <a:off x="2916360" y="1197000"/>
          <a:ext cx="3054240" cy="71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6360" y="1197000"/>
                    <a:ext cx="305424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5"/>
          <p:cNvGraphicFramePr/>
          <p:nvPr/>
        </p:nvGraphicFramePr>
        <p:xfrm>
          <a:off x="900000" y="2421000"/>
          <a:ext cx="6783480" cy="105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0000" y="2421000"/>
                    <a:ext cx="6783480" cy="10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5"/>
          <p:cNvGraphicFramePr/>
          <p:nvPr/>
        </p:nvGraphicFramePr>
        <p:xfrm>
          <a:off x="2771640" y="3573360"/>
          <a:ext cx="468360" cy="573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71640" y="3573360"/>
                    <a:ext cx="46836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6"/>
          <p:cNvGraphicFramePr/>
          <p:nvPr/>
        </p:nvGraphicFramePr>
        <p:xfrm>
          <a:off x="2987640" y="5373720"/>
          <a:ext cx="468360" cy="573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4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87640" y="5373720"/>
                    <a:ext cx="46836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17892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2. вопрос. Несмещенность, эффективность, состоятельность оцено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Содержимое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кольку оценки являются случайными переменными, их значения лишь по случайному совпадению могут в точности равняться характеристикам генеральной совокупности. Обычно будет присутствовать определенна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иб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ая может быть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ительн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ицательн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зависимости от чист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йны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ставляющих величин  в выбор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250920" y="259920"/>
            <a:ext cx="864216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тельно, чтобы математическое ожидание оценки равнялось соответствующей характеристике генеральной совокупности. Если это так, то оценка называется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ещенн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это не так, то оценка называется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щенно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ица между математическим ожиданием оценки и соответствующей теоретической характеристикой генеральной совокупности называется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щение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5092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ещенная оценк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 оценка, математическое ожидание которой совпадает с истинным значением определяемой характеристики. 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ещенная оценк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ладающая наименьшей дисперсией, называется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о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имптотическая несмещенность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чает, что математическое ожидание оценки сходится к истинному значению параметра с ростом объема выборки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179280" y="475920"/>
            <a:ext cx="85075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им выборочное среднее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ли оно несмещенной оценкой теоретического среднего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ли М(х) и     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это так, что непосредственно вытекает из (2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  включает две составляющие –     и     . Значение      равно средней чисто случайных составляющих величин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выборке, и, поскольку математическое ожидание такой составляющей в каждом наблюдении равно нулю, математическое ожидание      равно нулю. Следовательно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Object 1"/>
          <p:cNvGraphicFramePr/>
          <p:nvPr/>
        </p:nvGraphicFramePr>
        <p:xfrm>
          <a:off x="3203640" y="1989000"/>
          <a:ext cx="395280" cy="4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989000"/>
                    <a:ext cx="39528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Object 3"/>
          <p:cNvGraphicFramePr/>
          <p:nvPr/>
        </p:nvGraphicFramePr>
        <p:xfrm>
          <a:off x="7236000" y="2997360"/>
          <a:ext cx="32364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6000" y="2997360"/>
                    <a:ext cx="3236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Object 4"/>
          <p:cNvGraphicFramePr/>
          <p:nvPr/>
        </p:nvGraphicFramePr>
        <p:xfrm>
          <a:off x="6516720" y="3068640"/>
          <a:ext cx="336600" cy="41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16720" y="3068640"/>
                    <a:ext cx="33660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Object 5"/>
          <p:cNvGraphicFramePr/>
          <p:nvPr/>
        </p:nvGraphicFramePr>
        <p:xfrm>
          <a:off x="2124000" y="3429000"/>
          <a:ext cx="324000" cy="41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9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24000" y="3429000"/>
                    <a:ext cx="3240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Object 7"/>
          <p:cNvGraphicFramePr/>
          <p:nvPr/>
        </p:nvGraphicFramePr>
        <p:xfrm>
          <a:off x="2195640" y="5229360"/>
          <a:ext cx="323640" cy="419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1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95640" y="5229360"/>
                    <a:ext cx="3236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Object 8"/>
          <p:cNvGraphicFramePr/>
          <p:nvPr/>
        </p:nvGraphicFramePr>
        <p:xfrm>
          <a:off x="539640" y="5732640"/>
          <a:ext cx="7507440" cy="576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4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9640" y="5732640"/>
                    <a:ext cx="750744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25092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 не менее полученная оценка – не единственно возможная несмещенная оценка      . Предположим для простоты, что у нас есть выборка всего из двух наблюдений –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Любое взвешенное среднее наблюдений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 бы несмещенной оценкой, если сумма весов равна единице. Чтобы показать это, предположим, что мы построили обобщенную формулу оценки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6" name="Object 3"/>
          <p:cNvGraphicFramePr/>
          <p:nvPr/>
        </p:nvGraphicFramePr>
        <p:xfrm>
          <a:off x="5651640" y="692280"/>
          <a:ext cx="395280" cy="48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692280"/>
                    <a:ext cx="39528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Object 4"/>
          <p:cNvGraphicFramePr/>
          <p:nvPr/>
        </p:nvGraphicFramePr>
        <p:xfrm>
          <a:off x="1547640" y="4076640"/>
          <a:ext cx="4319640" cy="94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4076640"/>
                    <a:ext cx="431964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179280" y="189000"/>
            <a:ext cx="896472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ческое ожидание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умма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а единице, то мы имеем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вляется несмещенной оценкой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Object 1"/>
          <p:cNvGraphicFramePr/>
          <p:nvPr/>
        </p:nvGraphicFramePr>
        <p:xfrm>
          <a:off x="250920" y="907920"/>
          <a:ext cx="7921440" cy="5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07920"/>
                    <a:ext cx="792144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Object 3"/>
          <p:cNvGraphicFramePr/>
          <p:nvPr/>
        </p:nvGraphicFramePr>
        <p:xfrm>
          <a:off x="2050920" y="1700280"/>
          <a:ext cx="433440" cy="60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1700280"/>
                    <a:ext cx="43344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Object 5"/>
          <p:cNvGraphicFramePr/>
          <p:nvPr/>
        </p:nvGraphicFramePr>
        <p:xfrm>
          <a:off x="2771640" y="1752480"/>
          <a:ext cx="432000" cy="551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71640" y="1752480"/>
                    <a:ext cx="432000" cy="5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Object 7"/>
          <p:cNvGraphicFramePr/>
          <p:nvPr/>
        </p:nvGraphicFramePr>
        <p:xfrm>
          <a:off x="7667640" y="1773360"/>
          <a:ext cx="1282680" cy="57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3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67640" y="1773360"/>
                    <a:ext cx="128268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Object 9"/>
          <p:cNvGraphicFramePr/>
          <p:nvPr/>
        </p:nvGraphicFramePr>
        <p:xfrm>
          <a:off x="5796000" y="2276640"/>
          <a:ext cx="395280" cy="482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5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96000" y="2276640"/>
                    <a:ext cx="39528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179280" y="189000"/>
            <a:ext cx="878544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ожим, что мы имеем две оценки теоретического среднего, рассчитанные на основе одной и той же информации, что обе они являются несмещенными и что их функции плотности вероятности показаны на рис. 2. Поскольку функция плотности вероятности для оценки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«сжата», чем для оценк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 ее помощью мы скорее получим более точное значение. Формально говоря, эта оценка боле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7" name="Рисунок 3" descr="I"/>
          <p:cNvPicPr/>
          <p:nvPr/>
        </p:nvPicPr>
        <p:blipFill>
          <a:blip r:embed="rId1"/>
          <a:stretch/>
        </p:blipFill>
        <p:spPr>
          <a:xfrm>
            <a:off x="1476360" y="2852640"/>
            <a:ext cx="5472000" cy="3240360"/>
          </a:xfrm>
          <a:prstGeom prst="rect">
            <a:avLst/>
          </a:prstGeom>
          <a:ln w="0">
            <a:noFill/>
          </a:ln>
        </p:spPr>
      </p:pic>
      <p:sp>
        <p:nvSpPr>
          <p:cNvPr id="318" name="Прямоугольник 4"/>
          <p:cNvSpPr/>
          <p:nvPr/>
        </p:nvSpPr>
        <p:spPr>
          <a:xfrm>
            <a:off x="1547640" y="602136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ункции плотности вероя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179280" y="259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к, можно сделать вывод, чт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очное средне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ьшую дисперсию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 оценок рассматриваемого типа. Это означает, что оно имеет наиболее 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жато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оятностное распределе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круг истинного среднего и, следовательно наиболее точно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очное средне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наиболе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ценка среди всех несмещенных оценок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нные выводы верны для выборок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го размер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сл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 не зависят  друг от друг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заключительных замечания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эффективность оценок можно сравнивать лишь тогда, когда они используют одну и ту же информацию, например один и тот же набор наблюдений нескольких случайных переменных. Если одна из оценок использует в 10 раз больше информации, чем другая, то она вполне может иметь меньшую дисперсию, но было бы неправильно считать ее более эффективной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ограничивается понятие эффективности сравнением распределений несмещенных оценок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3"/>
          <p:cNvSpPr/>
          <p:nvPr/>
        </p:nvSpPr>
        <p:spPr>
          <a:xfrm>
            <a:off x="285840" y="428760"/>
            <a:ext cx="8572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Способы оценивания.  Выборочное среднее и выборочная дисперс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Несмещенность, эффективность, состоятельность оце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Влияние увеличения размера выборки на точность оце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речия между несмещенностью и минимальной дисперсие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ценки желательны несмещенность и наименьшая возможная дисперсия. Эти критерии совершенно различны, и иногда они могут противоречить друг другу. Может случиться так, что имеются две оценки теоретической характеристики, одна из которых является несмещенной ( А на рис. 3), другая же смещена, но имеет меньшую дисперсию ( В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2" name="Рисунок 3" descr="I"/>
          <p:cNvPicPr/>
          <p:nvPr/>
        </p:nvPicPr>
        <p:blipFill>
          <a:blip r:embed="rId1"/>
          <a:stretch/>
        </p:blipFill>
        <p:spPr>
          <a:xfrm>
            <a:off x="2268360" y="2781360"/>
            <a:ext cx="5688360" cy="3168720"/>
          </a:xfrm>
          <a:prstGeom prst="rect">
            <a:avLst/>
          </a:prstGeom>
          <a:ln w="0">
            <a:noFill/>
          </a:ln>
        </p:spPr>
      </p:pic>
      <p:sp>
        <p:nvSpPr>
          <p:cNvPr id="323" name="Прямоугольник 4"/>
          <p:cNvSpPr/>
          <p:nvPr/>
        </p:nvSpPr>
        <p:spPr>
          <a:xfrm>
            <a:off x="1619280" y="6093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унок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Две оценки теоретической характерис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ороша своей несмещенностью, но преимуществом оценк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вляется то, что ее значения практически всегда близки к истинному значению. Какую из них вы бы выбрали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й выбор зависит от обстоятельств. Если возможные ошибки вас не очень тревожат при условии, что за длительный период они «погасят» друг друга, то, по-видимому, вы выберет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другой стороны, если для вас приемлемы малые ошибки, но неприемлемы большие, то вам следует выбрать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Рисунок 3" descr="I"/>
          <p:cNvPicPr/>
          <p:nvPr/>
        </p:nvPicPr>
        <p:blipFill>
          <a:blip r:embed="rId1"/>
          <a:stretch/>
        </p:blipFill>
        <p:spPr>
          <a:xfrm>
            <a:off x="1619280" y="476280"/>
            <a:ext cx="5977080" cy="4176720"/>
          </a:xfrm>
          <a:prstGeom prst="rect">
            <a:avLst/>
          </a:prstGeom>
          <a:ln w="0">
            <a:noFill/>
          </a:ln>
        </p:spPr>
      </p:pic>
      <p:sp>
        <p:nvSpPr>
          <p:cNvPr id="326" name="Прямоугольник 4"/>
          <p:cNvSpPr/>
          <p:nvPr/>
        </p:nvSpPr>
        <p:spPr>
          <a:xfrm>
            <a:off x="2195640" y="49417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унок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Распределение вероят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250920" y="18864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и показанные на рис. 4, очень важны в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рессионно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нализе. Иногда невозможно найти оценку, несмещенную на малых выборках. Если при этом вы можете найти хотя бы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тельну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ценку, это может быть лучше, чем не иметь никакой оценк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, однако, иметь в виду, чт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тельн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ценка в принципе может на малых выборках работать хуже, чем несостоятельная (например, иметь большую среднеквадратичную ошибку), и поэтому требуется осторожность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179280" y="26028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вопрос. Влияние увеличения размера выборки на точность оценок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по-прежнему предполагать, что мы исследуем случайную переменную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с неизвестным математическим ожиданием       и теоретической дисперсией        и что для оценивания      используется  Каким образом точность оценки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висит от числа наблюдений 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Object 1"/>
          <p:cNvGraphicFramePr/>
          <p:nvPr/>
        </p:nvGraphicFramePr>
        <p:xfrm>
          <a:off x="4643280" y="2637000"/>
          <a:ext cx="397080" cy="48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2637000"/>
                    <a:ext cx="39708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Object 3"/>
          <p:cNvGraphicFramePr/>
          <p:nvPr/>
        </p:nvGraphicFramePr>
        <p:xfrm>
          <a:off x="2124000" y="2997360"/>
          <a:ext cx="466920" cy="46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2997360"/>
                    <a:ext cx="46692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Object 5"/>
          <p:cNvGraphicFramePr/>
          <p:nvPr/>
        </p:nvGraphicFramePr>
        <p:xfrm>
          <a:off x="8604360" y="2924280"/>
          <a:ext cx="395280" cy="512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7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604360" y="2924280"/>
                    <a:ext cx="39528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Object 1"/>
          <p:cNvGraphicFramePr/>
          <p:nvPr/>
        </p:nvGraphicFramePr>
        <p:xfrm>
          <a:off x="6084720" y="2997360"/>
          <a:ext cx="395280" cy="482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9" name="Object 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84720" y="2997360"/>
                    <a:ext cx="39528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179280" y="11592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при увеличении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ценк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тановится боле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н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единичном эксперимент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размеру выборка необязательно даст боле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ную оценк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ем меньшая выборка, – всегда может присутствовать элемент везения, – н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тенденц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а быть именно тако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кольку дисперсия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ается формуло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на тем меньше, чем больше размер выборки, и, значит, тем сильнее «сжата» функция плотности вероятности дл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Это показано на рис. 5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41" name="Object 2"/>
          <p:cNvGraphicFramePr/>
          <p:nvPr/>
        </p:nvGraphicFramePr>
        <p:xfrm>
          <a:off x="5364000" y="189000"/>
          <a:ext cx="395280" cy="51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0" y="189000"/>
                    <a:ext cx="39528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Object 3"/>
          <p:cNvGraphicFramePr/>
          <p:nvPr/>
        </p:nvGraphicFramePr>
        <p:xfrm>
          <a:off x="7667640" y="3068640"/>
          <a:ext cx="900000" cy="56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67640" y="3068640"/>
                    <a:ext cx="90000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Object 2"/>
          <p:cNvGraphicFramePr/>
          <p:nvPr/>
        </p:nvGraphicFramePr>
        <p:xfrm>
          <a:off x="3708360" y="3141720"/>
          <a:ext cx="395280" cy="512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7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08360" y="3141720"/>
                    <a:ext cx="39528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Object 6"/>
          <p:cNvGraphicFramePr/>
          <p:nvPr/>
        </p:nvGraphicFramePr>
        <p:xfrm>
          <a:off x="900000" y="4437000"/>
          <a:ext cx="395280" cy="51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9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0000" y="4437000"/>
                    <a:ext cx="39528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17928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1" name="Рисунок 3" descr="I"/>
          <p:cNvPicPr/>
          <p:nvPr/>
        </p:nvPicPr>
        <p:blipFill>
          <a:blip r:embed="rId1"/>
          <a:stretch/>
        </p:blipFill>
        <p:spPr>
          <a:xfrm>
            <a:off x="1187280" y="907920"/>
            <a:ext cx="6913800" cy="453708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1"/>
          <p:cNvSpPr/>
          <p:nvPr/>
        </p:nvSpPr>
        <p:spPr>
          <a:xfrm>
            <a:off x="1652760" y="5733720"/>
            <a:ext cx="59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Функции плотности вероя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250560" y="549000"/>
            <a:ext cx="87138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юме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цедура оценивания очень важна в исследованиях. Берется выборка из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наблюдений, и с помощью подходящей формулы рассчитывается оценка нужной характеристики. Нужно следить за терминами, делая важное различие между способом или формулой оценивания и рассчитанным по ней для данной выборки числом, являющимся значением оценки.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Способ оценивания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– это общее правило, или формула, в то время как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значение оценки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– это конкретное число, которое меняется от выборки к выборк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68360" y="593640"/>
            <a:ext cx="8229600" cy="60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Основная литература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алентинов, В. А.  Эконометрика: учебник / В. А. Валентинов. - 2-е изд. - М. : Дашков и К°, 2009. - 445 с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алентинов, В. А.  Эконометрика: практикум / В. А. Валентинов. - 3-е изд. - М.: Даш-ков и К°, 2010. - 435 с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Эконометрика: Учебник / Под ред. И.И. Елисеевой. – М.: Финансы и статистика, 2002. – 344 с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актикум по эконометрике: Учебн. пособие / Под ред. И.И. Елисеевой. – М.: Финансы и статистика, 2003. – 192 с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Дополнительная литература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ремер Н.Ш., Путко Б.А. Эконометрика: Учебник для вузов / Под ред. проф. Н.Ш. Кремера. – М.: ЮНИТИ-ДАНА, 2002. – 311 с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Эконометрика: Учебник / Тихомиров Н.П., Дорохина Е.Ю. – М.: Издательство «Экзамен», 2003. – 512 с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6"/>
          <p:cNvSpPr/>
          <p:nvPr/>
        </p:nvSpPr>
        <p:spPr>
          <a:xfrm>
            <a:off x="179280" y="260280"/>
            <a:ext cx="878868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опрос. Способы оценивания.  Выборочное среднее и выборочная дисперс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дура оценивания всегда одинаков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тся выборка из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блюдений, и с помощью подходящей формулы рассчитывается оценка нужной характеристи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оценив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общее правило или формул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оценк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конкретное число, которое меняется от выборки к выбор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6"/>
          <p:cNvSpPr/>
          <p:nvPr/>
        </p:nvSpPr>
        <p:spPr>
          <a:xfrm>
            <a:off x="324000" y="476280"/>
            <a:ext cx="8643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. 1 приведены формулы оценивания для двух важнейших характеристик генеральной совокупности.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очное средне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но дае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ческого ожид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формула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у дисперс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енеральной совокуп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Object 5"/>
          <p:cNvGraphicFramePr/>
          <p:nvPr/>
        </p:nvGraphicFramePr>
        <p:xfrm>
          <a:off x="3635280" y="1341360"/>
          <a:ext cx="43200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1341360"/>
                    <a:ext cx="43200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Object 7"/>
          <p:cNvGraphicFramePr/>
          <p:nvPr/>
        </p:nvGraphicFramePr>
        <p:xfrm>
          <a:off x="6659640" y="1700280"/>
          <a:ext cx="468360" cy="57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59640" y="1700280"/>
                    <a:ext cx="46836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324000" y="2963880"/>
          <a:ext cx="8496000" cy="3092400"/>
        </p:xfrm>
        <a:graphic>
          <a:graphicData uri="http://schemas.openxmlformats.org/drawingml/2006/table">
            <a:tbl>
              <a:tblPr/>
              <a:tblGrid>
                <a:gridCol w="4248000"/>
                <a:gridCol w="4248000"/>
              </a:tblGrid>
              <a:tr h="96840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и генеральной совокуп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ы оцени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200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е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200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ерсия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7" name="Object 12"/>
          <p:cNvGraphicFramePr/>
          <p:nvPr/>
        </p:nvGraphicFramePr>
        <p:xfrm>
          <a:off x="3276720" y="4149720"/>
          <a:ext cx="469800" cy="57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8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4149720"/>
                    <a:ext cx="46980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ct 11"/>
          <p:cNvGraphicFramePr/>
          <p:nvPr/>
        </p:nvGraphicFramePr>
        <p:xfrm>
          <a:off x="5148360" y="3933720"/>
          <a:ext cx="2474640" cy="104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0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48360" y="3933720"/>
                    <a:ext cx="247464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10"/>
          <p:cNvGraphicFramePr/>
          <p:nvPr/>
        </p:nvGraphicFramePr>
        <p:xfrm>
          <a:off x="3348000" y="4869000"/>
          <a:ext cx="719280" cy="720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2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48000" y="4869000"/>
                    <a:ext cx="71928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9"/>
          <p:cNvGraphicFramePr/>
          <p:nvPr/>
        </p:nvGraphicFramePr>
        <p:xfrm>
          <a:off x="4940280" y="4941720"/>
          <a:ext cx="3719520" cy="1079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4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40280" y="4941720"/>
                    <a:ext cx="37195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6"/>
          <p:cNvSpPr/>
          <p:nvPr/>
        </p:nvSpPr>
        <p:spPr>
          <a:xfrm>
            <a:off x="324000" y="476280"/>
            <a:ext cx="86439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ют и другие альтернативные способы оценки, но чаще всего используются именно э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а, по которой в действительности используется     , в том, что эта оценка в наилучшей степени соответствует двум очень важным критериям –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ещенн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(Эти критерии будут рассмотрены ниж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Object 11"/>
          <p:cNvGraphicFramePr/>
          <p:nvPr/>
        </p:nvGraphicFramePr>
        <p:xfrm>
          <a:off x="2771640" y="2421000"/>
          <a:ext cx="43200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2421000"/>
                    <a:ext cx="43200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50920" y="475920"/>
            <a:ext cx="86421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аемая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ставляет частный случай случайной переменной. Причина здесь в том, что сочетание значений  в выборке случайно, поскольку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лучайная переменная и, следовательно, случайной величиной является и функция набора ее значений. Возьмем, например,  – оценку математического ожидания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0" y="1019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Object 10"/>
          <p:cNvGraphicFramePr/>
          <p:nvPr/>
        </p:nvGraphicFramePr>
        <p:xfrm>
          <a:off x="6948360" y="2708280"/>
          <a:ext cx="43200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48360" y="2708280"/>
                    <a:ext cx="43200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Object 11"/>
          <p:cNvGraphicFramePr/>
          <p:nvPr/>
        </p:nvGraphicFramePr>
        <p:xfrm>
          <a:off x="1403280" y="4005360"/>
          <a:ext cx="5977080" cy="164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4005360"/>
                    <a:ext cx="597708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179280" y="333000"/>
            <a:ext cx="878544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ше мы показали, что величина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 наблюдении может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ь разложена на две составляющие: постоянную часть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чисто случайную составляющу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овательно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ыборочное среднее величин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юда можно видеть, что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подобно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меет как фиксированную, так и чисто случайную составляющие. Ее фиксированная составляющая –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есть математическое ожидание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ее случайная составляющая –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то есть среднее значение чисто случайной составляющей в выборк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Прямоугольник 4"/>
          <p:cNvSpPr/>
          <p:nvPr/>
        </p:nvSpPr>
        <p:spPr>
          <a:xfrm>
            <a:off x="7380360" y="1844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Object 7"/>
          <p:cNvGraphicFramePr/>
          <p:nvPr/>
        </p:nvGraphicFramePr>
        <p:xfrm>
          <a:off x="5219640" y="1052640"/>
          <a:ext cx="468360" cy="78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052640"/>
                    <a:ext cx="468360" cy="7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9"/>
          <p:cNvGraphicFramePr/>
          <p:nvPr/>
        </p:nvGraphicFramePr>
        <p:xfrm>
          <a:off x="8317080" y="836640"/>
          <a:ext cx="3729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7080" y="836640"/>
                    <a:ext cx="3729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Object 10"/>
          <p:cNvGraphicFramePr/>
          <p:nvPr/>
        </p:nvGraphicFramePr>
        <p:xfrm>
          <a:off x="684360" y="1700280"/>
          <a:ext cx="2292120" cy="69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7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1700280"/>
                    <a:ext cx="229212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Object 12"/>
          <p:cNvGraphicFramePr/>
          <p:nvPr/>
        </p:nvGraphicFramePr>
        <p:xfrm>
          <a:off x="684360" y="2852640"/>
          <a:ext cx="2208240" cy="57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0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4360" y="2852640"/>
                    <a:ext cx="22082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Object 14"/>
          <p:cNvGraphicFramePr/>
          <p:nvPr/>
        </p:nvGraphicFramePr>
        <p:xfrm>
          <a:off x="826920" y="3500280"/>
          <a:ext cx="395280" cy="513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3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6920" y="3500280"/>
                    <a:ext cx="39528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7"/>
          <p:cNvGraphicFramePr/>
          <p:nvPr/>
        </p:nvGraphicFramePr>
        <p:xfrm>
          <a:off x="5651640" y="3284640"/>
          <a:ext cx="468000" cy="780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5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51640" y="3284640"/>
                    <a:ext cx="468000" cy="7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Object 17"/>
          <p:cNvGraphicFramePr/>
          <p:nvPr/>
        </p:nvGraphicFramePr>
        <p:xfrm>
          <a:off x="4211640" y="4365720"/>
          <a:ext cx="449280" cy="579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8" name="Object 1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11640" y="4365720"/>
                    <a:ext cx="44928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9"/>
          <p:cNvGraphicFramePr/>
          <p:nvPr/>
        </p:nvGraphicFramePr>
        <p:xfrm>
          <a:off x="4859280" y="5300640"/>
          <a:ext cx="374760" cy="457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0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859280" y="5300640"/>
                    <a:ext cx="3747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10"/>
          <p:cNvGraphicFramePr/>
          <p:nvPr/>
        </p:nvGraphicFramePr>
        <p:xfrm>
          <a:off x="6588000" y="5732640"/>
          <a:ext cx="395280" cy="512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52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88000" y="5732640"/>
                    <a:ext cx="39528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Рисунок 3" descr="I"/>
          <p:cNvPicPr/>
          <p:nvPr/>
        </p:nvPicPr>
        <p:blipFill>
          <a:blip r:embed="rId1"/>
          <a:stretch/>
        </p:blipFill>
        <p:spPr>
          <a:xfrm>
            <a:off x="539640" y="404640"/>
            <a:ext cx="7993080" cy="431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4" name="Object 2"/>
          <p:cNvGraphicFramePr/>
          <p:nvPr/>
        </p:nvGraphicFramePr>
        <p:xfrm>
          <a:off x="0" y="457200"/>
          <a:ext cx="162000" cy="16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57200"/>
                    <a:ext cx="16200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1"/>
          <p:cNvGraphicFramePr/>
          <p:nvPr/>
        </p:nvGraphicFramePr>
        <p:xfrm>
          <a:off x="7956720" y="5013360"/>
          <a:ext cx="360360" cy="465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7" name="Object 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956720" y="5013360"/>
                    <a:ext cx="36036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Rectangle 3"/>
          <p:cNvSpPr/>
          <p:nvPr/>
        </p:nvSpPr>
        <p:spPr>
          <a:xfrm>
            <a:off x="1002960" y="4951080"/>
            <a:ext cx="713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1. Функции плотности вероятности дл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4380840" y="465840"/>
            <a:ext cx="38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mbria"/>
                <a:ea typeface="Times New Roman"/>
              </a:rPr>
              <a:t>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0" y="828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23:27:16Z</dcterms:created>
  <dc:creator>WIK</dc:creator>
  <dc:description/>
  <dc:language>en-US</dc:language>
  <cp:lastModifiedBy>Асия</cp:lastModifiedBy>
  <dcterms:modified xsi:type="dcterms:W3CDTF">2022-12-01T03:53:09Z</dcterms:modified>
  <cp:revision>161</cp:revision>
  <dc:subject/>
  <dc:title>Курс: «Эконометрика»  Преподаватель: Костюнин Владимир Ильич</dc:title>
</cp:coreProperties>
</file>