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40.wmf" ContentType="image/x-wmf"/>
  <Override PartName="/ppt/media/image8.wmf" ContentType="image/x-wmf"/>
  <Override PartName="/ppt/media/image4.jpeg" ContentType="image/jpeg"/>
  <Override PartName="/ppt/media/image38.wmf" ContentType="image/x-wmf"/>
  <Override PartName="/ppt/media/image30.wmf" ContentType="image/x-wmf"/>
  <Override PartName="/ppt/media/image42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FF6-A10D-4520-97A6-8FBFDC15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426-F033-47B0-A4B6-265FCFC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696-F801-4DDE-BB4B-C002237B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255-505D-41EB-902C-5349AD8C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3F33-8C0A-4D45-A739-DEF351B7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DB36-2501-40FC-9B33-7647CCEE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434E-1BE9-4B89-961C-38874793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C6A-7B8B-4C5A-918E-441011B2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01A-D96A-4909-B3DB-6088066B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3D8A-F857-4387-8B87-57FA26E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10EF-883F-488D-A9D1-ACC04E5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7BA-E5C9-4CD6-B76C-6A22122A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0403-CC01-433D-B8B1-B397BE1C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099C-7F58-4737-96C6-12E192A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4CA-3ED5-43DF-956B-9AC1BC20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DD3-78FE-45C6-B38B-85DF5D3C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AE86-77E7-4418-A315-69CAB12C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FFD4-B5B0-42B5-B2FD-73446EB5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DF04-E95B-42B2-A72F-EF6CA6C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619A-7A30-4429-9BC0-1A2B9DC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8F86-E26C-4801-9BC8-BC33865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317E-6AE7-4C6F-A3A9-29A1E22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270-BCD8-4D42-B34F-7B21BFF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3BA9-8933-4911-8E1F-A8667103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FFA4-317E-4EB4-9BD5-4D11F6F8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770B-3C78-4E50-919F-EBC545F7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6CF6-3E65-45FD-BED1-8E6B230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B4EE-6C7E-4670-BEAC-D408FA41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0B5D-5983-4096-9051-1B916423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963F-27EF-45E5-86DD-6E727FA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3DDF-B2F9-4228-869E-027BE1B0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4B86-170A-4371-BCF8-A69DFE6F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3952-CCBD-42F4-BB3A-15FF30D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BCC-677E-46CE-AA3F-30946C34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7026-8727-48AA-8355-9A52E74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8CCF3-54DA-420F-A296-4DA8CC3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5F35-EDAE-4D50-BA7B-80EFFC94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0A46-3743-4806-B989-7E272E2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E28A-243E-4BD7-834B-87860A4C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5FA0-975C-4360-B990-31D10F3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7858-96CD-4AA1-B1F4-56A73D9F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A75DD-8635-44C4-9D0E-9FFDFEC6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C751-7BF6-4428-BAD2-F6D431A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C228-B5DE-445C-B46F-4679CB49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EAA-4650-4F06-8D2A-007147C6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823D-603A-4695-BD92-02CED1F6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9FD9-7F4F-491B-A506-77D5FEBE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A76EB-1DA2-4EF0-9FAB-0380E9E0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1D49-3166-4BBB-9F1A-72B1B3E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A266-3F66-4E4A-8525-0C9B2F3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38D4-74C2-430B-ADEE-47749F0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5D2BA-DBDE-485E-BA6D-84C10A0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E329-6064-400C-B3A4-7E6E734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AA70-4101-4A7A-B50B-079E1217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75EC-3478-4CC4-B9CE-D24906E3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308-1A90-41BE-A48B-9C062280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F2BB-F9FD-426D-A413-F1ABFBED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9D0-351D-4512-ACD9-665CF7B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543-6F18-43EC-BD98-12A5BDA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246-A525-4286-94A0-6B5A1373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69B-5145-4244-BBAE-BC48244084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2D20-B96E-4EA3-91BB-7EFE86DD7A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1C9-7397-42AA-A09D-49D3276E330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098C-B1C2-4AB7-ABCA-92AE6B96C7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2730-5802-48E1-B0E3-C4A1F46D756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71640" y="549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инский университет имени Е.А. Букет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ЕТ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линейные модели парной регрессии и корреляц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В04106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Учет и ауд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     Атабаева А.К.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D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а 20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6"/>
          <p:cNvSpPr/>
          <p:nvPr/>
        </p:nvSpPr>
        <p:spPr>
          <a:xfrm>
            <a:off x="324000" y="476280"/>
            <a:ext cx="86439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огичным образом приводятся к линейному виду зависим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6084720" y="1413000"/>
          <a:ext cx="269424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413000"/>
                    <a:ext cx="2694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Object 5"/>
          <p:cNvGraphicFramePr/>
          <p:nvPr/>
        </p:nvGraphicFramePr>
        <p:xfrm>
          <a:off x="468360" y="1989000"/>
          <a:ext cx="259092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989000"/>
                    <a:ext cx="259092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6"/>
          <p:cNvSpPr/>
          <p:nvPr/>
        </p:nvSpPr>
        <p:spPr>
          <a:xfrm>
            <a:off x="179280" y="476280"/>
            <a:ext cx="8788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колько иначе обстоит дело с регрессия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инейными по оцениваемым параметр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делятся на два ти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инейные модели внутренне линей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риводятся к линейному виду с помощью соответствующих преобразований, например, логарифмир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инейные модели внутренне нелиней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 линейному виду не приводят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324000" y="476280"/>
            <a:ext cx="8643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внутренне линейным моделям относятся, например, степенная 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е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нен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т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6300720" y="965160"/>
          <a:ext cx="20876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965160"/>
                    <a:ext cx="2087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5"/>
          <p:cNvGraphicFramePr/>
          <p:nvPr/>
        </p:nvGraphicFramePr>
        <p:xfrm>
          <a:off x="3419640" y="1700280"/>
          <a:ext cx="208908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1700280"/>
                    <a:ext cx="2089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4211640" y="2708280"/>
          <a:ext cx="2160720" cy="8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708280"/>
                    <a:ext cx="21607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9"/>
          <p:cNvGraphicFramePr/>
          <p:nvPr/>
        </p:nvGraphicFramePr>
        <p:xfrm>
          <a:off x="3276720" y="3686040"/>
          <a:ext cx="2735280" cy="110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3686040"/>
                    <a:ext cx="27352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11"/>
          <p:cNvGraphicFramePr/>
          <p:nvPr/>
        </p:nvGraphicFramePr>
        <p:xfrm>
          <a:off x="2484360" y="5084640"/>
          <a:ext cx="2374920" cy="112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5084640"/>
                    <a:ext cx="23749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6"/>
          <p:cNvSpPr/>
          <p:nvPr/>
        </p:nvSpPr>
        <p:spPr>
          <a:xfrm>
            <a:off x="324000" y="476280"/>
            <a:ext cx="8643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внутренне нелинейным моделям можно, например, отнести следующие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84360" y="2133720"/>
          <a:ext cx="36399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36399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5"/>
          <p:cNvGraphicFramePr/>
          <p:nvPr/>
        </p:nvGraphicFramePr>
        <p:xfrm>
          <a:off x="755640" y="3716280"/>
          <a:ext cx="4229280" cy="15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716280"/>
                    <a:ext cx="4229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6"/>
          <p:cNvSpPr/>
          <p:nvPr/>
        </p:nvSpPr>
        <p:spPr>
          <a:xfrm>
            <a:off x="324000" y="476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нелинейных моделей наиболее часто используется степенная функция                        , которая приводится к линейному виду логарифмирова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3"/>
          <p:cNvGraphicFramePr/>
          <p:nvPr/>
        </p:nvGraphicFramePr>
        <p:xfrm>
          <a:off x="6227640" y="914400"/>
          <a:ext cx="23050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914400"/>
                    <a:ext cx="2305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971640" y="2565360"/>
          <a:ext cx="42782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565360"/>
                    <a:ext cx="42782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7"/>
          <p:cNvGraphicFramePr/>
          <p:nvPr/>
        </p:nvGraphicFramePr>
        <p:xfrm>
          <a:off x="1042920" y="3573360"/>
          <a:ext cx="560088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573360"/>
                    <a:ext cx="560088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9"/>
          <p:cNvGraphicFramePr/>
          <p:nvPr/>
        </p:nvGraphicFramePr>
        <p:xfrm>
          <a:off x="1116000" y="4365720"/>
          <a:ext cx="382284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4365720"/>
                    <a:ext cx="38228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12"/>
          <p:cNvSpPr/>
          <p:nvPr/>
        </p:nvSpPr>
        <p:spPr>
          <a:xfrm>
            <a:off x="461520" y="5375160"/>
            <a:ext cx="8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11"/>
          <p:cNvGraphicFramePr/>
          <p:nvPr/>
        </p:nvGraphicFramePr>
        <p:xfrm>
          <a:off x="1258920" y="5373720"/>
          <a:ext cx="705816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373720"/>
                    <a:ext cx="7058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3"/>
          <p:cNvSpPr/>
          <p:nvPr/>
        </p:nvSpPr>
        <p:spPr>
          <a:xfrm>
            <a:off x="4438800" y="1036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6"/>
          <p:cNvSpPr/>
          <p:nvPr/>
        </p:nvSpPr>
        <p:spPr>
          <a:xfrm>
            <a:off x="324000" y="47628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МНК мы применяем для преобразованных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3"/>
          <p:cNvGraphicFramePr/>
          <p:nvPr/>
        </p:nvGraphicFramePr>
        <p:xfrm>
          <a:off x="611280" y="1773360"/>
          <a:ext cx="55785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55785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Rectangle 5"/>
          <p:cNvSpPr/>
          <p:nvPr/>
        </p:nvSpPr>
        <p:spPr>
          <a:xfrm>
            <a:off x="250920" y="37206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 потенцированием находим иском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6"/>
          <p:cNvSpPr/>
          <p:nvPr/>
        </p:nvSpPr>
        <p:spPr>
          <a:xfrm>
            <a:off x="179280" y="476280"/>
            <a:ext cx="8788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использова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н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связано с тем, что параметр  в ней имеет четкое экономическое истолкование – он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ом эластич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Коэффициент эластичности показывает, на сколько процентов измениться в среднем результат, если фактор изменится на 1%.) Формула для расчета коэффициента эластичности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1476360" y="4724280"/>
          <a:ext cx="309564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724280"/>
                    <a:ext cx="30956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Прямоугольник 4"/>
          <p:cNvSpPr/>
          <p:nvPr/>
        </p:nvSpPr>
        <p:spPr>
          <a:xfrm>
            <a:off x="6516720" y="50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6"/>
          <p:cNvSpPr/>
          <p:nvPr/>
        </p:nvSpPr>
        <p:spPr>
          <a:xfrm>
            <a:off x="324000" y="476280"/>
            <a:ext cx="86439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ля остальных функций коэффициент эластичности не является постоянной величиной, а зависит от соответствующего значения фактор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обычно рассчитывается средний коэффициент эластич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3"/>
          <p:cNvGraphicFramePr/>
          <p:nvPr/>
        </p:nvGraphicFramePr>
        <p:xfrm>
          <a:off x="2411280" y="3789360"/>
          <a:ext cx="27831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789360"/>
                    <a:ext cx="27831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Прямоугольник 4"/>
          <p:cNvSpPr/>
          <p:nvPr/>
        </p:nvSpPr>
        <p:spPr>
          <a:xfrm>
            <a:off x="6300720" y="4221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6"/>
          <p:cNvSpPr/>
          <p:nvPr/>
        </p:nvSpPr>
        <p:spPr>
          <a:xfrm>
            <a:off x="179280" y="189000"/>
            <a:ext cx="878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учаи, когда расчет коэффициен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аст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меет смысла. Это происходит тогда, когда для рассматриваемых признаков бессмысленно определение изменения в проц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нелинейной регрессии, так же, как и в случае линейной зависимости, дополняется показателем тесноты связи. В данном случае это индекс корре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1258920" y="3357720"/>
          <a:ext cx="27367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357720"/>
                    <a:ext cx="2736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Object 5"/>
          <p:cNvGraphicFramePr/>
          <p:nvPr/>
        </p:nvGraphicFramePr>
        <p:xfrm>
          <a:off x="179280" y="4797360"/>
          <a:ext cx="280836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797360"/>
                    <a:ext cx="28083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7"/>
          <p:cNvGraphicFramePr/>
          <p:nvPr/>
        </p:nvGraphicFramePr>
        <p:xfrm>
          <a:off x="900000" y="5732640"/>
          <a:ext cx="309564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5732640"/>
                    <a:ext cx="30956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Rectangle 10"/>
          <p:cNvSpPr/>
          <p:nvPr/>
        </p:nvSpPr>
        <p:spPr>
          <a:xfrm>
            <a:off x="2992320" y="4800600"/>
            <a:ext cx="53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дисперсия результат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9"/>
          <p:cNvGraphicFramePr/>
          <p:nvPr/>
        </p:nvGraphicFramePr>
        <p:xfrm>
          <a:off x="0" y="0"/>
          <a:ext cx="162000" cy="2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16200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11"/>
          <p:cNvSpPr/>
          <p:nvPr/>
        </p:nvSpPr>
        <p:spPr>
          <a:xfrm>
            <a:off x="4431240" y="561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1"/>
          <p:cNvSpPr/>
          <p:nvPr/>
        </p:nvSpPr>
        <p:spPr>
          <a:xfrm>
            <a:off x="4211640" y="59500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точная 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2"/>
          <p:cNvSpPr/>
          <p:nvPr/>
        </p:nvSpPr>
        <p:spPr>
          <a:xfrm>
            <a:off x="6227640" y="3716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179280" y="260280"/>
            <a:ext cx="8785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индекса корреляции носит название индекса детерминации и характеризует долю дисперсии результативного признак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ясняемую регрессией, в общей дисперсии результативного призна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Object 8"/>
          <p:cNvGraphicFramePr/>
          <p:nvPr/>
        </p:nvGraphicFramePr>
        <p:xfrm>
          <a:off x="1332000" y="1989000"/>
          <a:ext cx="4176720" cy="13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417672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Прямоугольник 12"/>
          <p:cNvSpPr/>
          <p:nvPr/>
        </p:nvSpPr>
        <p:spPr>
          <a:xfrm>
            <a:off x="7164360" y="22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324000" y="350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меет тот же смысл, что и в линейной регрес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900000" y="4221000"/>
          <a:ext cx="410364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221000"/>
                    <a:ext cx="41036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285840" y="428760"/>
            <a:ext cx="857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Основные виды моделей нелинейной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Приведение нелинейных моделей к линейному ви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6"/>
          <p:cNvSpPr/>
          <p:nvPr/>
        </p:nvSpPr>
        <p:spPr>
          <a:xfrm>
            <a:off x="179280" y="18900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детерминации используется для проверки существенности в целом уравнения регрессии п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ритерию Фиш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Object 3"/>
          <p:cNvGraphicFramePr/>
          <p:nvPr/>
        </p:nvGraphicFramePr>
        <p:xfrm>
          <a:off x="2340000" y="1628640"/>
          <a:ext cx="419724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419724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Прямоугольник 12"/>
          <p:cNvSpPr/>
          <p:nvPr/>
        </p:nvSpPr>
        <p:spPr>
          <a:xfrm>
            <a:off x="738036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29"/>
          <p:cNvGraphicFramePr/>
          <p:nvPr/>
        </p:nvGraphicFramePr>
        <p:xfrm>
          <a:off x="826920" y="3708360"/>
          <a:ext cx="64944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08360"/>
                    <a:ext cx="6494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23"/>
          <p:cNvGraphicFramePr/>
          <p:nvPr/>
        </p:nvGraphicFramePr>
        <p:xfrm>
          <a:off x="1547640" y="5661000"/>
          <a:ext cx="172908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5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5661000"/>
                    <a:ext cx="17290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22"/>
          <p:cNvGraphicFramePr/>
          <p:nvPr/>
        </p:nvGraphicFramePr>
        <p:xfrm>
          <a:off x="250920" y="6165720"/>
          <a:ext cx="936360" cy="45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7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6165720"/>
                    <a:ext cx="93636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6"/>
          <p:cNvSpPr/>
          <p:nvPr/>
        </p:nvSpPr>
        <p:spPr>
          <a:xfrm>
            <a:off x="179280" y="3789360"/>
            <a:ext cx="878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- индекс детермин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аблюд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раметров при переменн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значе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я (1.23) сравнивается с табличным при уровне значимости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числе степеней свободы                      (для остаточной суммы квадратов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ля факторной суммы квадратов)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39"/>
          <p:cNvGraphicFramePr/>
          <p:nvPr/>
        </p:nvGraphicFramePr>
        <p:xfrm>
          <a:off x="4932360" y="5300640"/>
          <a:ext cx="36036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1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360" y="5300640"/>
                    <a:ext cx="36036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ежду экономическими явлениями существуют нелинейные соотношения, то они выражаются с помощью соответствующих нелинейны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два класса нелинейных регресс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и, нелинейные относительно включенных в анализ объясняющих переменных, но линейные по оцениваемым параметра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и нелинейные по оцениваемым параметра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и нелинейные по включенным переменным приводятся к линейному виду простой заменой переменных, а дальнейшая оценка параметров производится с помощью метода наименьших квадратов. Рассмотрим некоторые фун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68360" y="59364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снов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учебник / В. А. Валентинов. - 2-е изд. - М. : Дашков и К°, 2009. - 44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практикум / В. А. Валентинов. - 3-е изд. - М.: Даш-ков и К°, 2010. - 43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Под ред. И.И. Елисеевой. – М.: Финансы и статистика, 2002. – 3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 по эконометрике: Учебн. пособие / Под ред. И.И. Елисеевой. – М.: Финансы и статистика, 2003. – 19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полнитель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емер Н.Ш., Путко Б.А. Эконометрика: Учебник для вузов / Под ред. проф. Н.Ш. Кремера. – М.: ЮНИТИ-ДАНА, 2002. – 311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Тихомиров Н.П., Дорохина Е.Ю. – М.: Издательство «Экзамен», 2003. – 51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6"/>
          <p:cNvSpPr/>
          <p:nvPr/>
        </p:nvSpPr>
        <p:spPr>
          <a:xfrm>
            <a:off x="179280" y="189000"/>
            <a:ext cx="87854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прос: Основные виды мод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линейной ре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класса нелиней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гресс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егрессии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иней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ель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нал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ющи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енных, но линейные по оцениваемым параметрам, напри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омы различных степеней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яя гипербо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логарифмическая фун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64000" y="3068640"/>
          <a:ext cx="279720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3068640"/>
                    <a:ext cx="2797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4716360" y="3645000"/>
          <a:ext cx="38181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645000"/>
                    <a:ext cx="3818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7"/>
          <p:cNvGraphicFramePr/>
          <p:nvPr/>
        </p:nvGraphicFramePr>
        <p:xfrm>
          <a:off x="4788000" y="4321080"/>
          <a:ext cx="194472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321080"/>
                    <a:ext cx="19447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9"/>
          <p:cNvGraphicFramePr/>
          <p:nvPr/>
        </p:nvGraphicFramePr>
        <p:xfrm>
          <a:off x="5508720" y="5229360"/>
          <a:ext cx="242568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5229360"/>
                    <a:ext cx="2425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6"/>
          <p:cNvSpPr/>
          <p:nvPr/>
        </p:nvSpPr>
        <p:spPr>
          <a:xfrm>
            <a:off x="324000" y="47628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иней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метрам, на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нен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3"/>
          <p:cNvGraphicFramePr/>
          <p:nvPr/>
        </p:nvGraphicFramePr>
        <p:xfrm>
          <a:off x="2771640" y="1671480"/>
          <a:ext cx="2160720" cy="8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671480"/>
                    <a:ext cx="2160720" cy="8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3492360" y="2637000"/>
          <a:ext cx="23720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2637000"/>
                    <a:ext cx="23720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7"/>
          <p:cNvGraphicFramePr/>
          <p:nvPr/>
        </p:nvGraphicFramePr>
        <p:xfrm>
          <a:off x="4284720" y="3645000"/>
          <a:ext cx="2658960" cy="106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3645000"/>
                    <a:ext cx="26589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324000" y="47628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опрос: Приведение нелинейных моделей к линейному ви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гресс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иней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включенным переменным приводятся к линейному виду прост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ной перем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дальнейшая оценка параметров производится с помощь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а наименьших квадра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6"/>
          <p:cNvSpPr/>
          <p:nvPr/>
        </p:nvSpPr>
        <p:spPr>
          <a:xfrm>
            <a:off x="324000" y="476280"/>
            <a:ext cx="864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м некоторые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бола второй степени                  приводится к линейному виду с помощью замены:                         . В результате приходим к двухфакторному уравне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параметров которого при помощи МНК, приводит к системе следующих нормальных уравн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3"/>
          <p:cNvGraphicFramePr/>
          <p:nvPr/>
        </p:nvGraphicFramePr>
        <p:xfrm>
          <a:off x="5435640" y="1341360"/>
          <a:ext cx="3436920" cy="7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341360"/>
                    <a:ext cx="343692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5"/>
          <p:cNvGraphicFramePr/>
          <p:nvPr/>
        </p:nvGraphicFramePr>
        <p:xfrm>
          <a:off x="2050920" y="2384280"/>
          <a:ext cx="2737080" cy="6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384280"/>
                    <a:ext cx="27370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7"/>
          <p:cNvGraphicFramePr/>
          <p:nvPr/>
        </p:nvGraphicFramePr>
        <p:xfrm>
          <a:off x="468360" y="3573360"/>
          <a:ext cx="357984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573360"/>
                    <a:ext cx="3579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826920" y="260280"/>
          <a:ext cx="68313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60280"/>
                    <a:ext cx="68313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Прямоугольник 4"/>
          <p:cNvSpPr/>
          <p:nvPr/>
        </p:nvSpPr>
        <p:spPr>
          <a:xfrm>
            <a:off x="395280" y="249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сле обратной замены переменных 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971640" y="3141720"/>
          <a:ext cx="6913440" cy="22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141720"/>
                    <a:ext cx="691344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Прямоугольник 7"/>
          <p:cNvSpPr/>
          <p:nvPr/>
        </p:nvSpPr>
        <p:spPr>
          <a:xfrm>
            <a:off x="8172360" y="40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6"/>
          <p:cNvSpPr/>
          <p:nvPr/>
        </p:nvSpPr>
        <p:spPr>
          <a:xfrm>
            <a:off x="324000" y="476280"/>
            <a:ext cx="8643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 приводится к линейному уравнению простой замен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линейных уравнений при применении МНК будет выглядеть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5940360" y="1413000"/>
          <a:ext cx="1368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368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5"/>
          <p:cNvGraphicFramePr/>
          <p:nvPr/>
        </p:nvGraphicFramePr>
        <p:xfrm>
          <a:off x="611280" y="4076640"/>
          <a:ext cx="4968720" cy="22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076640"/>
                    <a:ext cx="496872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Прямоугольник 6"/>
          <p:cNvSpPr/>
          <p:nvPr/>
        </p:nvSpPr>
        <p:spPr>
          <a:xfrm>
            <a:off x="665964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Асия</cp:lastModifiedBy>
  <dcterms:modified xsi:type="dcterms:W3CDTF">2022-12-01T04:09:09Z</dcterms:modified>
  <cp:revision>104</cp:revision>
  <dc:subject/>
  <dc:title>Курс: «Эконометрика»  Преподаватель: Костюнин Владимир Ильич</dc:title>
</cp:coreProperties>
</file>