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2.png" ContentType="image/png"/>
  <Override PartName="/ppt/media/image11.png" ContentType="image/png"/>
  <Override PartName="/ppt/media/image6.wmf" ContentType="image/x-wmf"/>
  <Override PartName="/ppt/media/image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dt" idx="4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ftr" idx="4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 type="sldNum" idx="4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22D5F-C7FE-4921-8BFE-A3D7DA1A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5DFCA-E702-4F65-A136-D1D5BA7EDEF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F9F-883A-4413-A8CB-F0779C94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7D7-0321-4BBE-87CB-68DA183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DAB87-30E4-48E4-90D9-D7E8CF9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8217C-1F88-437E-B602-D41B3A10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02A38-4544-47E5-8FD8-F78AA36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771D4-A3C8-4CD0-AFA6-C89A3E1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C111B-6B4D-43E3-B29F-1400531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87AA7-FD8B-482E-B822-788FFF5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E8A2C-8C07-4DDF-9F9A-6498117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CA55-148C-4F19-BF42-DD969A64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7E5A7-AB35-45D5-9A52-51894C00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C8BEA-88A3-45AC-A349-907E90F4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FCA-5B18-45C0-B6C7-4DB821C1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16B2B-5FE5-4861-8DFB-86DDD2C8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B6BF9-7549-4CE2-9FBF-C792660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229C8-87F4-4D03-BF08-39E8591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CB575-5252-44B9-83EA-C44B21CA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BC32-DDA1-49B4-B5E6-5A2F26D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007BC-01CD-4B08-AFB5-3F30D0C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6A63-F16E-4FF3-AAFB-47886F9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24055-F96D-4CD7-9D57-AEF817BF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FF71B-1847-4F8F-97EA-5BC00CD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6745C-4059-4743-8EE0-57D68FC9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F75-2691-4289-8C6A-820C9F3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1213-EBFC-40B6-94EC-57B9695B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EA9DC-28DD-4045-BA8D-BDE80FB7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CD376-5FF1-4E0C-9669-425AE91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997E-85EB-40E4-9856-F765C0D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58DD7-9666-4E12-A886-F55FDDD8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FBAE2-A85B-4867-857B-EF7635E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0104F-B003-472A-9F3E-343C1FB7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D4F2D-0DFF-4CD3-B136-B7DE3E2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EA4C-CDF4-429F-A8F6-F74E9D6F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9DBD7-5658-4FCA-A034-25B40C4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941-C845-4DFF-A64A-D01A76EB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E86CA-9870-446F-B3D8-DE49B3C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692CE-4B56-45ED-9F8E-1493FFC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EAF2-821D-4743-9D66-ACF54AC5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C614E-B1FF-4CB9-BE26-84D2816E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153C-14D6-47EA-9538-BD7DFD1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A91E6-ACB3-40CB-9D7B-FD0D2ABC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95028-2CFD-4214-8648-84F2203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1EB4-4185-49CB-B215-90CC277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3F9DD-5F00-4712-852E-0AFAE56B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8F94-F443-4C02-9F3E-16C284E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4138-3930-4582-A564-B4D186D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78258-5C9A-4573-930C-9EA72EC3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D153-4BD7-458E-B70E-353F786D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A6D7D-14CE-41F1-887F-B8CE3C12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A619A-CDBB-4583-8C33-0755F6E6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14BFB-DDE8-4A9D-BCCA-9F605C03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377C5-1A93-4D9C-AFA5-5AAAC34E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3B32F-163B-4726-A8E7-2B5A9A0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AF669-2E7E-4B38-8E3B-A644156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5F523-3825-4EFE-AA13-8C77ECEA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79CD8-E0C6-48E6-BC20-D92F759C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38C-1E92-44CA-8FFA-878C780B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B059F-0DFA-4293-9EB1-0D6824B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D88D2-B4DF-4BEE-9D50-E5C68A7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999ED-D37E-46DD-934F-1F2FE2C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994AF-F0A0-476F-A767-1F98881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82D6A-25A2-48B6-B702-D8952F9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B9CB1-FF88-4A75-AABC-4AC49401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D2E22-3F3B-4626-897B-CB7BD596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FC192-F704-4BFE-9D22-A6C53838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68D5B-68F8-427C-B29C-0D7C1DD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78354-A6FC-4A71-B394-A49C3FF3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CF4-A646-447A-AB65-198A964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DEF35-7DB2-4ACF-AE22-4F4C8B0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8ADA3-C940-4CFA-B99B-4875FC7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3D7C3-DB3D-4450-9559-9E50C19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F1D50-1859-4A60-99AF-80CF762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A74A6-1523-453A-85E2-04327B9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64376-8F15-4680-8FF2-BB73F12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32556-23BA-4F05-8C14-3CAA6BFD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1325B-52E3-49CF-80C7-8ED43E8A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7F39A-6AD6-45FA-9FC4-0B55F633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F5C49-6DBC-4B77-A778-2104FDC8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904B-D446-48E4-B751-7940FFB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0977B-C52F-4EDE-89B2-CBB05301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74129-7CB2-432D-95E6-C71A51A9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117D3-F445-448C-A295-C692CDD6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D6B6B-761C-440D-A0AF-57FF305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915F3-E0B8-4002-8770-8FEFEEF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97721-BC26-4BBB-B886-C77CB3E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EC6E7-CE60-4212-ADBD-CD11696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FC369-925C-40E5-AD2E-2CDE0DE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B7751-F05F-4EE3-98B4-7B99D90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6C9AC-3E18-427C-AA0F-2B9CC601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8A7-3339-4E4E-A276-3BDFC75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18CC1-BC8B-4379-9E0D-EBA88C40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DE02-5C4E-4E70-A784-F054EDF2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E66-FF58-4EBB-984B-B12075F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5312-6D3D-46D8-9E58-C0F588F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D8C-D23D-46D0-82F4-21C4135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4B9-044B-4EC8-A26A-B91030F9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043B-FF95-4669-9374-6A70ACDB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C2C-2EB3-4E23-AE0F-2AD97A38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D8AE-5264-48EA-ACAE-0CDCB6F1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8691-A919-4FC0-BC9D-C044D03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D446-33F7-4915-8F11-E71F3A8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2D44-55D9-4130-9292-5D75E50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00F9-2E79-483F-B9CC-65F61E01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678-3451-4A7B-B9F7-F5E75F2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4B88-00EC-4FF6-9DB1-ABE12E2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69A3-A80C-487B-AACF-B74B3C20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84D3-74ED-4A38-856B-E9942C3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C185-531A-4C3D-977B-3C9391A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2B8A-D7D1-4284-BFA9-D9C4179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80B2-FD84-4B61-A436-FE2A4773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331A-F1A9-4EED-8F5D-2D879425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04FE-9169-4512-9252-D18F3F62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A9C5-7436-4073-B149-5B7EC247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C9A7-29C8-40C4-AB1B-5A71303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E0A-3236-4777-948E-2C809067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FAEF-6C3B-4708-9BAE-D517CA25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0B90-D44E-400C-AD80-01FF607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9DA6-3813-420A-9161-86E5A6FA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D0447-F85E-431A-B6D5-F6042A62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81EF-94BE-4C77-8F5D-CFB2886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D0F2-A079-420D-A031-0A82590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C993-BD9B-4895-A21F-F065C800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AA79A-8569-4349-807D-4B68B5C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6256-8262-45CA-983A-8D8E0EB2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2EB53-12A8-4860-BC47-B57DA746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227-362C-41F1-9CFC-3A702EBB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849B-E92F-4263-BDD9-1AD39D0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8468-85FA-4070-ABC9-8A0A1EB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E14FF-E834-4830-8CF6-DBB752B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969E-9417-4821-B32C-7787CC15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8697-D586-453F-B1C0-77DD972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CDFE-1EC3-4536-AB23-287C85D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14AFA-C826-4814-8B59-B0D95C9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D306-0C49-4888-8404-D136DE8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9428-2D54-49A7-A2B2-142CD8E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7EEC-CC1D-4E9B-B45E-95CCD31F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984-B56E-416B-B195-BEAEDDA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779B-0048-4CF6-BC2E-F4C9267D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83775-5D85-415F-A95F-A89A8C03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8044-EE55-4EE3-B5E7-70D217D1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4849E-69D5-4201-AF7E-5FEFBB9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D1BB-E2E9-4523-94CD-55B35F06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2D9F-680D-4312-A0C6-E3D73C6B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A0B00-7F99-4E26-B723-645B67E1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983C-F769-4A35-AB0D-1CAEA10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16BF2-5ACB-4BEC-82FF-C8800CD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39FCD-976A-40FC-9A1D-C5FEB1B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2AE-D359-4B0E-82DB-35077EC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D83BA-0D4C-4B8C-A586-EDF3D2E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A53CD-2649-4E2C-8FEC-6C7C446F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B806-C5FB-4681-B2A6-10808029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AB9E-E9FA-4D58-AFBA-F79BA3C0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E2A1-29B2-4809-AB3C-908BAAA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EBAFE-19CE-4906-B192-68535A4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46242-08A7-44C6-BA5C-95DD19E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73B1-5037-479E-83C1-604A00E2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BB10-1BD7-4C16-9263-82207C8E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DC51-B88C-4C55-85F8-5F2C3C16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997-D429-4239-97B1-BFE2717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6869-29C8-4456-AD7E-1C33A72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FB61-214B-4B92-A38D-0B310AC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2653-A1D4-4F38-8D8D-DA571815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9F5E3-DE92-473C-97AD-0221737C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C16E-44E1-465A-BF1E-62A2D25E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F787-E5CD-4CAB-B6CD-1FE8FA2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C7E3F-DE2B-4F78-A622-8129CE75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77936-5027-496F-926F-51B040A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9509-14B8-4AAC-9505-01797D8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5AEF5-ED40-4723-AA70-1A9A08FA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4A6-C220-4C0C-89B9-CD49E1C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08D2-2B47-410E-8F4A-E9B1C2F0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45B1C-FE98-4C29-81FC-ADC0729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6D161-9E31-49B0-85A4-97AA9D7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66AC-C2FF-489D-AF59-0F5206DE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1EBA-25ED-46EB-A3D5-432FB25E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19CB-7140-48D0-A412-0069CCB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60E2-8C4A-468A-8378-0A7253E4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A89BD-21BD-455B-AAA6-8ACD28FC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EC980-9E0D-407C-ABC7-B0B34C6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E334E-3237-4289-9EF2-88185A8F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6" name="Picture 15" descr="HD-PanelTitle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25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8" name="Picture 16" descr="HDRibbonTitle-UniformTrim.png"/>
            <p:cNvPicPr/>
            <p:nvPr/>
          </p:nvPicPr>
          <p:blipFill>
            <a:blip r:embed="rId7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9" descr="HDRibbonTitle-UniformTrim.png"/>
            <p:cNvPicPr/>
            <p:nvPr/>
          </p:nvPicPr>
          <p:blipFill>
            <a:blip r:embed="rId8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92440" y="187128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7983360" y="5037840"/>
            <a:ext cx="89712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2692440" y="5037840"/>
            <a:ext cx="52142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956800" y="5037840"/>
            <a:ext cx="55080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A81CC8-FF6C-4E4F-BEA2-6633E1244AA4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" name="Straight Connector 14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425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427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29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Garamond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Garamond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Garamond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Garamond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20DFFF-4B95-4EF3-840D-A7B326920FD5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472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474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PlaceHolder 1"/>
          <p:cNvSpPr>
            <a:spLocks noGrp="1"/>
          </p:cNvSpPr>
          <p:nvPr>
            <p:ph type="dt" idx="31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2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3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296D7A-32FE-4D8C-92BA-D88C6EA4BE57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518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Garamond"/>
                <a:ea typeface="Arial"/>
              </a:endParaRPr>
            </a:p>
          </p:txBody>
        </p:sp>
        <p:pic>
          <p:nvPicPr>
            <p:cNvPr id="520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22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Arial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E3A43-0F69-47F0-8482-F0A593D8815B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565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Garamond"/>
                <a:ea typeface="Arial"/>
              </a:endParaRPr>
            </a:p>
          </p:txBody>
        </p:sp>
        <p:pic>
          <p:nvPicPr>
            <p:cNvPr id="567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9" name="PlaceHolder 1"/>
          <p:cNvSpPr>
            <a:spLocks noGrp="1"/>
          </p:cNvSpPr>
          <p:nvPr>
            <p:ph type="dt" idx="37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38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9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F92F81-5678-47C3-9BCB-2B0B18E9BDF4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61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Garamond"/>
                <a:ea typeface="Arial"/>
              </a:endParaRPr>
            </a:p>
          </p:txBody>
        </p:sp>
        <p:pic>
          <p:nvPicPr>
            <p:cNvPr id="61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15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Arial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Arial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Arial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Arial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D6B290-2FFC-400F-8A22-448DA5B9F930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658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Garamond"/>
                <a:ea typeface="Arial"/>
              </a:endParaRPr>
            </a:p>
          </p:txBody>
        </p:sp>
        <p:pic>
          <p:nvPicPr>
            <p:cNvPr id="660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PlaceHolder 1"/>
          <p:cNvSpPr>
            <a:spLocks noGrp="1"/>
          </p:cNvSpPr>
          <p:nvPr>
            <p:ph type="dt" idx="43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ftr" idx="44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45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93888-2FA7-499E-ACCD-A88ED87B48D4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53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Garamond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Garamond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Garamond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Garamond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AE7777-FDB2-4286-ABE5-F06E21510E6B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00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102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54857A-C930-4818-87ED-B2B22F4B9D16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46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148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2435A-5201-49F1-A475-2582518ECA6F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Straight Connector 13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93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195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dt" idx="13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4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5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D6C37D-9A07-4BAE-8CC0-765D4F1F6518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239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241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43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Garamond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Garamond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Garamond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Garamond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F7FE46-F566-4332-8E28-9BB28B44E81B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286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288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dt" idx="19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20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21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906A14-3755-4E16-BAE8-564F8234D75B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332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334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36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Garamond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000" spc="-1" strike="noStrike">
                <a:solidFill>
                  <a:srgbClr val="262626"/>
                </a:solidFill>
                <a:latin typeface="Garamond"/>
                <a:ea typeface="Garamond"/>
              </a:rPr>
              <a:t>Второй уровень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aramond"/>
                <a:ea typeface="Garamond"/>
              </a:rPr>
              <a:t>Третий уровень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aramond"/>
                <a:ea typeface="Garamond"/>
              </a:rPr>
              <a:t>Четвертый уровень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1400" spc="-1" strike="noStrike">
                <a:solidFill>
                  <a:srgbClr val="262626"/>
                </a:solidFill>
                <a:latin typeface="Garamond"/>
                <a:ea typeface="Garamond"/>
              </a:rPr>
              <a:t>Пятый уровень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78E50-7FDD-44A8-B412-1A14B483BA13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379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pic>
          <p:nvPicPr>
            <p:cNvPr id="381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PlaceHolder 1"/>
          <p:cNvSpPr>
            <a:spLocks noGrp="1"/>
          </p:cNvSpPr>
          <p:nvPr>
            <p:ph type="dt" idx="25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6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7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Garamond"/>
                <a:ea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64058-C04C-4121-8FCC-DFBE817CEF09}" type="slidenum">
              <a:rPr b="0" lang="ru-RU" sz="1000" spc="-1" strike="noStrike">
                <a:solidFill>
                  <a:srgbClr val="000000"/>
                </a:solidFill>
                <a:latin typeface="Garamond"/>
                <a:ea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6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855520" y="184500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Garamond"/>
              </a:rPr>
              <a:t>Дисциплина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Garamond"/>
              </a:rPr>
              <a:t>Международный менеджмент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0" name="Подзаголовок 2"/>
          <p:cNvSpPr/>
          <p:nvPr/>
        </p:nvSpPr>
        <p:spPr>
          <a:xfrm>
            <a:off x="1847520" y="404640"/>
            <a:ext cx="845784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Карагандинский   университет  им. Е.А. Буке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692440" y="3657600"/>
            <a:ext cx="6815160" cy="40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7М04104 "Менеджмент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одзаголовок 7"/>
          <p:cNvSpPr/>
          <p:nvPr/>
        </p:nvSpPr>
        <p:spPr>
          <a:xfrm>
            <a:off x="2279520" y="4005000"/>
            <a:ext cx="792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89000"/>
          </a:bodyPr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Автор                                                                       Дарибеков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ид занятия:                                                            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Прямоугольник 1"/>
          <p:cNvSpPr/>
          <p:nvPr/>
        </p:nvSpPr>
        <p:spPr>
          <a:xfrm>
            <a:off x="1164600" y="936000"/>
            <a:ext cx="9985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Международный менеджмент охватыв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пять основных сфер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фирменным бизнес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оугольник 2"/>
          <p:cNvSpPr/>
          <p:nvPr/>
        </p:nvSpPr>
        <p:spPr>
          <a:xfrm>
            <a:off x="1164600" y="1841400"/>
            <a:ext cx="93848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исследование, анализ и оценка внешней среды бизнеса и внутренней среды орган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процесс коммуникации и принятия решений (включая модели и мето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базовые функции управления (стратегическое планирование и реализация стратегий, построение организации, мотивация, контроль и координац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опросы групповой динамики и рук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опросы эффективности деятельности фирмы (управление персоналом, производством, маркетингом, управление производительностью в цел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Прямоугольник 1"/>
          <p:cNvSpPr/>
          <p:nvPr/>
        </p:nvSpPr>
        <p:spPr>
          <a:xfrm>
            <a:off x="973440" y="1380240"/>
            <a:ext cx="10244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Основные особенности международного менеджмента, так или иначе, лежат в сфере учета и использования в управлении национальными и мультинациональными коллективами всего того, что дает культура в самом широком значении эт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Прямоугольник 1"/>
          <p:cNvSpPr/>
          <p:nvPr/>
        </p:nvSpPr>
        <p:spPr>
          <a:xfrm>
            <a:off x="982800" y="1028880"/>
            <a:ext cx="99079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Целевая ориентация фирмы, решившей выходить в международный бизнес, сосредоточивается на трех основных направлениях, которые можно считать особенностями, но не принципиальными отличиями от национальной мод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поиск и освоение новых рын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поиск и использование эффективных 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использование возможностей, открывающихся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бизнеса в рамках данной страны и/или международной правов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оугольник 1"/>
          <p:cNvSpPr/>
          <p:nvPr/>
        </p:nvSpPr>
        <p:spPr>
          <a:xfrm>
            <a:off x="764280" y="1261440"/>
            <a:ext cx="9648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комплексное изучение, анализ и оценка внешней среды международного бизнеса в интересах поиска и реализации источников конкурентных преимуществ фи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углубленный анализ и оценка культурного фона в каждой стране пребывания и использования его возможностей (учет ограничений) при выработке стратегических, тактических и оперативных решений по функционированию и развитию фирмы как в данной стране, так и в це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оценка, выбор и практическое использование организационных форм, в рамках которых осуществляются зарубежные операции фирмы, с тем чтобы максимизировать 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использования экономического потенциала и правовых возможностей стран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формирование и развитие мультинационального коллектива фирмы и ее подразделений в стране базирования и в странах пребывания в интересах максимального использования личного потенциала работников, возможностей отдельных коллективов и кросс-национальных эффектов от их взаимодействия внутри фи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поиск, развитие и эффективное использование разнообразных возможностей международного бизнес-сервиса, и прежде всего – в сферах финансового, технологического и информационного обслуживания экономических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99520" y="1052640"/>
            <a:ext cx="9600840" cy="136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8" name="Прямоугольник 4"/>
          <p:cNvSpPr/>
          <p:nvPr/>
        </p:nvSpPr>
        <p:spPr>
          <a:xfrm>
            <a:off x="1295280" y="2642040"/>
            <a:ext cx="889920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2.1 Определение и классификация сред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2.2 Факторы изменений международной сред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2.3 Методы анализа макросред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775520" y="620640"/>
            <a:ext cx="95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kk-KZ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2. Менеджмент внешней среды международной комп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Овал 2"/>
          <p:cNvSpPr/>
          <p:nvPr/>
        </p:nvSpPr>
        <p:spPr>
          <a:xfrm>
            <a:off x="2361240" y="1242000"/>
            <a:ext cx="7383240" cy="3343320"/>
          </a:xfrm>
          <a:prstGeom prst="ellipse">
            <a:avLst/>
          </a:prstGeom>
          <a:solidFill>
            <a:srgbClr val="ffff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РОСРЕДА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ST -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Рисунок 3" descr=""/>
          <p:cNvPicPr/>
          <p:nvPr/>
        </p:nvPicPr>
        <p:blipFill>
          <a:blip r:embed="rId1"/>
          <a:stretch/>
        </p:blipFill>
        <p:spPr>
          <a:xfrm>
            <a:off x="3937320" y="2231280"/>
            <a:ext cx="4859640" cy="167832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4"/>
          <p:cNvSpPr/>
          <p:nvPr/>
        </p:nvSpPr>
        <p:spPr>
          <a:xfrm>
            <a:off x="4790520" y="3944160"/>
            <a:ext cx="27702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upright="1">
            <a:no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среда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оугольник 5"/>
          <p:cNvSpPr/>
          <p:nvPr/>
        </p:nvSpPr>
        <p:spPr>
          <a:xfrm>
            <a:off x="2556720" y="4889880"/>
            <a:ext cx="6955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исунок 2.1 Структура внешней и внутренней среды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Группа 1"/>
          <p:cNvGrpSpPr/>
          <p:nvPr/>
        </p:nvGrpSpPr>
        <p:grpSpPr>
          <a:xfrm>
            <a:off x="2529720" y="1733400"/>
            <a:ext cx="7492320" cy="3768840"/>
            <a:chOff x="2529720" y="1733400"/>
            <a:chExt cx="7492320" cy="3768840"/>
          </a:xfrm>
        </p:grpSpPr>
        <p:sp>
          <p:nvSpPr>
            <p:cNvPr id="745" name="Прямоугольник 2"/>
            <p:cNvSpPr/>
            <p:nvPr/>
          </p:nvSpPr>
          <p:spPr>
            <a:xfrm>
              <a:off x="2529720" y="1733400"/>
              <a:ext cx="3160440" cy="4208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оварная поли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Прямоугольник 3"/>
            <p:cNvSpPr/>
            <p:nvPr/>
          </p:nvSpPr>
          <p:spPr>
            <a:xfrm>
              <a:off x="2529720" y="2359440"/>
              <a:ext cx="3160440" cy="4208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Ценовая поли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Прямоугольник 4"/>
            <p:cNvSpPr/>
            <p:nvPr/>
          </p:nvSpPr>
          <p:spPr>
            <a:xfrm>
              <a:off x="2548440" y="3555360"/>
              <a:ext cx="3271680" cy="3412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бытовая поли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Прямоугольник 5"/>
            <p:cNvSpPr/>
            <p:nvPr/>
          </p:nvSpPr>
          <p:spPr>
            <a:xfrm>
              <a:off x="2604240" y="4124520"/>
              <a:ext cx="3271680" cy="534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тратегия национализации рыночных отнош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Прямоугольник 6"/>
            <p:cNvSpPr/>
            <p:nvPr/>
          </p:nvSpPr>
          <p:spPr>
            <a:xfrm>
              <a:off x="6564240" y="1733400"/>
              <a:ext cx="3383280" cy="4208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ласть  (капитал, связ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Прямоугольник 7"/>
            <p:cNvSpPr/>
            <p:nvPr/>
          </p:nvSpPr>
          <p:spPr>
            <a:xfrm>
              <a:off x="6638760" y="2359440"/>
              <a:ext cx="3383280" cy="6030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0000"/>
                </a:lnSpc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лияние (</a:t>
              </a: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сокие технологии, квалификация, конкурентоспособность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Прямоугольник 8"/>
            <p:cNvSpPr/>
            <p:nvPr/>
          </p:nvSpPr>
          <p:spPr>
            <a:xfrm>
              <a:off x="6638760" y="3111120"/>
              <a:ext cx="3383280" cy="5119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just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верие (признание, имидж, юридическое согласова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Прямоугольник 9"/>
            <p:cNvSpPr/>
            <p:nvPr/>
          </p:nvSpPr>
          <p:spPr>
            <a:xfrm>
              <a:off x="6638760" y="4033440"/>
              <a:ext cx="3383280" cy="626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тратегия интернационализации рыночных отно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3" name="Прямая со стрелкой 10"/>
            <p:cNvCxnSpPr/>
            <p:nvPr/>
          </p:nvCxnSpPr>
          <p:spPr>
            <a:xfrm>
              <a:off x="4221360" y="2154240"/>
              <a:ext cx="360" cy="2055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54" name="Прямая со стрелкой 11"/>
            <p:cNvCxnSpPr/>
            <p:nvPr/>
          </p:nvCxnSpPr>
          <p:spPr>
            <a:xfrm>
              <a:off x="4258800" y="2780640"/>
              <a:ext cx="360" cy="1825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55" name="Прямая со стрелкой 12"/>
            <p:cNvCxnSpPr/>
            <p:nvPr/>
          </p:nvCxnSpPr>
          <p:spPr>
            <a:xfrm>
              <a:off x="4258800" y="3908160"/>
              <a:ext cx="360" cy="2167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56" name="Прямоугольник 13"/>
            <p:cNvSpPr/>
            <p:nvPr/>
          </p:nvSpPr>
          <p:spPr>
            <a:xfrm>
              <a:off x="3812760" y="4910400"/>
              <a:ext cx="4907880" cy="5918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оцесс интернационализации эффективного взаимодействия бизнес - партне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Прямая со стрелкой 14"/>
            <p:cNvCxnSpPr/>
            <p:nvPr/>
          </p:nvCxnSpPr>
          <p:spPr>
            <a:xfrm>
              <a:off x="4258800" y="4659480"/>
              <a:ext cx="360" cy="2167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58" name="Прямая со стрелкой 15"/>
            <p:cNvCxnSpPr/>
            <p:nvPr/>
          </p:nvCxnSpPr>
          <p:spPr>
            <a:xfrm>
              <a:off x="8348760" y="2154240"/>
              <a:ext cx="360" cy="2055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59" name="Прямая со стрелкой 16"/>
            <p:cNvCxnSpPr/>
            <p:nvPr/>
          </p:nvCxnSpPr>
          <p:spPr>
            <a:xfrm>
              <a:off x="8442000" y="2962800"/>
              <a:ext cx="18720" cy="1486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60" name="Прямая со стрелкой 17"/>
            <p:cNvCxnSpPr/>
            <p:nvPr/>
          </p:nvCxnSpPr>
          <p:spPr>
            <a:xfrm flipH="1">
              <a:off x="8442000" y="3623400"/>
              <a:ext cx="18720" cy="4104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61" name="Прямая со стрелкой 18"/>
            <p:cNvCxnSpPr/>
            <p:nvPr/>
          </p:nvCxnSpPr>
          <p:spPr>
            <a:xfrm>
              <a:off x="8460360" y="4659480"/>
              <a:ext cx="360" cy="2167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762" name="Прямоугольник 19"/>
          <p:cNvSpPr/>
          <p:nvPr/>
        </p:nvSpPr>
        <p:spPr>
          <a:xfrm>
            <a:off x="2529720" y="2713320"/>
            <a:ext cx="3141720" cy="342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уникативн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20"/>
          <p:cNvSpPr/>
          <p:nvPr/>
        </p:nvSpPr>
        <p:spPr>
          <a:xfrm>
            <a:off x="2784240" y="1000080"/>
            <a:ext cx="7163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Характеристики                                 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национального  рынка                      интернацион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21"/>
          <p:cNvSpPr/>
          <p:nvPr/>
        </p:nvSpPr>
        <p:spPr>
          <a:xfrm>
            <a:off x="2608560" y="5697720"/>
            <a:ext cx="7515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исунок 2.2 Процесс интернационализации рыноч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Группа 1"/>
          <p:cNvGrpSpPr/>
          <p:nvPr/>
        </p:nvGrpSpPr>
        <p:grpSpPr>
          <a:xfrm>
            <a:off x="2306160" y="1409760"/>
            <a:ext cx="6892200" cy="3134880"/>
            <a:chOff x="2306160" y="1409760"/>
            <a:chExt cx="6892200" cy="3134880"/>
          </a:xfrm>
        </p:grpSpPr>
        <p:cxnSp>
          <p:nvCxnSpPr>
            <p:cNvPr id="766" name="AutoShape 25"/>
            <p:cNvCxnSpPr/>
            <p:nvPr/>
          </p:nvCxnSpPr>
          <p:spPr>
            <a:xfrm flipV="1">
              <a:off x="2306160" y="4004280"/>
              <a:ext cx="360" cy="5407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67" name="AutoShape 26"/>
            <p:cNvCxnSpPr/>
            <p:nvPr/>
          </p:nvCxnSpPr>
          <p:spPr>
            <a:xfrm>
              <a:off x="2306160" y="4004280"/>
              <a:ext cx="120564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68" name="AutoShape 27"/>
            <p:cNvCxnSpPr/>
            <p:nvPr/>
          </p:nvCxnSpPr>
          <p:spPr>
            <a:xfrm flipV="1">
              <a:off x="3511440" y="3265920"/>
              <a:ext cx="1800" cy="7387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69" name="AutoShape 28"/>
            <p:cNvCxnSpPr/>
            <p:nvPr/>
          </p:nvCxnSpPr>
          <p:spPr>
            <a:xfrm>
              <a:off x="3511440" y="3265920"/>
              <a:ext cx="126216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0" name="AutoShape 29"/>
            <p:cNvCxnSpPr/>
            <p:nvPr/>
          </p:nvCxnSpPr>
          <p:spPr>
            <a:xfrm flipV="1">
              <a:off x="4773240" y="2641320"/>
              <a:ext cx="1440" cy="6249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1" name="AutoShape 30"/>
            <p:cNvCxnSpPr/>
            <p:nvPr/>
          </p:nvCxnSpPr>
          <p:spPr>
            <a:xfrm>
              <a:off x="4773240" y="2641320"/>
              <a:ext cx="165744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2" name="AutoShape 31"/>
            <p:cNvCxnSpPr/>
            <p:nvPr/>
          </p:nvCxnSpPr>
          <p:spPr>
            <a:xfrm flipV="1">
              <a:off x="6430320" y="2059200"/>
              <a:ext cx="1440" cy="5824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3" name="AutoShape 32"/>
            <p:cNvCxnSpPr/>
            <p:nvPr/>
          </p:nvCxnSpPr>
          <p:spPr>
            <a:xfrm>
              <a:off x="6430320" y="2059200"/>
              <a:ext cx="129960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4" name="AutoShape 33"/>
            <p:cNvCxnSpPr/>
            <p:nvPr/>
          </p:nvCxnSpPr>
          <p:spPr>
            <a:xfrm flipV="1">
              <a:off x="7729560" y="1409760"/>
              <a:ext cx="1800" cy="6498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775" name="AutoShape 34"/>
            <p:cNvCxnSpPr/>
            <p:nvPr/>
          </p:nvCxnSpPr>
          <p:spPr>
            <a:xfrm>
              <a:off x="7729560" y="1409760"/>
              <a:ext cx="146916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</p:grpSp>
      <p:sp>
        <p:nvSpPr>
          <p:cNvPr id="776" name="Прямоугольник 12"/>
          <p:cNvSpPr/>
          <p:nvPr/>
        </p:nvSpPr>
        <p:spPr>
          <a:xfrm>
            <a:off x="2079000" y="4030920"/>
            <a:ext cx="1605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1. Ме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13"/>
          <p:cNvSpPr/>
          <p:nvPr/>
        </p:nvSpPr>
        <p:spPr>
          <a:xfrm>
            <a:off x="3382560" y="3265920"/>
            <a:ext cx="1762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2. Нач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оугольник 14"/>
          <p:cNvSpPr/>
          <p:nvPr/>
        </p:nvSpPr>
        <p:spPr>
          <a:xfrm>
            <a:off x="4773240" y="2599560"/>
            <a:ext cx="1477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3.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15"/>
          <p:cNvSpPr/>
          <p:nvPr/>
        </p:nvSpPr>
        <p:spPr>
          <a:xfrm>
            <a:off x="6165360" y="1956240"/>
            <a:ext cx="15627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4. Стад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16"/>
          <p:cNvSpPr/>
          <p:nvPr/>
        </p:nvSpPr>
        <p:spPr>
          <a:xfrm>
            <a:off x="7551720" y="1317240"/>
            <a:ext cx="2055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5. Многонацио-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нальная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7"/>
          <p:cNvSpPr/>
          <p:nvPr/>
        </p:nvSpPr>
        <p:spPr>
          <a:xfrm>
            <a:off x="3394440" y="4940640"/>
            <a:ext cx="5541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исунок 2.3 Этапы интернационализации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Прямоугольник 1"/>
          <p:cNvSpPr/>
          <p:nvPr/>
        </p:nvSpPr>
        <p:spPr>
          <a:xfrm>
            <a:off x="1719720" y="1074240"/>
            <a:ext cx="8611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Внешнюю среду определяют четыре важнейшие характерис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Взаимосвязанность факторов внешней сред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или уровень силы, с которой изменение одного фактора воздействует на другие факт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ложность внешней сред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под которой понимается число факто­ров, на которые компания должна реагировать, а также уровень вари­ативности каждого фа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Подвижность сред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или скорость, с которой происходят измене­ния в окружении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Неопределенность внешней сред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которая выступает функцией ко­личества информации о среде и уверенности в ее то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Прямоугольник 1"/>
          <p:cNvSpPr/>
          <p:nvPr/>
        </p:nvSpPr>
        <p:spPr>
          <a:xfrm>
            <a:off x="4214160" y="1074240"/>
            <a:ext cx="3410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Факторы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2"/>
          <p:cNvSpPr/>
          <p:nvPr/>
        </p:nvSpPr>
        <p:spPr>
          <a:xfrm>
            <a:off x="1487520" y="1752840"/>
            <a:ext cx="94575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икровнеш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акровнеш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акроокру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Тематика курс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1. Определение и основные категории международного менеджмента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5" name="Подзаголовок 2"/>
          <p:cNvSpPr/>
          <p:nvPr/>
        </p:nvSpPr>
        <p:spPr>
          <a:xfrm>
            <a:off x="1343520" y="3213000"/>
            <a:ext cx="97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kk-KZ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2. Менеджмент внешней среды международной комп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одзаголовок 2"/>
          <p:cNvSpPr/>
          <p:nvPr/>
        </p:nvSpPr>
        <p:spPr>
          <a:xfrm>
            <a:off x="1415520" y="3573000"/>
            <a:ext cx="9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3. Особенности менеджмента международно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5"/>
          <p:cNvSpPr/>
          <p:nvPr/>
        </p:nvSpPr>
        <p:spPr>
          <a:xfrm>
            <a:off x="1467720" y="4005000"/>
            <a:ext cx="8718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Лекция 4 Корпоративная культура международно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одзаголовок 2"/>
          <p:cNvSpPr/>
          <p:nvPr/>
        </p:nvSpPr>
        <p:spPr>
          <a:xfrm>
            <a:off x="1487520" y="4437000"/>
            <a:ext cx="907272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5. Международный стратегический 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одзаголовок 2"/>
          <p:cNvSpPr/>
          <p:nvPr/>
        </p:nvSpPr>
        <p:spPr>
          <a:xfrm>
            <a:off x="1559520" y="4869000"/>
            <a:ext cx="9000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6. Международный стратегический альян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Прямоугольник 1"/>
          <p:cNvSpPr/>
          <p:nvPr/>
        </p:nvSpPr>
        <p:spPr>
          <a:xfrm>
            <a:off x="1178280" y="976680"/>
            <a:ext cx="10121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PEST-анализ – это индикаторная модель анализа релевантных параметров макро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оугольник 2"/>
          <p:cNvSpPr/>
          <p:nvPr/>
        </p:nvSpPr>
        <p:spPr>
          <a:xfrm>
            <a:off x="1199880" y="1538280"/>
            <a:ext cx="473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(рolitical factors)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полит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оугольник 3"/>
          <p:cNvSpPr/>
          <p:nvPr/>
        </p:nvSpPr>
        <p:spPr>
          <a:xfrm>
            <a:off x="1196280" y="2069280"/>
            <a:ext cx="501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E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(еconomic factors)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эконом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оугольник 4"/>
          <p:cNvSpPr/>
          <p:nvPr/>
        </p:nvSpPr>
        <p:spPr>
          <a:xfrm>
            <a:off x="1173240" y="2527200"/>
            <a:ext cx="69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(socio-cultural factors)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оциально-культурные факт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5"/>
          <p:cNvSpPr/>
          <p:nvPr/>
        </p:nvSpPr>
        <p:spPr>
          <a:xfrm>
            <a:off x="1197360" y="2985480"/>
            <a:ext cx="553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(technological factors)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технолог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Прямоугольник 1"/>
          <p:cNvSpPr/>
          <p:nvPr/>
        </p:nvSpPr>
        <p:spPr>
          <a:xfrm>
            <a:off x="1069200" y="1029600"/>
            <a:ext cx="10244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WO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-анализ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Терм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WO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— это аббревиатура от сильны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trength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 и слабы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weakness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 сторон предприятия, возможностей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opportuniti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 и угроз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threa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 ры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2"/>
          <p:cNvSpPr/>
          <p:nvPr/>
        </p:nvSpPr>
        <p:spPr>
          <a:xfrm>
            <a:off x="959760" y="2222640"/>
            <a:ext cx="1024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WO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-анали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— выявление факторов, которые являются сильными и слабыми сторонами компании, а также возможностей и угроз странового рынка для того, чтобы, опираясь на сильные сто­роны, использовать имеющиеся возможности и избежать угроз и при этом, зная слабые стороны своей деятельности, попытаться нивели­ровать их и снизить уг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3"/>
          <p:cNvSpPr/>
          <p:nvPr/>
        </p:nvSpPr>
        <p:spPr>
          <a:xfrm>
            <a:off x="3297600" y="3712320"/>
            <a:ext cx="3165840" cy="354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Матрица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Garamond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5"/>
          <p:cNvSpPr/>
          <p:nvPr/>
        </p:nvSpPr>
        <p:spPr>
          <a:xfrm>
            <a:off x="3297600" y="4302720"/>
            <a:ext cx="4781520" cy="13406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kk-KZ" sz="1100" spc="-1" strike="noStrike">
                <a:solidFill>
                  <a:srgbClr val="000000"/>
                </a:solidFill>
                <a:latin typeface="Garamond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6"/>
          <p:cNvSpPr/>
          <p:nvPr/>
        </p:nvSpPr>
        <p:spPr>
          <a:xfrm>
            <a:off x="2320200" y="4278960"/>
            <a:ext cx="3138120" cy="7117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Strengths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ил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7"/>
          <p:cNvSpPr/>
          <p:nvPr/>
        </p:nvSpPr>
        <p:spPr>
          <a:xfrm>
            <a:off x="5423040" y="4278960"/>
            <a:ext cx="2656080" cy="7117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Weaknesses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лаб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8"/>
          <p:cNvSpPr/>
          <p:nvPr/>
        </p:nvSpPr>
        <p:spPr>
          <a:xfrm>
            <a:off x="2320200" y="4991040"/>
            <a:ext cx="3102480" cy="6526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Opportuniti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возмож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оугольник 9"/>
          <p:cNvSpPr/>
          <p:nvPr/>
        </p:nvSpPr>
        <p:spPr>
          <a:xfrm>
            <a:off x="5415480" y="4991040"/>
            <a:ext cx="2663640" cy="6724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Threats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угроз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3.1 Основные подходы к менеджменту в международной компании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3.2 Аспекты менеджмента в международной компании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3.3 Особенности организационных структур управления международной компании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0" name="Подзаголовок 2"/>
          <p:cNvSpPr/>
          <p:nvPr/>
        </p:nvSpPr>
        <p:spPr>
          <a:xfrm>
            <a:off x="1415520" y="476640"/>
            <a:ext cx="972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3. Особенности менеджмента международно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image1"/>
          <p:cNvPicPr/>
          <p:nvPr/>
        </p:nvPicPr>
        <p:blipFill>
          <a:blip r:embed="rId1"/>
          <a:stretch/>
        </p:blipFill>
        <p:spPr>
          <a:xfrm>
            <a:off x="1924200" y="919080"/>
            <a:ext cx="7546680" cy="3475080"/>
          </a:xfrm>
          <a:prstGeom prst="rect">
            <a:avLst/>
          </a:prstGeom>
          <a:ln w="0">
            <a:noFill/>
          </a:ln>
        </p:spPr>
      </p:pic>
      <p:sp>
        <p:nvSpPr>
          <p:cNvPr id="802" name="Прямоугольник 3"/>
          <p:cNvSpPr/>
          <p:nvPr/>
        </p:nvSpPr>
        <p:spPr>
          <a:xfrm>
            <a:off x="2201760" y="4696920"/>
            <a:ext cx="86479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исунок  3.1. Эволюция перехода национальной компании в статус междуна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Прямоугольник 1"/>
          <p:cNvSpPr/>
          <p:nvPr/>
        </p:nvSpPr>
        <p:spPr>
          <a:xfrm>
            <a:off x="1205640" y="930240"/>
            <a:ext cx="9807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тепень транснационализации компании характеризу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индексом транснацион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Левая круглая скобка 10"/>
          <p:cNvSpPr/>
          <p:nvPr/>
        </p:nvSpPr>
        <p:spPr>
          <a:xfrm>
            <a:off x="5864400" y="1722240"/>
            <a:ext cx="141840" cy="438480"/>
          </a:xfrm>
          <a:prstGeom prst="leftBracket">
            <a:avLst>
              <a:gd name="adj" fmla="val 8333"/>
            </a:avLst>
          </a:prstGeom>
          <a:noFill/>
          <a:ln>
            <a:solidFill>
              <a:srgbClr val="83992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cxnSp>
        <p:nvCxnSpPr>
          <p:cNvPr id="805" name="Прямая соединительная линия 11"/>
          <p:cNvCxnSpPr/>
          <p:nvPr/>
        </p:nvCxnSpPr>
        <p:spPr>
          <a:xfrm>
            <a:off x="6024960" y="1906200"/>
            <a:ext cx="3326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cxnSp>
        <p:nvCxnSpPr>
          <p:cNvPr id="806" name="Прямая соединительная линия 12"/>
          <p:cNvCxnSpPr/>
          <p:nvPr/>
        </p:nvCxnSpPr>
        <p:spPr>
          <a:xfrm>
            <a:off x="6504120" y="1878840"/>
            <a:ext cx="41580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cxnSp>
        <p:nvCxnSpPr>
          <p:cNvPr id="807" name="Прямая соединительная линия 13"/>
          <p:cNvCxnSpPr/>
          <p:nvPr/>
        </p:nvCxnSpPr>
        <p:spPr>
          <a:xfrm>
            <a:off x="7198920" y="1917360"/>
            <a:ext cx="43920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808" name="Правая круглая скобка 14"/>
          <p:cNvSpPr/>
          <p:nvPr/>
        </p:nvSpPr>
        <p:spPr>
          <a:xfrm>
            <a:off x="7687440" y="1738080"/>
            <a:ext cx="129960" cy="438480"/>
          </a:xfrm>
          <a:prstGeom prst="rightBracket">
            <a:avLst>
              <a:gd name="adj" fmla="val 8333"/>
            </a:avLst>
          </a:prstGeom>
          <a:noFill/>
          <a:ln>
            <a:solidFill>
              <a:srgbClr val="83992a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643680" y="1558080"/>
            <a:ext cx="12191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5174640" y="1611360"/>
            <a:ext cx="3573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New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ЗА     З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З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6"/>
          <p:cNvSpPr/>
          <p:nvPr/>
        </p:nvSpPr>
        <p:spPr>
          <a:xfrm>
            <a:off x="4995000" y="1695240"/>
            <a:ext cx="3365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Тит= ­­­­­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  +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 +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ОА     ОП     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18"/>
          <p:cNvSpPr/>
          <p:nvPr/>
        </p:nvSpPr>
        <p:spPr>
          <a:xfrm>
            <a:off x="982800" y="2345400"/>
            <a:ext cx="81608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гд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Тит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индекс транснацион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ЗА 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зарубежные акти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О А 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общие акти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ЗП 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объем продаж товаров и услуг зарубежными филиал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О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— объем общих продаж товаров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З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— зарубежный шт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ОШ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— общий ш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Рисунок 1" descr="C:\Users\Boss\AppData\Local\Temp\FineReader10\media\image1.jpeg"/>
          <p:cNvPicPr/>
          <p:nvPr/>
        </p:nvPicPr>
        <p:blipFill>
          <a:blip r:embed="rId1"/>
          <a:stretch/>
        </p:blipFill>
        <p:spPr>
          <a:xfrm>
            <a:off x="825120" y="734760"/>
            <a:ext cx="1686960" cy="691560"/>
          </a:xfrm>
          <a:prstGeom prst="rect">
            <a:avLst/>
          </a:prstGeom>
          <a:ln w="9525">
            <a:noFill/>
          </a:ln>
        </p:spPr>
      </p:pic>
      <p:sp>
        <p:nvSpPr>
          <p:cNvPr id="814" name="Прямоугольник 2"/>
          <p:cNvSpPr/>
          <p:nvPr/>
        </p:nvSpPr>
        <p:spPr>
          <a:xfrm>
            <a:off x="2804760" y="765360"/>
            <a:ext cx="8276760" cy="7902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onstantia"/>
              </a:rPr>
              <a:t> картел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храняют коммерческую и производственную самостоятельность и договариваются о регулировании объемов производства, условиях сбыта продукции, разделе рынков сбыт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Группа 3"/>
          <p:cNvGrpSpPr/>
          <p:nvPr/>
        </p:nvGrpSpPr>
        <p:grpSpPr>
          <a:xfrm>
            <a:off x="881280" y="1767240"/>
            <a:ext cx="10200240" cy="918720"/>
            <a:chOff x="881280" y="1767240"/>
            <a:chExt cx="10200240" cy="918720"/>
          </a:xfrm>
        </p:grpSpPr>
        <p:sp>
          <p:nvSpPr>
            <p:cNvPr id="816" name="Rectangle 4"/>
            <p:cNvSpPr/>
            <p:nvPr/>
          </p:nvSpPr>
          <p:spPr>
            <a:xfrm>
              <a:off x="881280" y="1767240"/>
              <a:ext cx="712080" cy="302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"/>
            <p:cNvSpPr/>
            <p:nvPr/>
          </p:nvSpPr>
          <p:spPr>
            <a:xfrm>
              <a:off x="1763640" y="1767240"/>
              <a:ext cx="697680" cy="2970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6"/>
            <p:cNvSpPr/>
            <p:nvPr/>
          </p:nvSpPr>
          <p:spPr>
            <a:xfrm>
              <a:off x="2693520" y="1767240"/>
              <a:ext cx="681120" cy="302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9" name="AutoShape 7"/>
            <p:cNvCxnSpPr/>
            <p:nvPr/>
          </p:nvCxnSpPr>
          <p:spPr>
            <a:xfrm>
              <a:off x="1593360" y="1887840"/>
              <a:ext cx="170280" cy="75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20" name="AutoShape 8"/>
            <p:cNvCxnSpPr/>
            <p:nvPr/>
          </p:nvCxnSpPr>
          <p:spPr>
            <a:xfrm>
              <a:off x="2461320" y="1887840"/>
              <a:ext cx="232560" cy="75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21" name="Rectangle 9"/>
            <p:cNvSpPr/>
            <p:nvPr/>
          </p:nvSpPr>
          <p:spPr>
            <a:xfrm>
              <a:off x="1391760" y="2190600"/>
              <a:ext cx="1301400" cy="1605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бы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2" name="AutoShape 10"/>
            <p:cNvCxnSpPr/>
            <p:nvPr/>
          </p:nvCxnSpPr>
          <p:spPr>
            <a:xfrm>
              <a:off x="1391760" y="2064240"/>
              <a:ext cx="527400" cy="126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23" name="AutoShape 11"/>
            <p:cNvCxnSpPr/>
            <p:nvPr/>
          </p:nvCxnSpPr>
          <p:spPr>
            <a:xfrm>
              <a:off x="2089800" y="2064240"/>
              <a:ext cx="360" cy="126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24" name="AutoShape 12"/>
            <p:cNvCxnSpPr/>
            <p:nvPr/>
          </p:nvCxnSpPr>
          <p:spPr>
            <a:xfrm flipH="1">
              <a:off x="2352600" y="2064240"/>
              <a:ext cx="620640" cy="126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25" name="Rectangle 13"/>
            <p:cNvSpPr/>
            <p:nvPr/>
          </p:nvSpPr>
          <p:spPr>
            <a:xfrm>
              <a:off x="881280" y="2492280"/>
              <a:ext cx="2571480" cy="1544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ы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6" name="AutoShape 14"/>
            <p:cNvCxnSpPr/>
            <p:nvPr/>
          </p:nvCxnSpPr>
          <p:spPr>
            <a:xfrm>
              <a:off x="2089800" y="2351160"/>
              <a:ext cx="360" cy="1414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27" name="Rectangle 15"/>
            <p:cNvSpPr/>
            <p:nvPr/>
          </p:nvSpPr>
          <p:spPr>
            <a:xfrm>
              <a:off x="3642120" y="1772280"/>
              <a:ext cx="7439400" cy="9136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just">
                <a:lnSpc>
                  <a:spcPct val="100000"/>
                </a:lnSpc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Constantia"/>
                </a:rPr>
                <a:t>Синдикат</a:t>
              </a: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— объединение предприни­мателей или производителей товаров в целях их сбыта, осуществления единой ценовой политики и других видов коммерческой деятельности при сохранении юридической и производственной самостоятельности входящих в него пред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Группа 16"/>
          <p:cNvGrpSpPr/>
          <p:nvPr/>
        </p:nvGrpSpPr>
        <p:grpSpPr>
          <a:xfrm>
            <a:off x="881280" y="2880360"/>
            <a:ext cx="10212840" cy="1212120"/>
            <a:chOff x="881280" y="2880360"/>
            <a:chExt cx="10212840" cy="1212120"/>
          </a:xfrm>
        </p:grpSpPr>
        <p:sp>
          <p:nvSpPr>
            <p:cNvPr id="829" name="Rectangle 17"/>
            <p:cNvSpPr/>
            <p:nvPr/>
          </p:nvSpPr>
          <p:spPr>
            <a:xfrm>
              <a:off x="881280" y="3248640"/>
              <a:ext cx="892440" cy="2844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8"/>
            <p:cNvSpPr/>
            <p:nvPr/>
          </p:nvSpPr>
          <p:spPr>
            <a:xfrm>
              <a:off x="1986840" y="3248640"/>
              <a:ext cx="874440" cy="2844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3152520" y="3248640"/>
              <a:ext cx="853920" cy="2894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2" name="AutoShape 20"/>
            <p:cNvCxnSpPr/>
            <p:nvPr/>
          </p:nvCxnSpPr>
          <p:spPr>
            <a:xfrm>
              <a:off x="1773720" y="3364560"/>
              <a:ext cx="213480" cy="72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33" name="AutoShape 21"/>
            <p:cNvCxnSpPr/>
            <p:nvPr/>
          </p:nvCxnSpPr>
          <p:spPr>
            <a:xfrm>
              <a:off x="2861280" y="3364560"/>
              <a:ext cx="291600" cy="72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34" name="Rectangle 22"/>
            <p:cNvSpPr/>
            <p:nvPr/>
          </p:nvSpPr>
          <p:spPr>
            <a:xfrm>
              <a:off x="1521360" y="3654720"/>
              <a:ext cx="1631160" cy="154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бы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5" name="AutoShape 23"/>
            <p:cNvCxnSpPr/>
            <p:nvPr/>
          </p:nvCxnSpPr>
          <p:spPr>
            <a:xfrm>
              <a:off x="1521000" y="3533400"/>
              <a:ext cx="660960" cy="1213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36" name="AutoShape 24"/>
            <p:cNvCxnSpPr/>
            <p:nvPr/>
          </p:nvCxnSpPr>
          <p:spPr>
            <a:xfrm>
              <a:off x="2395800" y="3533400"/>
              <a:ext cx="360" cy="1213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37" name="AutoShape 25"/>
            <p:cNvCxnSpPr/>
            <p:nvPr/>
          </p:nvCxnSpPr>
          <p:spPr>
            <a:xfrm flipH="1">
              <a:off x="2725560" y="3533400"/>
              <a:ext cx="777240" cy="1213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38" name="Rectangle 26"/>
            <p:cNvSpPr/>
            <p:nvPr/>
          </p:nvSpPr>
          <p:spPr>
            <a:xfrm>
              <a:off x="881280" y="3944520"/>
              <a:ext cx="3222720" cy="147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ы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9" name="AutoShape 27"/>
            <p:cNvCxnSpPr/>
            <p:nvPr/>
          </p:nvCxnSpPr>
          <p:spPr>
            <a:xfrm>
              <a:off x="2395800" y="3808800"/>
              <a:ext cx="360" cy="135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40" name="Rectangle 28"/>
            <p:cNvSpPr/>
            <p:nvPr/>
          </p:nvSpPr>
          <p:spPr>
            <a:xfrm>
              <a:off x="881280" y="2880360"/>
              <a:ext cx="3222720" cy="147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правление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1" name="AutoShape 29"/>
            <p:cNvCxnSpPr/>
            <p:nvPr/>
          </p:nvCxnSpPr>
          <p:spPr>
            <a:xfrm flipV="1">
              <a:off x="1249200" y="3028320"/>
              <a:ext cx="524880" cy="2206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42" name="AutoShape 30"/>
            <p:cNvCxnSpPr/>
            <p:nvPr/>
          </p:nvCxnSpPr>
          <p:spPr>
            <a:xfrm flipV="1">
              <a:off x="2395800" y="3028320"/>
              <a:ext cx="360" cy="2206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43" name="AutoShape 31"/>
            <p:cNvCxnSpPr/>
            <p:nvPr/>
          </p:nvCxnSpPr>
          <p:spPr>
            <a:xfrm flipH="1" flipV="1">
              <a:off x="2861280" y="3028320"/>
              <a:ext cx="582840" cy="2206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44" name="Rectangle 32"/>
            <p:cNvSpPr/>
            <p:nvPr/>
          </p:nvSpPr>
          <p:spPr>
            <a:xfrm>
              <a:off x="4298040" y="2923920"/>
              <a:ext cx="6796080" cy="10198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just">
                <a:lnSpc>
                  <a:spcPct val="100000"/>
                </a:lnSpc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Constantia"/>
                </a:rPr>
                <a:t>Трест</a:t>
              </a: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— самая жесткая форма объединения, при которой полностью утрачивается коммерческая и производственная самостоятельность фирм. Осуществляется единое управление. Правление состоит из представителей наиболее крупных участников, которые регулируют всю деятельность объеди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Прямоугольник 33"/>
          <p:cNvSpPr/>
          <p:nvPr/>
        </p:nvSpPr>
        <p:spPr>
          <a:xfrm>
            <a:off x="4298040" y="4092480"/>
            <a:ext cx="6977160" cy="1734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just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onstantia"/>
              </a:rPr>
              <a:t>Концерн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 форма объединения, при которой входящие предприятия сохраняют юридическую самостоятель­ность. Головная (материнская) компания осуществляет управление и контроль над финансовыми потоками, разрабатывает единую стратегию развития и научно- техническую политику, является организационным цент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 осуществляется на основании владения головной компанией своими отделениями (которые обычно полностью принадлежат головной компании), акциями дочерних (контрольный пакет — 50% плюс 1 акция и выше) и ассоциированных компаний (от 10 до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Группа 35"/>
          <p:cNvGrpSpPr/>
          <p:nvPr/>
        </p:nvGrpSpPr>
        <p:grpSpPr>
          <a:xfrm>
            <a:off x="1383480" y="4406040"/>
            <a:ext cx="1457640" cy="975960"/>
            <a:chOff x="1383480" y="4406040"/>
            <a:chExt cx="1457640" cy="975960"/>
          </a:xfrm>
        </p:grpSpPr>
        <p:sp>
          <p:nvSpPr>
            <p:cNvPr id="847" name="Овал 36"/>
            <p:cNvSpPr/>
            <p:nvPr/>
          </p:nvSpPr>
          <p:spPr>
            <a:xfrm>
              <a:off x="1488240" y="4406040"/>
              <a:ext cx="1352880" cy="399240"/>
            </a:xfrm>
            <a:prstGeom prst="ellipse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848" name="Равнобедренный треугольник 37"/>
            <p:cNvSpPr/>
            <p:nvPr/>
          </p:nvSpPr>
          <p:spPr>
            <a:xfrm>
              <a:off x="1383480" y="4939200"/>
              <a:ext cx="195120" cy="9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849" name="Прямоугольник 38"/>
            <p:cNvSpPr/>
            <p:nvPr/>
          </p:nvSpPr>
          <p:spPr>
            <a:xfrm>
              <a:off x="1640520" y="5081760"/>
              <a:ext cx="162720" cy="1188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850" name="Блок-схема: узел 39"/>
            <p:cNvSpPr/>
            <p:nvPr/>
          </p:nvSpPr>
          <p:spPr>
            <a:xfrm>
              <a:off x="1773720" y="5272200"/>
              <a:ext cx="236160" cy="109800"/>
            </a:xfrm>
            <a:prstGeom prst="flowChartConnector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cxnSp>
          <p:nvCxnSpPr>
            <p:cNvPr id="851" name="Прямая со стрелкой 40"/>
            <p:cNvCxnSpPr/>
            <p:nvPr/>
          </p:nvCxnSpPr>
          <p:spPr>
            <a:xfrm flipH="1">
              <a:off x="1535760" y="4777200"/>
              <a:ext cx="285120" cy="1544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52" name="Прямая со стрелкой 41"/>
            <p:cNvCxnSpPr/>
            <p:nvPr/>
          </p:nvCxnSpPr>
          <p:spPr>
            <a:xfrm flipH="1">
              <a:off x="1792800" y="4796280"/>
              <a:ext cx="138960" cy="2656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53" name="Равнобедренный треугольник 42"/>
            <p:cNvSpPr/>
            <p:nvPr/>
          </p:nvSpPr>
          <p:spPr>
            <a:xfrm>
              <a:off x="2135520" y="5015160"/>
              <a:ext cx="195120" cy="9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854" name="Прямоугольник 43"/>
            <p:cNvSpPr/>
            <p:nvPr/>
          </p:nvSpPr>
          <p:spPr>
            <a:xfrm>
              <a:off x="2478240" y="5005800"/>
              <a:ext cx="162720" cy="1188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855" name="Блок-схема: узел 44"/>
            <p:cNvSpPr/>
            <p:nvPr/>
          </p:nvSpPr>
          <p:spPr>
            <a:xfrm>
              <a:off x="2287800" y="5262840"/>
              <a:ext cx="236160" cy="109800"/>
            </a:xfrm>
            <a:prstGeom prst="flowChartConnector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 upright="1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cxnSp>
          <p:nvCxnSpPr>
            <p:cNvPr id="856" name="Прямая со стрелкой 45"/>
            <p:cNvCxnSpPr/>
            <p:nvPr/>
          </p:nvCxnSpPr>
          <p:spPr>
            <a:xfrm flipH="1">
              <a:off x="2297160" y="4805640"/>
              <a:ext cx="24120" cy="1666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57" name="Прямая со стрелкой 46"/>
            <p:cNvCxnSpPr/>
            <p:nvPr/>
          </p:nvCxnSpPr>
          <p:spPr>
            <a:xfrm flipH="1">
              <a:off x="2563920" y="4729320"/>
              <a:ext cx="86400" cy="2610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</p:grpSp>
      <p:cxnSp>
        <p:nvCxnSpPr>
          <p:cNvPr id="858" name="Прямая со стрелкой 60"/>
          <p:cNvCxnSpPr>
            <a:stCxn id="847" idx="4"/>
          </p:cNvCxnSpPr>
          <p:nvPr/>
        </p:nvCxnSpPr>
        <p:spPr>
          <a:xfrm flipH="1">
            <a:off x="1986840" y="4805280"/>
            <a:ext cx="178200" cy="336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59" name="Прямая со стрелкой 62"/>
          <p:cNvCxnSpPr/>
          <p:nvPr/>
        </p:nvCxnSpPr>
        <p:spPr>
          <a:xfrm flipH="1">
            <a:off x="2423880" y="4765680"/>
            <a:ext cx="44640" cy="435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60" name="Равнобедренный треугольник 63"/>
          <p:cNvSpPr/>
          <p:nvPr/>
        </p:nvSpPr>
        <p:spPr>
          <a:xfrm>
            <a:off x="1042560" y="5536440"/>
            <a:ext cx="194760" cy="9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480" bIns="24480" anchor="t" upright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861" name="Блок-схема: узел 64"/>
          <p:cNvSpPr/>
          <p:nvPr/>
        </p:nvSpPr>
        <p:spPr>
          <a:xfrm>
            <a:off x="1042560" y="5724360"/>
            <a:ext cx="235800" cy="109440"/>
          </a:xfrm>
          <a:prstGeom prst="flowChartConnector">
            <a:avLst/>
          </a:prstGeom>
          <a:solidFill>
            <a:srgbClr val="ffff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t" upright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862" name="Прямоугольник 65"/>
          <p:cNvSpPr/>
          <p:nvPr/>
        </p:nvSpPr>
        <p:spPr>
          <a:xfrm>
            <a:off x="1042560" y="5932080"/>
            <a:ext cx="162360" cy="1191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863" name="Прямоугольник 66"/>
          <p:cNvSpPr/>
          <p:nvPr/>
        </p:nvSpPr>
        <p:spPr>
          <a:xfrm>
            <a:off x="1241640" y="5485320"/>
            <a:ext cx="1276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- головная комп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67"/>
          <p:cNvSpPr/>
          <p:nvPr/>
        </p:nvSpPr>
        <p:spPr>
          <a:xfrm>
            <a:off x="1262880" y="5662080"/>
            <a:ext cx="12906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- дочерняя комп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68"/>
          <p:cNvSpPr/>
          <p:nvPr/>
        </p:nvSpPr>
        <p:spPr>
          <a:xfrm>
            <a:off x="1166400" y="5865120"/>
            <a:ext cx="1686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а</a:t>
            </a:r>
            <a:r>
              <a:rPr b="0" lang="kk-KZ" sz="1000" spc="-1" strike="noStrike">
                <a:solidFill>
                  <a:srgbClr val="000000"/>
                </a:solidFill>
                <a:latin typeface="Times New Roman"/>
                <a:ea typeface="바탕"/>
              </a:rPr>
              <a:t>ссоциированные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69"/>
          <p:cNvSpPr/>
          <p:nvPr/>
        </p:nvSpPr>
        <p:spPr>
          <a:xfrm>
            <a:off x="1777680" y="4159800"/>
            <a:ext cx="694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Концер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70"/>
          <p:cNvSpPr/>
          <p:nvPr/>
        </p:nvSpPr>
        <p:spPr>
          <a:xfrm>
            <a:off x="3137760" y="5866560"/>
            <a:ext cx="5326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7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Рис. 9.1 Организационные основы становления Т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Прямоугольник 1"/>
          <p:cNvSpPr/>
          <p:nvPr/>
        </p:nvSpPr>
        <p:spPr>
          <a:xfrm>
            <a:off x="1205640" y="918360"/>
            <a:ext cx="984888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компания имеет следующие отличительные ха­рактер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335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джмент международной компании представляет собой управление интегрированной всемирной бизнес-системой, когда за­рубежные филиалы тесно сотрудничают друг с другом, между ними происходит интенсивное перемещение капитала, технологий и чело­вечески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335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шей управленческой структурой международной компании является единственное управленческое подразделение — материнская (головная) компания, выступающая административным центром уп­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Прямоугольник 1"/>
          <p:cNvSpPr/>
          <p:nvPr/>
        </p:nvSpPr>
        <p:spPr>
          <a:xfrm>
            <a:off x="959760" y="889200"/>
            <a:ext cx="759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600" spc="148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личительные черты управления международных ко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Таблица 2"/>
          <p:cNvGraphicFramePr/>
          <p:nvPr/>
        </p:nvGraphicFramePr>
        <p:xfrm>
          <a:off x="959760" y="1392120"/>
          <a:ext cx="10326600" cy="4385160"/>
        </p:xfrm>
        <a:graphic>
          <a:graphicData uri="http://schemas.openxmlformats.org/drawingml/2006/table">
            <a:tbl>
              <a:tblPr/>
              <a:tblGrid>
                <a:gridCol w="2055960"/>
                <a:gridCol w="8270280"/>
              </a:tblGrid>
              <a:tr h="2466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Garamond"/>
                        </a:rPr>
                        <a:t>Тип комп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  <a:ea typeface="Garamond"/>
                        </a:rPr>
                        <a:t>Особенности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8748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Garamond"/>
                        </a:rPr>
                        <a:t>Трансна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Сочетает свойства многонациональной, глобальной и между­народной компаний. Продукты должны быть конкуренто­способны в мировом масштабе, однако видоизменяются и адаптируются в соответствии с требованиями местных рын­ков. Наряду с централизацией одних ресурсов в главном правлении другие ресурсы распределяются среди дочерних компаний и интегрируются в результате их взаимо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8ddcd"/>
                    </a:solidFill>
                  </a:tcPr>
                </a:tc>
              </a:tr>
              <a:tr h="98748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Garamond"/>
                        </a:rPr>
                        <a:t>Межна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Правление сохраняет значительный контроль над системами управления дочерней компании и маркетинговой полити­кой, но в меньшей степени, чем в глобальной компании. Продукция и технологии разрабатываются для внутреннего рынка, распространяются на другие страны со схожими ры­ночными характеристиками, затем распространяются повсю­ду. Гибкое управление жизненным циклом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8640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Garamond"/>
                        </a:rPr>
                        <a:t>Глоб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Централизует свою стратегическую, управленческую и мар­кетинговую политику. Выгода достигается за счет экономии на масштабе и деятельности на глобальном уровне. Продук­ция разрабатывается для удовлетворения потребностей цело­го ряда стран. Специфические местные потребности нередко игнорируют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8ddcd"/>
                    </a:solidFill>
                  </a:tcPr>
                </a:tc>
              </a:tr>
              <a:tr h="617040"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Garamond"/>
                        </a:rPr>
                        <a:t>Многона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Правление определяет финансовую политику, но в то же время предоставляет дочерней компании значительную авто­номию при разработке стиля управления и при решении ме­стных производственных и рыночных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Прямоугольник 1"/>
          <p:cNvSpPr/>
          <p:nvPr/>
        </p:nvSpPr>
        <p:spPr>
          <a:xfrm>
            <a:off x="1109880" y="971640"/>
            <a:ext cx="102445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национальные компании делятся на три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-"/>
              <a:tabLst>
                <a:tab algn="l" pos="4122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о интегрированные ТНК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яют подразделениями, расположенными в различных странах, производящих одинаковые или подобные тов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12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-"/>
              <a:tabLst>
                <a:tab algn="l" pos="4208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ьно интегрированные ТН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правляют подразделениями в определённой стране, которые производят товары, поставляемые в их подразделения в других стран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2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/>
              <a:buChar char="-"/>
              <a:tabLst>
                <a:tab algn="l" pos="4208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ьные ТНК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авляют подразделениями, расположенными в различных странах, которые вертикально или горизонтально не объедин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2"/>
          <p:cNvSpPr/>
          <p:nvPr/>
        </p:nvSpPr>
        <p:spPr>
          <a:xfrm>
            <a:off x="1219320" y="4403880"/>
            <a:ext cx="101354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деление ТНК - это относительно самостоятельное предприятие, действующее в экономике этой страны и участвующее в ее внешних экономических связях, ради целей и по направлениям функционирования головной комп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Группа 1"/>
          <p:cNvGrpSpPr/>
          <p:nvPr/>
        </p:nvGrpSpPr>
        <p:grpSpPr>
          <a:xfrm>
            <a:off x="3048120" y="1424520"/>
            <a:ext cx="8174520" cy="4291920"/>
            <a:chOff x="3048120" y="1424520"/>
            <a:chExt cx="8174520" cy="4291920"/>
          </a:xfrm>
        </p:grpSpPr>
        <p:sp>
          <p:nvSpPr>
            <p:cNvPr id="874" name="Прямоугольник 2"/>
            <p:cNvSpPr/>
            <p:nvPr/>
          </p:nvSpPr>
          <p:spPr>
            <a:xfrm>
              <a:off x="3067920" y="1779840"/>
              <a:ext cx="1950840" cy="5659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лавная штаб - кварти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Прямоугольник 3"/>
            <p:cNvSpPr/>
            <p:nvPr/>
          </p:nvSpPr>
          <p:spPr>
            <a:xfrm>
              <a:off x="5307120" y="1848240"/>
              <a:ext cx="1827000" cy="5184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егиональные офи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Прямоугольник 4"/>
            <p:cNvSpPr/>
            <p:nvPr/>
          </p:nvSpPr>
          <p:spPr>
            <a:xfrm>
              <a:off x="7286040" y="1848240"/>
              <a:ext cx="1838880" cy="5176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Центры НИОК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Прямоугольник 5"/>
            <p:cNvSpPr/>
            <p:nvPr/>
          </p:nvSpPr>
          <p:spPr>
            <a:xfrm>
              <a:off x="9365040" y="1848240"/>
              <a:ext cx="1850760" cy="6048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оизводственные подразд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Прямоугольник 6"/>
            <p:cNvSpPr/>
            <p:nvPr/>
          </p:nvSpPr>
          <p:spPr>
            <a:xfrm>
              <a:off x="3048120" y="2640240"/>
              <a:ext cx="2342520" cy="27079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наличие финансовых и информационных центров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наличие разветвленной сети деловых услуг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близость транспортных узлов мирового значе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обеспеченность высококвалифицированными специалист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Прямоугольник 7"/>
            <p:cNvSpPr/>
            <p:nvPr/>
          </p:nvSpPr>
          <p:spPr>
            <a:xfrm>
              <a:off x="5506920" y="2721960"/>
              <a:ext cx="1412280" cy="12769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беспеченность каналами и средствами свя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Прямоугольник 8"/>
            <p:cNvSpPr/>
            <p:nvPr/>
          </p:nvSpPr>
          <p:spPr>
            <a:xfrm>
              <a:off x="6966360" y="2721960"/>
              <a:ext cx="1755000" cy="2039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азмещение в стране базирован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размещение в других странах, где низкая  стоимость рабочей сил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Прямоугольник 9"/>
            <p:cNvSpPr/>
            <p:nvPr/>
          </p:nvSpPr>
          <p:spPr>
            <a:xfrm>
              <a:off x="8825400" y="2735640"/>
              <a:ext cx="2397240" cy="29808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- </a:t>
              </a: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наличие резервов сравнительно дешевой рабочей сил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сравнительно низкая цена на землю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 возможность создание новых или расширения существующих производственных мощносте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 отсутствие жестких государственных огранич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2" name="Прямая со стрелкой 10"/>
            <p:cNvCxnSpPr/>
            <p:nvPr/>
          </p:nvCxnSpPr>
          <p:spPr>
            <a:xfrm flipH="1">
              <a:off x="4387320" y="1424520"/>
              <a:ext cx="2747160" cy="2944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3" name="Прямая со стрелкой 11"/>
            <p:cNvCxnSpPr/>
            <p:nvPr/>
          </p:nvCxnSpPr>
          <p:spPr>
            <a:xfrm>
              <a:off x="6966000" y="1424520"/>
              <a:ext cx="1800" cy="4154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4" name="Прямая со стрелкой 12"/>
            <p:cNvCxnSpPr/>
            <p:nvPr/>
          </p:nvCxnSpPr>
          <p:spPr>
            <a:xfrm>
              <a:off x="6966000" y="1424520"/>
              <a:ext cx="3538800" cy="4154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5" name="Прямая со стрелкой 13"/>
            <p:cNvCxnSpPr/>
            <p:nvPr/>
          </p:nvCxnSpPr>
          <p:spPr>
            <a:xfrm>
              <a:off x="7125840" y="1424520"/>
              <a:ext cx="1474560" cy="4154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6" name="Прямая со стрелкой 14"/>
            <p:cNvCxnSpPr/>
            <p:nvPr/>
          </p:nvCxnSpPr>
          <p:spPr>
            <a:xfrm>
              <a:off x="4047480" y="2250360"/>
              <a:ext cx="360" cy="3391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7" name="Прямая со стрелкой 15"/>
            <p:cNvCxnSpPr/>
            <p:nvPr/>
          </p:nvCxnSpPr>
          <p:spPr>
            <a:xfrm>
              <a:off x="6306480" y="2367000"/>
              <a:ext cx="360" cy="3387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8" name="Прямая со стрелкой 16"/>
            <p:cNvCxnSpPr/>
            <p:nvPr/>
          </p:nvCxnSpPr>
          <p:spPr>
            <a:xfrm>
              <a:off x="7945560" y="2394000"/>
              <a:ext cx="1800" cy="3391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89" name="Прямая со стрелкой 17"/>
            <p:cNvCxnSpPr/>
            <p:nvPr/>
          </p:nvCxnSpPr>
          <p:spPr>
            <a:xfrm>
              <a:off x="10464480" y="2421360"/>
              <a:ext cx="360" cy="3391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90" name="Прямоугольник 18"/>
          <p:cNvSpPr/>
          <p:nvPr/>
        </p:nvSpPr>
        <p:spPr>
          <a:xfrm>
            <a:off x="4674960" y="1016640"/>
            <a:ext cx="4494240" cy="4089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нснациональная корпо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оугольник 19"/>
          <p:cNvSpPr/>
          <p:nvPr/>
        </p:nvSpPr>
        <p:spPr>
          <a:xfrm>
            <a:off x="1808280" y="5555160"/>
            <a:ext cx="6571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3000"/>
              </a:lnSpc>
              <a:spcAft>
                <a:spcPts val="799"/>
              </a:spcAf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10.4  Условия размещения основных подразделений Т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"/>
          <p:cNvSpPr/>
          <p:nvPr/>
        </p:nvSpPr>
        <p:spPr>
          <a:xfrm>
            <a:off x="736200" y="932760"/>
            <a:ext cx="10719360" cy="499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менеджмент: учебное пособие / сост.  Е. В. Пирогова. – Ульяновск : УлГТУ, 2016. – 20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ировая экономика и международные экономические отношения: учебник/подред. В.К. Поспелова. — М.: ИНФРА-М, 20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экономические отношения: учебник для вузов / под ред. В. Е. Рыбалкина. – 7-е изд., перераб. и доп. – М. : Юнити, 2008. – 59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Гриффин Р., Пастей М.  Международный бизнес. 4-е изд. / Пер. с англ. под ред. А. Г. Медведева. —  СПб.: Питер, 2006. — 1088 с: ил. — (Серия «Классика МВ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А.Ю. Архипова, Е.П. Пузакова Международные экономические отношения. Международный бизнес: учебник. – Ростов н/Д: Феникс, 2009. -57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менеджмент / Под ред. Пивоварова С. Э., Тарасевича Л. С., Майзеля А. И. — СПб: Питер, 2001. —576 с.: ил. — (Серия «Учебники для вузов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Дарибеков С.С., Набиев Е.Н. Международный бизне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Караганда: Изд-во КарГУ, 2017. – 21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Дополните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Кратко И.Г. Международного предпринимательство: Учеб. пособие. – М.: ИНФРА-М, 2001. – 27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ихалкин В.А. Организация и формы международного бизнеса: учеб. пособие/ В.А. Михалкин. – М.: Магистр: ИНФРА – М, 2017. – 44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Володько В.Ф. Международный менеджмент. Учебное пособие /В.Ф.Володько; БНТУ.- Минск: Амалфея, 2007. – 33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уднева А.О. Международная торговля: учеб, пособие / А.О. Руднева. — М.: ИНФРА-М, 2017. — 23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ейфуллаева М. Э.  Международный менеджмент: учебник / М. Э. Сейфуллаева. - М. : КноРус, 2012. - 22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Уткин Э.А. Этика бизнеса. Учебник. – М.: Издательство «Зерцало», 2000. – 25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Черненко В.А.  Международный бизнес Учебник / Под ред. д.э.н., проф. В.А. Черненко. — Санкт-Петербургский государственный университет сервиса и экономики. 2011. — 42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Прямоугольник 1"/>
          <p:cNvSpPr/>
          <p:nvPr/>
        </p:nvSpPr>
        <p:spPr>
          <a:xfrm>
            <a:off x="1205640" y="992520"/>
            <a:ext cx="9957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онная структура управления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это упо­рядоченная совокупность взаимосвязанных звеньев, обеспечива­ющих деятельность предприятия как единого целого. При этом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распределение функциональных обязанностей, прав и ответственности работников, а также форм взаимодействия между звен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3"/>
          <p:cNvSpPr/>
          <p:nvPr/>
        </p:nvSpPr>
        <p:spPr>
          <a:xfrm>
            <a:off x="1205640" y="2270160"/>
            <a:ext cx="9957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70360" algn="just">
              <a:lnSpc>
                <a:spcPct val="107000"/>
              </a:lnSpc>
              <a:tabLst>
                <a:tab algn="l" pos="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правления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ана обеспечить эффективную реализацию поставленной цели, поэтому критерием того, правильно ли избрана организационная структура, являются результаты работы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4"/>
          <p:cNvSpPr/>
          <p:nvPr/>
        </p:nvSpPr>
        <p:spPr>
          <a:xfrm>
            <a:off x="1205640" y="3329280"/>
            <a:ext cx="1009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ная структура основана на строгой подчиненности нижестоящего уровня управления вышестояще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5"/>
          <p:cNvSpPr/>
          <p:nvPr/>
        </p:nvSpPr>
        <p:spPr>
          <a:xfrm>
            <a:off x="1205640" y="4052880"/>
            <a:ext cx="9957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специализация значительно повышает эффективность управления благодаря углублению профессио­нальной специализации работ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Прямоугольник 6"/>
          <p:cNvSpPr/>
          <p:nvPr/>
        </p:nvSpPr>
        <p:spPr>
          <a:xfrm>
            <a:off x="1205640" y="4699440"/>
            <a:ext cx="9534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изиональная структура — это организационная струк­тура, которая наиболее полно отвечает постоянно меняющимся требованиям хозяйствования в условиях ры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ик 1"/>
          <p:cNvSpPr/>
          <p:nvPr/>
        </p:nvSpPr>
        <p:spPr>
          <a:xfrm>
            <a:off x="1246320" y="1058760"/>
            <a:ext cx="102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нская компания регистрируется как юридическое лицо и яв­ляется головной компанией объед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2"/>
          <p:cNvSpPr/>
          <p:nvPr/>
        </p:nvSpPr>
        <p:spPr>
          <a:xfrm>
            <a:off x="878040" y="1785960"/>
            <a:ext cx="1042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8836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ahoma"/>
              </a:rPr>
              <a:t> функции материнской комп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основных бизнес-стратегий международной комп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технической, инвестиционной, финансовой, произ­водственной, сбытовой и кадровой политикой комп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ятельности всех подразде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основных плановых показателей де­ятельности компании, своевременное внесение в них корректир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итикой слияний и поглощений, вступление в альян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300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й о ликвидации неэффективных струк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Прямоугольник 1"/>
          <p:cNvSpPr/>
          <p:nvPr/>
        </p:nvSpPr>
        <p:spPr>
          <a:xfrm>
            <a:off x="932760" y="905040"/>
            <a:ext cx="1062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ди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собый тип финансовой компании, которая создается для владения контрольными пакетами акций других компаний с целью контроля и управления их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2"/>
          <p:cNvSpPr/>
          <p:nvPr/>
        </p:nvSpPr>
        <p:spPr>
          <a:xfrm>
            <a:off x="932760" y="1692360"/>
            <a:ext cx="10449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919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формирований - общими усилиями обеспечить эффективность производства, конкурентоспособность создаваемой продукции, работ и услуг, как на внутреннем, так и на внешнем р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indent="2919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динг обладает следующи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имуществ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 другими формами организации крупного бизн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финансовых потоков участников интегрированной корпоративной структуры (ИК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я на трансакционных издерж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д ценами участников И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олидация финансовой отче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я производственных мощ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изация участия в капитале других фир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сификация товарных рын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зации стратегий, в том числе финансовых, участников И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онку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ourier New"/>
              <a:buChar char="­"/>
              <a:tabLst>
                <a:tab algn="l" pos="45036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ИКС к воздействию внешних факторов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Группа 1"/>
          <p:cNvGrpSpPr/>
          <p:nvPr/>
        </p:nvGrpSpPr>
        <p:grpSpPr>
          <a:xfrm>
            <a:off x="2115360" y="1194480"/>
            <a:ext cx="6141240" cy="1848240"/>
            <a:chOff x="2115360" y="1194480"/>
            <a:chExt cx="6141240" cy="1848240"/>
          </a:xfrm>
        </p:grpSpPr>
        <p:sp>
          <p:nvSpPr>
            <p:cNvPr id="902" name="Rectangle 4"/>
            <p:cNvSpPr/>
            <p:nvPr/>
          </p:nvSpPr>
          <p:spPr>
            <a:xfrm>
              <a:off x="4970160" y="1194480"/>
              <a:ext cx="3209760" cy="6753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Bef>
                  <a:spcPts val="1599"/>
                </a:spcBef>
                <a:spcAft>
                  <a:spcPts val="799"/>
                </a:spcAft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оловная комп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"/>
            <p:cNvSpPr/>
            <p:nvPr/>
          </p:nvSpPr>
          <p:spPr>
            <a:xfrm>
              <a:off x="2115360" y="2279160"/>
              <a:ext cx="1712160" cy="7635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добыч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6"/>
            <p:cNvSpPr/>
            <p:nvPr/>
          </p:nvSpPr>
          <p:spPr>
            <a:xfrm>
              <a:off x="3889080" y="2279160"/>
              <a:ext cx="2141280" cy="7635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транспортиров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6093000" y="2279160"/>
              <a:ext cx="2163600" cy="7635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переработ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AutoShape 8"/>
            <p:cNvCxnSpPr/>
            <p:nvPr/>
          </p:nvCxnSpPr>
          <p:spPr>
            <a:xfrm flipH="1">
              <a:off x="3138120" y="1870200"/>
              <a:ext cx="3235320" cy="4089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907" name="AutoShape 9"/>
            <p:cNvCxnSpPr/>
            <p:nvPr/>
          </p:nvCxnSpPr>
          <p:spPr>
            <a:xfrm flipH="1">
              <a:off x="5469120" y="1870200"/>
              <a:ext cx="904320" cy="4089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908" name="AutoShape 10"/>
            <p:cNvCxnSpPr/>
            <p:nvPr/>
          </p:nvCxnSpPr>
          <p:spPr>
            <a:xfrm>
              <a:off x="6515640" y="1870200"/>
              <a:ext cx="570600" cy="4089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909" name="Прямоугольник 9"/>
          <p:cNvSpPr/>
          <p:nvPr/>
        </p:nvSpPr>
        <p:spPr>
          <a:xfrm>
            <a:off x="2856960" y="3085560"/>
            <a:ext cx="50029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0.1 Интегрированная холдингов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0"/>
          <p:cNvSpPr/>
          <p:nvPr/>
        </p:nvSpPr>
        <p:spPr>
          <a:xfrm>
            <a:off x="1287360" y="3677040"/>
            <a:ext cx="952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ернее предприятие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юридически самостоятельная компания. Заключение сделок и вся документация ведутся отдельно от материн­ской комп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Группа 1"/>
          <p:cNvGrpSpPr/>
          <p:nvPr/>
        </p:nvGrpSpPr>
        <p:grpSpPr>
          <a:xfrm>
            <a:off x="3113280" y="1310400"/>
            <a:ext cx="6944760" cy="2456280"/>
            <a:chOff x="3113280" y="1310400"/>
            <a:chExt cx="6944760" cy="2456280"/>
          </a:xfrm>
        </p:grpSpPr>
        <p:sp>
          <p:nvSpPr>
            <p:cNvPr id="912" name="Rectangle 12"/>
            <p:cNvSpPr/>
            <p:nvPr/>
          </p:nvSpPr>
          <p:spPr>
            <a:xfrm>
              <a:off x="6200280" y="1310400"/>
              <a:ext cx="3472200" cy="8971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  <a:spcBef>
                  <a:spcPts val="601"/>
                </a:spcBef>
              </a:pPr>
              <a:r>
                <a:rPr b="0" lang="kk-KZ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Головная комп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3"/>
            <p:cNvSpPr/>
            <p:nvPr/>
          </p:nvSpPr>
          <p:spPr>
            <a:xfrm>
              <a:off x="3113280" y="2751480"/>
              <a:ext cx="1851480" cy="1015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продукт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4"/>
            <p:cNvSpPr/>
            <p:nvPr/>
          </p:nvSpPr>
          <p:spPr>
            <a:xfrm>
              <a:off x="5170320" y="2751480"/>
              <a:ext cx="2315520" cy="1015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продукт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5"/>
            <p:cNvSpPr/>
            <p:nvPr/>
          </p:nvSpPr>
          <p:spPr>
            <a:xfrm>
              <a:off x="7717680" y="2751480"/>
              <a:ext cx="2340360" cy="1015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Дочернее предприятие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продукт 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</a:pPr>
              <a:r>
                <a:rPr b="0" lang="kk-KZ" sz="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6" name="AutoShape 16"/>
            <p:cNvCxnSpPr/>
            <p:nvPr/>
          </p:nvCxnSpPr>
          <p:spPr>
            <a:xfrm flipH="1">
              <a:off x="4218840" y="2207880"/>
              <a:ext cx="3498840" cy="5436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917" name="AutoShape 17"/>
            <p:cNvCxnSpPr/>
            <p:nvPr/>
          </p:nvCxnSpPr>
          <p:spPr>
            <a:xfrm flipH="1">
              <a:off x="6740280" y="2207880"/>
              <a:ext cx="977400" cy="5436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918" name="AutoShape 18"/>
            <p:cNvCxnSpPr/>
            <p:nvPr/>
          </p:nvCxnSpPr>
          <p:spPr>
            <a:xfrm>
              <a:off x="7871760" y="2207880"/>
              <a:ext cx="617760" cy="5436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919" name="Прямоугольник 9"/>
          <p:cNvSpPr/>
          <p:nvPr/>
        </p:nvSpPr>
        <p:spPr>
          <a:xfrm>
            <a:off x="4085280" y="3943440"/>
            <a:ext cx="376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180360" algn="ctr">
              <a:lnSpc>
                <a:spcPct val="99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0.2 Конгломератный холд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Группа 1"/>
          <p:cNvGrpSpPr/>
          <p:nvPr/>
        </p:nvGrpSpPr>
        <p:grpSpPr>
          <a:xfrm>
            <a:off x="1924200" y="1575360"/>
            <a:ext cx="8748000" cy="1358280"/>
            <a:chOff x="1924200" y="1575360"/>
            <a:chExt cx="8748000" cy="1358280"/>
          </a:xfrm>
        </p:grpSpPr>
        <p:sp>
          <p:nvSpPr>
            <p:cNvPr id="921" name="Прямоугольник 2"/>
            <p:cNvSpPr/>
            <p:nvPr/>
          </p:nvSpPr>
          <p:spPr>
            <a:xfrm>
              <a:off x="1924200" y="2026440"/>
              <a:ext cx="4969080" cy="907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БАН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контрольный пакет акции предприят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Прямоугольник 3"/>
            <p:cNvSpPr/>
            <p:nvPr/>
          </p:nvSpPr>
          <p:spPr>
            <a:xfrm>
              <a:off x="7178760" y="2026440"/>
              <a:ext cx="3493440" cy="907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upright="1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едприят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контрольный пакт акции банк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3" name="Прямая со стрелкой 4"/>
            <p:cNvCxnSpPr/>
            <p:nvPr/>
          </p:nvCxnSpPr>
          <p:spPr>
            <a:xfrm flipH="1">
              <a:off x="3432960" y="1575360"/>
              <a:ext cx="2730960" cy="4420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924" name="Прямая со стрелкой 5"/>
            <p:cNvCxnSpPr/>
            <p:nvPr/>
          </p:nvCxnSpPr>
          <p:spPr>
            <a:xfrm>
              <a:off x="6181560" y="1575360"/>
              <a:ext cx="4077720" cy="4420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925" name="Прямоугольник 6"/>
          <p:cNvSpPr/>
          <p:nvPr/>
        </p:nvSpPr>
        <p:spPr>
          <a:xfrm>
            <a:off x="4688280" y="1064520"/>
            <a:ext cx="3329640" cy="5104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upright="1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овн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оугольник 7"/>
          <p:cNvSpPr/>
          <p:nvPr/>
        </p:nvSpPr>
        <p:spPr>
          <a:xfrm>
            <a:off x="4413600" y="3245760"/>
            <a:ext cx="33645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9000"/>
              </a:lnSpc>
              <a:tabLst>
                <a:tab algn="l" pos="28692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0.3 Перекрестный холд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Прямоугольник 1"/>
          <p:cNvSpPr/>
          <p:nvPr/>
        </p:nvSpPr>
        <p:spPr>
          <a:xfrm>
            <a:off x="1178280" y="882000"/>
            <a:ext cx="102171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9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-промышленные группы (ФПГ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сложные интегрированные формирования, создаваемые на основе частичного или полного объединения капитала технологически и экономически взаимосвязанных предприятий и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3"/>
          <p:cNvSpPr/>
          <p:nvPr/>
        </p:nvSpPr>
        <p:spPr>
          <a:xfrm>
            <a:off x="1301040" y="1965600"/>
            <a:ext cx="99306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8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возникновения таких групп лежит процесс проникновения торгового и финансового капитала в сферу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kk-KZ" sz="2400" spc="-1" strike="noStrike">
                <a:solidFill>
                  <a:srgbClr val="262626"/>
                </a:solidFill>
                <a:latin typeface="Garamond"/>
                <a:ea typeface="Garamond"/>
              </a:rPr>
              <a:t>3.1 Понятие и элементы корпоративной культуры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kk-KZ" sz="2400" spc="-1" strike="noStrike">
                <a:solidFill>
                  <a:srgbClr val="262626"/>
                </a:solidFill>
                <a:latin typeface="Garamond"/>
                <a:ea typeface="Garamond"/>
              </a:rPr>
              <a:t>3.2 Необходимость учета национальной психологии, традиций, обычаев конкретной страны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kk-KZ" sz="2400" spc="-1" strike="noStrike">
                <a:solidFill>
                  <a:srgbClr val="262626"/>
                </a:solidFill>
                <a:latin typeface="Garamond"/>
                <a:ea typeface="Garamond"/>
              </a:rPr>
              <a:t>3.3 Этика и социальная ответственность в международном бизнесе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1" name="Прямоугольник 3"/>
          <p:cNvSpPr/>
          <p:nvPr/>
        </p:nvSpPr>
        <p:spPr>
          <a:xfrm>
            <a:off x="2143080" y="764640"/>
            <a:ext cx="6583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Лекция 4 Корпоративная культура международн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Прямоугольник 1"/>
          <p:cNvSpPr/>
          <p:nvPr/>
        </p:nvSpPr>
        <p:spPr>
          <a:xfrm>
            <a:off x="1150920" y="891000"/>
            <a:ext cx="1031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оративная культура это сово­купность принципов, ценностей и правил деятельности организации, которые разделяются большинством ее членов и передаются из поко­ления в поко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2"/>
          <p:cNvSpPr/>
          <p:nvPr/>
        </p:nvSpPr>
        <p:spPr>
          <a:xfrm>
            <a:off x="4066920" y="1651320"/>
            <a:ext cx="4735440" cy="491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</a:t>
            </a: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сновны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е</a:t>
            </a: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 уровни корпоратив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3"/>
          <p:cNvSpPr/>
          <p:nvPr/>
        </p:nvSpPr>
        <p:spPr>
          <a:xfrm>
            <a:off x="1433160" y="2415600"/>
            <a:ext cx="2633760" cy="6411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Внеш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Прямоугольник 4"/>
          <p:cNvSpPr/>
          <p:nvPr/>
        </p:nvSpPr>
        <p:spPr>
          <a:xfrm>
            <a:off x="4814280" y="2415600"/>
            <a:ext cx="2633760" cy="6411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Внутре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5"/>
          <p:cNvSpPr/>
          <p:nvPr/>
        </p:nvSpPr>
        <p:spPr>
          <a:xfrm>
            <a:off x="8191080" y="2415600"/>
            <a:ext cx="2633760" cy="6411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Подсознательный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6"/>
          <p:cNvSpPr/>
          <p:nvPr/>
        </p:nvSpPr>
        <p:spPr>
          <a:xfrm>
            <a:off x="1433160" y="3330000"/>
            <a:ext cx="2633760" cy="750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Видимые объекты, Артефакты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7"/>
          <p:cNvSpPr/>
          <p:nvPr/>
        </p:nvSpPr>
        <p:spPr>
          <a:xfrm>
            <a:off x="4814280" y="3330000"/>
            <a:ext cx="2633760" cy="750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бщие ценности и уб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Прямоугольник 8"/>
          <p:cNvSpPr/>
          <p:nvPr/>
        </p:nvSpPr>
        <p:spPr>
          <a:xfrm>
            <a:off x="8191080" y="3330000"/>
            <a:ext cx="2633760" cy="750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Базовые, основополагающие ценности и убеж­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0" name="Прямая соединительная линия 10"/>
          <p:cNvCxnSpPr/>
          <p:nvPr/>
        </p:nvCxnSpPr>
        <p:spPr>
          <a:xfrm flipV="1">
            <a:off x="6434640" y="2142360"/>
            <a:ext cx="360" cy="1504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41" name="Прямая соединительная линия 13"/>
          <p:cNvCxnSpPr/>
          <p:nvPr/>
        </p:nvCxnSpPr>
        <p:spPr>
          <a:xfrm>
            <a:off x="2606400" y="2292480"/>
            <a:ext cx="69015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42" name="Прямая со стрелкой 15"/>
          <p:cNvCxnSpPr/>
          <p:nvPr/>
        </p:nvCxnSpPr>
        <p:spPr>
          <a:xfrm>
            <a:off x="2606400" y="2292480"/>
            <a:ext cx="360" cy="123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3" name="Прямая со стрелкой 17"/>
          <p:cNvCxnSpPr>
            <a:endCxn id="935" idx="0"/>
          </p:cNvCxnSpPr>
          <p:nvPr/>
        </p:nvCxnSpPr>
        <p:spPr>
          <a:xfrm>
            <a:off x="6131160" y="2292480"/>
            <a:ext cx="360" cy="123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4" name="Прямая со стрелкой 19"/>
          <p:cNvCxnSpPr>
            <a:endCxn id="936" idx="0"/>
          </p:cNvCxnSpPr>
          <p:nvPr/>
        </p:nvCxnSpPr>
        <p:spPr>
          <a:xfrm>
            <a:off x="9507600" y="2292480"/>
            <a:ext cx="360" cy="123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5" name="Прямая со стрелкой 21"/>
          <p:cNvCxnSpPr>
            <a:stCxn id="934" idx="2"/>
            <a:endCxn id="937" idx="0"/>
          </p:cNvCxnSpPr>
          <p:nvPr/>
        </p:nvCxnSpPr>
        <p:spPr>
          <a:xfrm>
            <a:off x="2749680" y="3056760"/>
            <a:ext cx="360" cy="273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6" name="Прямая со стрелкой 24"/>
          <p:cNvCxnSpPr>
            <a:stCxn id="935" idx="2"/>
            <a:endCxn id="938" idx="0"/>
          </p:cNvCxnSpPr>
          <p:nvPr/>
        </p:nvCxnSpPr>
        <p:spPr>
          <a:xfrm>
            <a:off x="6131160" y="3056760"/>
            <a:ext cx="360" cy="273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47" name="Прямая со стрелкой 26"/>
          <p:cNvCxnSpPr>
            <a:stCxn id="936" idx="2"/>
            <a:endCxn id="939" idx="0"/>
          </p:cNvCxnSpPr>
          <p:nvPr/>
        </p:nvCxnSpPr>
        <p:spPr>
          <a:xfrm>
            <a:off x="9507600" y="3056760"/>
            <a:ext cx="360" cy="273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48" name="Прямоугольник 27"/>
          <p:cNvSpPr/>
          <p:nvPr/>
        </p:nvSpPr>
        <p:spPr>
          <a:xfrm>
            <a:off x="3735720" y="4480560"/>
            <a:ext cx="544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Основные уровни корпоратив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Прямоугольник 1"/>
          <p:cNvSpPr/>
          <p:nvPr/>
        </p:nvSpPr>
        <p:spPr>
          <a:xfrm>
            <a:off x="4190040" y="805320"/>
            <a:ext cx="4667040" cy="7092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Элементы корпоративн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Прямоугольник 2"/>
          <p:cNvSpPr/>
          <p:nvPr/>
        </p:nvSpPr>
        <p:spPr>
          <a:xfrm>
            <a:off x="1583280" y="1815120"/>
            <a:ext cx="7601400" cy="40258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- </a:t>
            </a: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философия комп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система ценностей, стандартов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девизы, лозунги, симв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мифы, легенды, геро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ритуалы, традиции,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корпоративные коммуникации, дизайн,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деловая этика (этика бизне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фирменный сти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имидж комп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Garamond"/>
              </a:rPr>
              <a:t>- патрио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1" name="Прямая соединительная линия 4"/>
          <p:cNvCxnSpPr>
            <a:stCxn id="949" idx="2"/>
          </p:cNvCxnSpPr>
          <p:nvPr/>
        </p:nvCxnSpPr>
        <p:spPr>
          <a:xfrm>
            <a:off x="6523560" y="1514880"/>
            <a:ext cx="360" cy="3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Garamond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1.1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. Определение международного менеджмента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1.2. Сущность, структура и особенности развития между-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народного менеджмента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767520" y="692640"/>
            <a:ext cx="10800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Лекция 1. Определение и основные категории международного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Прямоугольник 1"/>
          <p:cNvSpPr/>
          <p:nvPr/>
        </p:nvSpPr>
        <p:spPr>
          <a:xfrm>
            <a:off x="1041840" y="937800"/>
            <a:ext cx="101628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9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оративная идентичность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ммуникационная индивиду­альность, «лицо компании», обеспечивающее ее узнаваемость, а также ее отличия от конкур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Прямоугольник 2"/>
          <p:cNvSpPr/>
          <p:nvPr/>
        </p:nvSpPr>
        <p:spPr>
          <a:xfrm>
            <a:off x="1041840" y="1578600"/>
            <a:ext cx="99306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9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цель управления корпоративной идентичностью состоит в формировании имиджа компании и обеспечении лояльности потре­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Прямоугольник 3"/>
          <p:cNvSpPr/>
          <p:nvPr/>
        </p:nvSpPr>
        <p:spPr>
          <a:xfrm>
            <a:off x="1041840" y="2340360"/>
            <a:ext cx="103266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ж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только средство, инструмент управления, но и объект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й имидж создается основной деятельностью компании, а также целенаправленной информационной работой, ориентирован­ными на целевые сегменты потребителе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миджа осуществляется посред­ством использования маркетинговых коммуникаций (реклама, стиму­лирование сбыта, связи с общественностью, личные продажи, а также директ-маркетин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оугольник 5"/>
          <p:cNvSpPr/>
          <p:nvPr/>
        </p:nvSpPr>
        <p:spPr>
          <a:xfrm>
            <a:off x="4635720" y="3852720"/>
            <a:ext cx="2974680" cy="3718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имид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6"/>
          <p:cNvSpPr/>
          <p:nvPr/>
        </p:nvSpPr>
        <p:spPr>
          <a:xfrm>
            <a:off x="1610280" y="4586400"/>
            <a:ext cx="2865600" cy="7365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Фирменный (корпоративный)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7"/>
          <p:cNvSpPr/>
          <p:nvPr/>
        </p:nvSpPr>
        <p:spPr>
          <a:xfrm>
            <a:off x="5229360" y="4600440"/>
            <a:ext cx="2381040" cy="7084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формление оф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8"/>
          <p:cNvSpPr/>
          <p:nvPr/>
        </p:nvSpPr>
        <p:spPr>
          <a:xfrm>
            <a:off x="8150040" y="4600440"/>
            <a:ext cx="2713320" cy="7365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рганизация приема посет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Прямая со стрелкой 10"/>
          <p:cNvCxnSpPr>
            <a:stCxn id="955" idx="2"/>
          </p:cNvCxnSpPr>
          <p:nvPr/>
        </p:nvCxnSpPr>
        <p:spPr>
          <a:xfrm flipH="1">
            <a:off x="3862080" y="4224960"/>
            <a:ext cx="2261520" cy="36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60" name="Прямая со стрелкой 12"/>
          <p:cNvCxnSpPr>
            <a:stCxn id="955" idx="2"/>
          </p:cNvCxnSpPr>
          <p:nvPr/>
        </p:nvCxnSpPr>
        <p:spPr>
          <a:xfrm>
            <a:off x="6123240" y="4224960"/>
            <a:ext cx="2693520" cy="354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61" name="Прямая со стрелкой 14"/>
          <p:cNvCxnSpPr>
            <a:stCxn id="955" idx="2"/>
          </p:cNvCxnSpPr>
          <p:nvPr/>
        </p:nvCxnSpPr>
        <p:spPr>
          <a:xfrm>
            <a:off x="6123240" y="4224960"/>
            <a:ext cx="360" cy="407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62" name="Прямоугольник 15"/>
          <p:cNvSpPr/>
          <p:nvPr/>
        </p:nvSpPr>
        <p:spPr>
          <a:xfrm>
            <a:off x="4837320" y="5482440"/>
            <a:ext cx="33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Компоненты имидж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Прямоугольник 1"/>
          <p:cNvSpPr/>
          <p:nvPr/>
        </p:nvSpPr>
        <p:spPr>
          <a:xfrm>
            <a:off x="1000800" y="813240"/>
            <a:ext cx="102171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енный стиль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набор цветовых, графичес­ких, словесных, типографских и дизайнерских констант, обеспечи­вающих визуальное и смысловое единство товаров и услуг, всей ис­ходящей от фирмы информации, ее внутреннего и внешнего офор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2"/>
          <p:cNvSpPr/>
          <p:nvPr/>
        </p:nvSpPr>
        <p:spPr>
          <a:xfrm>
            <a:off x="2779560" y="1920240"/>
            <a:ext cx="6659640" cy="6480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Элементы фирменного стиля комп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"/>
          <p:cNvSpPr/>
          <p:nvPr/>
        </p:nvSpPr>
        <p:spPr>
          <a:xfrm>
            <a:off x="1555920" y="2844360"/>
            <a:ext cx="8611200" cy="22788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товарный знак (логотип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фирменный бл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набор шрифтов (фирменные цве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графические символы (сигнатуры и пиктограм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слоган (словесный рекламный деви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6" name="Прямая со стрелкой 5"/>
          <p:cNvCxnSpPr>
            <a:stCxn id="964" idx="2"/>
          </p:cNvCxnSpPr>
          <p:nvPr/>
        </p:nvCxnSpPr>
        <p:spPr>
          <a:xfrm>
            <a:off x="6109560" y="2568240"/>
            <a:ext cx="360" cy="2761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Прямоугольник 1"/>
          <p:cNvSpPr/>
          <p:nvPr/>
        </p:nvSpPr>
        <p:spPr>
          <a:xfrm>
            <a:off x="2975040" y="996120"/>
            <a:ext cx="7464960" cy="491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Garamond"/>
                <a:ea typeface="Garamond"/>
              </a:rPr>
              <a:t>Типы корпоративных культур международной ком­п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Прямоугольник 2"/>
          <p:cNvSpPr/>
          <p:nvPr/>
        </p:nvSpPr>
        <p:spPr>
          <a:xfrm>
            <a:off x="1214640" y="1842480"/>
            <a:ext cx="3752640" cy="914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Рыночная культура базируется на господстве стоимостных отно­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5491080" y="1828800"/>
            <a:ext cx="5972760" cy="12960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Руководство компании и персонал ориентированы на дости­жение максимальной эффективности. Эта культура соответствует фирмам, которые функционируют на высококонкурентных рынках и в новых отрас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4"/>
          <p:cNvSpPr/>
          <p:nvPr/>
        </p:nvSpPr>
        <p:spPr>
          <a:xfrm>
            <a:off x="1214640" y="3412080"/>
            <a:ext cx="3752640" cy="7912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Бюрократическая культура основывается на системе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Прямоугольник 5"/>
          <p:cNvSpPr/>
          <p:nvPr/>
        </p:nvSpPr>
        <p:spPr>
          <a:xfrm>
            <a:off x="5491080" y="3350520"/>
            <a:ext cx="5972760" cy="11527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существляет регламентацию всей деятельности компании в форме правил, инструкций и процедур. Данная культура характерна для раз­вивающихся стран и компаний, работающих на стабильных рын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6"/>
          <p:cNvSpPr/>
          <p:nvPr/>
        </p:nvSpPr>
        <p:spPr>
          <a:xfrm>
            <a:off x="1214640" y="4858560"/>
            <a:ext cx="3752640" cy="8186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Техническая культура характерна для международ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7"/>
          <p:cNvSpPr/>
          <p:nvPr/>
        </p:nvSpPr>
        <p:spPr>
          <a:xfrm>
            <a:off x="5491080" y="4728960"/>
            <a:ext cx="5972760" cy="10436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Фукционирование в отраслях машиностроения, производства энер­гетического оборудования, химии, а также для стран, имеющих ус­пешный исторический опыт технических разра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Прямая со стрелкой 9"/>
          <p:cNvCxnSpPr>
            <a:stCxn id="968" idx="3"/>
          </p:cNvCxnSpPr>
          <p:nvPr/>
        </p:nvCxnSpPr>
        <p:spPr>
          <a:xfrm>
            <a:off x="4967640" y="2299320"/>
            <a:ext cx="523440" cy="72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75" name="Прямая со стрелкой 13"/>
          <p:cNvCxnSpPr>
            <a:stCxn id="970" idx="3"/>
          </p:cNvCxnSpPr>
          <p:nvPr/>
        </p:nvCxnSpPr>
        <p:spPr>
          <a:xfrm>
            <a:off x="4967640" y="3807720"/>
            <a:ext cx="478080" cy="3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76" name="Прямая со стрелкой 17"/>
          <p:cNvCxnSpPr>
            <a:stCxn id="972" idx="3"/>
            <a:endCxn id="973" idx="1"/>
          </p:cNvCxnSpPr>
          <p:nvPr/>
        </p:nvCxnSpPr>
        <p:spPr>
          <a:xfrm flipV="1">
            <a:off x="4967640" y="5250960"/>
            <a:ext cx="523440" cy="17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Прямоугольник 1"/>
          <p:cNvSpPr/>
          <p:nvPr/>
        </p:nvSpPr>
        <p:spPr>
          <a:xfrm>
            <a:off x="645840" y="645120"/>
            <a:ext cx="108860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мериканская модель менеджмента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ется иерархиче­ской бюрократией со специфическими функциями и должностями, четко зафиксированными в документации комп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2"/>
          <p:cNvSpPr/>
          <p:nvPr/>
        </p:nvSpPr>
        <p:spPr>
          <a:xfrm flipH="1">
            <a:off x="4181040" y="1419480"/>
            <a:ext cx="4266720" cy="6001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мериканская модель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3"/>
          <p:cNvSpPr/>
          <p:nvPr/>
        </p:nvSpPr>
        <p:spPr>
          <a:xfrm>
            <a:off x="1214640" y="2266920"/>
            <a:ext cx="2966040" cy="914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kk-KZ" sz="2000" spc="-1" strike="noStrike">
                <a:solidFill>
                  <a:srgbClr val="000000"/>
                </a:solidFill>
                <a:latin typeface="Garamond"/>
                <a:ea typeface="Garamond"/>
              </a:rPr>
              <a:t>Деловитость, отличные организаторские способности.</a:t>
            </a:r>
            <a:r>
              <a:rPr b="0" lang="kk-KZ" sz="2000" spc="-1" strike="noStrike">
                <a:solidFill>
                  <a:srgbClr val="000000"/>
                </a:solidFill>
                <a:latin typeface="Garamond"/>
                <a:ea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4"/>
          <p:cNvSpPr/>
          <p:nvPr/>
        </p:nvSpPr>
        <p:spPr>
          <a:xfrm>
            <a:off x="4503240" y="2266920"/>
            <a:ext cx="2795040" cy="914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k-KZ" sz="2000" spc="-1" strike="noStrike">
                <a:solidFill>
                  <a:srgbClr val="000000"/>
                </a:solidFill>
                <a:latin typeface="Garamond"/>
                <a:ea typeface="Garamond"/>
              </a:rPr>
              <a:t>Единство слова и 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Прямоугольник 5"/>
          <p:cNvSpPr/>
          <p:nvPr/>
        </p:nvSpPr>
        <p:spPr>
          <a:xfrm>
            <a:off x="7621200" y="2266920"/>
            <a:ext cx="3760920" cy="9140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Обеспечение компетентности персонала, развитость индустрии со­вершенствования 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6"/>
          <p:cNvSpPr/>
          <p:nvPr/>
        </p:nvSpPr>
        <p:spPr>
          <a:xfrm>
            <a:off x="1214640" y="3589200"/>
            <a:ext cx="2966040" cy="16236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Американские менеджеры являются искусниками</a:t>
            </a:r>
            <a:r>
              <a:rPr b="0" i="1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получать мак­симальную выгоду из созданного бизнеса или сложившейся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Прямоугольник 7"/>
          <p:cNvSpPr/>
          <p:nvPr/>
        </p:nvSpPr>
        <p:spPr>
          <a:xfrm>
            <a:off x="4555080" y="3589200"/>
            <a:ext cx="2890800" cy="21834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Американские управленцы выполняют все взятые обязательства, верны свое­му слову, всем разделам подписанного им контракта. Невыполненное обещание  приведет к подрыву доверия к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Прямоугольник 8"/>
          <p:cNvSpPr/>
          <p:nvPr/>
        </p:nvSpPr>
        <p:spPr>
          <a:xfrm>
            <a:off x="7819920" y="3619800"/>
            <a:ext cx="3561840" cy="16887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kk-KZ" sz="1800" spc="-1" strike="noStrike">
                <a:solidFill>
                  <a:srgbClr val="000000"/>
                </a:solidFill>
                <a:latin typeface="Garamond"/>
                <a:ea typeface="Garamond"/>
              </a:rPr>
              <a:t>Для обеспечения совершенство-вания управления работниками американские менеджеры проводят систему подготовки и повышения квалификации персонала, разви­тие ее обучающи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Прямая со стрелкой 10"/>
          <p:cNvCxnSpPr>
            <a:stCxn id="979" idx="2"/>
            <a:endCxn id="982" idx="0"/>
          </p:cNvCxnSpPr>
          <p:nvPr/>
        </p:nvCxnSpPr>
        <p:spPr>
          <a:xfrm>
            <a:off x="2697480" y="3181320"/>
            <a:ext cx="360" cy="408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86" name="Прямая со стрелкой 11"/>
          <p:cNvCxnSpPr/>
          <p:nvPr/>
        </p:nvCxnSpPr>
        <p:spPr>
          <a:xfrm>
            <a:off x="6089040" y="3173760"/>
            <a:ext cx="360" cy="408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87" name="Прямая со стрелкой 13"/>
          <p:cNvCxnSpPr>
            <a:stCxn id="981" idx="2"/>
          </p:cNvCxnSpPr>
          <p:nvPr/>
        </p:nvCxnSpPr>
        <p:spPr>
          <a:xfrm>
            <a:off x="9501480" y="3181320"/>
            <a:ext cx="360" cy="4006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88" name="Прямая со стрелкой 16"/>
          <p:cNvCxnSpPr>
            <a:stCxn id="978" idx="2"/>
          </p:cNvCxnSpPr>
          <p:nvPr/>
        </p:nvCxnSpPr>
        <p:spPr>
          <a:xfrm flipH="1">
            <a:off x="4066920" y="2019600"/>
            <a:ext cx="2247840" cy="2476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89" name="Прямая со стрелкой 18"/>
          <p:cNvCxnSpPr>
            <a:stCxn id="978" idx="2"/>
          </p:cNvCxnSpPr>
          <p:nvPr/>
        </p:nvCxnSpPr>
        <p:spPr>
          <a:xfrm>
            <a:off x="6314400" y="2019600"/>
            <a:ext cx="2502360" cy="209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90" name="Прямая со стрелкой 20"/>
          <p:cNvCxnSpPr>
            <a:stCxn id="978" idx="2"/>
          </p:cNvCxnSpPr>
          <p:nvPr/>
        </p:nvCxnSpPr>
        <p:spPr>
          <a:xfrm>
            <a:off x="6314400" y="2019600"/>
            <a:ext cx="360" cy="2476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Прямоугольник 1"/>
          <p:cNvSpPr/>
          <p:nvPr/>
        </p:nvSpPr>
        <p:spPr>
          <a:xfrm>
            <a:off x="1014480" y="904680"/>
            <a:ext cx="102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еджмент в Японии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ажает ее исторические особенности, культуру, социальную психологию и не­посредственно связан с общественно-экономическим укладом стра­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Прямоугольник 2"/>
          <p:cNvSpPr/>
          <p:nvPr/>
        </p:nvSpPr>
        <p:spPr>
          <a:xfrm>
            <a:off x="1014480" y="1692720"/>
            <a:ext cx="10203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55960"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и экономических успехов современной Япо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ис­кать в системе образования и воспитания, которые не завершаются с окончанием школы или университета. Мощным средством развития человека является принцип управления фирмой, ориентированный на раскрытие творческого потенциала работ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Прямоугольник 3"/>
          <p:cNvSpPr/>
          <p:nvPr/>
        </p:nvSpPr>
        <p:spPr>
          <a:xfrm>
            <a:off x="1014480" y="3138480"/>
            <a:ext cx="102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55960"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японских компа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большая сплоченность персонала, умени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овать как одна команда в интересах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Прямоугольник 1"/>
          <p:cNvSpPr/>
          <p:nvPr/>
        </p:nvSpPr>
        <p:spPr>
          <a:xfrm>
            <a:off x="932760" y="1015560"/>
            <a:ext cx="102855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 indent="255960" algn="just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ая деловая культура отличается высоким уровне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бе­гания неопределенност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, в частности, проявляется в привержен­ности менеджеров на протяжении карьеры од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indent="255960"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ранции репутация страны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видуалистической культурой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особенностью явля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кая дистанция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kk-KZ" sz="4000" spc="-1" strike="noStrike">
                <a:solidFill>
                  <a:srgbClr val="262626"/>
                </a:solidFill>
                <a:latin typeface="Garamond"/>
                <a:ea typeface="Garamond"/>
              </a:rPr>
              <a:t>План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Garamond"/>
              </a:rPr>
              <a:t>5.1</a:t>
            </a:r>
            <a:r>
              <a:rPr b="1" lang="ru-RU" sz="2400" spc="-1" strike="noStrike">
                <a:solidFill>
                  <a:srgbClr val="262626"/>
                </a:solidFill>
                <a:latin typeface="Garamond"/>
                <a:ea typeface="Garamond"/>
              </a:rPr>
              <a:t> </a:t>
            </a: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Garamond"/>
              </a:rPr>
              <a:t>Понятие международного стратегического менеджмента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Garamond"/>
              </a:rPr>
              <a:t>5.2 Виды международных стратегий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64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Garamond"/>
              </a:rPr>
              <a:t>5.3 Разработка международных стратегий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97" name="Заголовок 1"/>
          <p:cNvSpPr/>
          <p:nvPr/>
        </p:nvSpPr>
        <p:spPr>
          <a:xfrm>
            <a:off x="1447920" y="1484640"/>
            <a:ext cx="9600840" cy="9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4000" spc="-1" strike="noStrike">
              <a:solidFill>
                <a:srgbClr val="262626"/>
              </a:solidFill>
              <a:latin typeface="Garamond"/>
              <a:ea typeface="Garamond"/>
            </a:endParaRPr>
          </a:p>
        </p:txBody>
      </p:sp>
      <p:sp>
        <p:nvSpPr>
          <p:cNvPr id="998" name="Подзаголовок 2"/>
          <p:cNvSpPr/>
          <p:nvPr/>
        </p:nvSpPr>
        <p:spPr>
          <a:xfrm>
            <a:off x="1703520" y="692640"/>
            <a:ext cx="7751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4000"/>
          </a:bodyPr>
          <a:p>
            <a:pPr marL="272520" indent="-27252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Garamond"/>
              </a:rPr>
              <a:t>Лекция 5. Международный стратегический менедж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Группа 4"/>
          <p:cNvGrpSpPr/>
          <p:nvPr/>
        </p:nvGrpSpPr>
        <p:grpSpPr>
          <a:xfrm>
            <a:off x="2715840" y="1218960"/>
            <a:ext cx="6891840" cy="3625920"/>
            <a:chOff x="2715840" y="1218960"/>
            <a:chExt cx="6891840" cy="3625920"/>
          </a:xfrm>
        </p:grpSpPr>
        <p:sp>
          <p:nvSpPr>
            <p:cNvPr id="1000" name="Овал 5"/>
            <p:cNvSpPr/>
            <p:nvPr/>
          </p:nvSpPr>
          <p:spPr>
            <a:xfrm>
              <a:off x="2715840" y="1218960"/>
              <a:ext cx="6891840" cy="362592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Garamond"/>
                <a:ea typeface="Garamond"/>
              </a:endParaRPr>
            </a:p>
          </p:txBody>
        </p:sp>
        <p:sp>
          <p:nvSpPr>
            <p:cNvPr id="1001" name="Прямоугольник 6"/>
            <p:cNvSpPr/>
            <p:nvPr/>
          </p:nvSpPr>
          <p:spPr>
            <a:xfrm>
              <a:off x="5361480" y="1405080"/>
              <a:ext cx="1596960" cy="647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цепция                                             достижения                                        успех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1100" spc="-1" strike="noStrike">
                  <a:solidFill>
                    <a:srgbClr val="000000"/>
                  </a:solidFill>
                  <a:latin typeface="Garamond"/>
                  <a:ea typeface="Calibri"/>
                </a:rPr>
                <a:t>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Прямоугольник 7"/>
            <p:cNvSpPr/>
            <p:nvPr/>
          </p:nvSpPr>
          <p:spPr>
            <a:xfrm>
              <a:off x="3448080" y="1988280"/>
              <a:ext cx="1475640" cy="7639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бязательство действовать   определённым    образом          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рямоугольник 8"/>
            <p:cNvSpPr/>
            <p:nvPr/>
          </p:nvSpPr>
          <p:spPr>
            <a:xfrm>
              <a:off x="3351240" y="2956680"/>
              <a:ext cx="1567440" cy="10224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имбиоз  запланированных    действий и реакций на непредвиденные    ситу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Прямоугольник 9"/>
            <p:cNvSpPr/>
            <p:nvPr/>
          </p:nvSpPr>
          <p:spPr>
            <a:xfrm>
              <a:off x="7425000" y="1988280"/>
              <a:ext cx="1440360" cy="9061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just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овокупность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главных целей и основных способов их достиж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Прямоугольник 10"/>
            <p:cNvSpPr/>
            <p:nvPr/>
          </p:nvSpPr>
          <p:spPr>
            <a:xfrm>
              <a:off x="7508160" y="3130200"/>
              <a:ext cx="1509480" cy="8931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Направление развития в определенный период времен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Прямоугольник 11"/>
            <p:cNvSpPr/>
            <p:nvPr/>
          </p:nvSpPr>
          <p:spPr>
            <a:xfrm>
              <a:off x="5278320" y="3974400"/>
              <a:ext cx="1613880" cy="647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мплекс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лан развит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Овал 12"/>
            <p:cNvSpPr/>
            <p:nvPr/>
          </p:nvSpPr>
          <p:spPr>
            <a:xfrm>
              <a:off x="4978800" y="2435400"/>
              <a:ext cx="2362320" cy="1126440"/>
            </a:xfrm>
            <a:prstGeom prst="ellipse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тратегия организ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эт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8" name="Прямая соединительная линия 13"/>
            <p:cNvCxnSpPr/>
            <p:nvPr/>
          </p:nvCxnSpPr>
          <p:spPr>
            <a:xfrm>
              <a:off x="6725880" y="3564720"/>
              <a:ext cx="955440" cy="1101240"/>
            </a:xfrm>
            <a:prstGeom prst="straightConnector1">
              <a:avLst/>
            </a:prstGeom>
            <a:ln>
              <a:solidFill>
                <a:srgbClr val="deb340"/>
              </a:solidFill>
              <a:round/>
            </a:ln>
          </p:spPr>
        </p:cxnSp>
        <p:cxnSp>
          <p:nvCxnSpPr>
            <p:cNvPr id="1009" name="Прямая соединительная линия 14"/>
            <p:cNvCxnSpPr/>
            <p:nvPr/>
          </p:nvCxnSpPr>
          <p:spPr>
            <a:xfrm flipH="1">
              <a:off x="6792480" y="1516680"/>
              <a:ext cx="1076760" cy="984600"/>
            </a:xfrm>
            <a:prstGeom prst="straightConnector1">
              <a:avLst/>
            </a:prstGeom>
            <a:ln>
              <a:solidFill>
                <a:srgbClr val="deb340"/>
              </a:solidFill>
              <a:round/>
            </a:ln>
          </p:spPr>
        </p:cxnSp>
        <p:cxnSp>
          <p:nvCxnSpPr>
            <p:cNvPr id="1010" name="Прямая соединительная линия 15"/>
            <p:cNvCxnSpPr/>
            <p:nvPr/>
          </p:nvCxnSpPr>
          <p:spPr>
            <a:xfrm flipH="1">
              <a:off x="4396320" y="3527280"/>
              <a:ext cx="1110600" cy="1036440"/>
            </a:xfrm>
            <a:prstGeom prst="straightConnector1">
              <a:avLst/>
            </a:prstGeom>
            <a:ln>
              <a:solidFill>
                <a:srgbClr val="deb340"/>
              </a:solidFill>
              <a:round/>
            </a:ln>
          </p:spPr>
        </p:cxnSp>
        <p:cxnSp>
          <p:nvCxnSpPr>
            <p:cNvPr id="1011" name="Прямая соединительная линия 16"/>
            <p:cNvCxnSpPr/>
            <p:nvPr/>
          </p:nvCxnSpPr>
          <p:spPr>
            <a:xfrm>
              <a:off x="2748960" y="2832120"/>
              <a:ext cx="2344320" cy="360"/>
            </a:xfrm>
            <a:prstGeom prst="straightConnector1">
              <a:avLst/>
            </a:prstGeom>
            <a:ln>
              <a:solidFill>
                <a:srgbClr val="deb340"/>
              </a:solidFill>
              <a:round/>
            </a:ln>
          </p:spPr>
        </p:cxnSp>
      </p:grpSp>
      <p:cxnSp>
        <p:nvCxnSpPr>
          <p:cNvPr id="1012" name="Прямая соединительная линия 18"/>
          <p:cNvCxnSpPr/>
          <p:nvPr/>
        </p:nvCxnSpPr>
        <p:spPr>
          <a:xfrm>
            <a:off x="4826160" y="1473480"/>
            <a:ext cx="680760" cy="102780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3" name="Таблица 1"/>
          <p:cNvGraphicFramePr/>
          <p:nvPr/>
        </p:nvGraphicFramePr>
        <p:xfrm>
          <a:off x="1310040" y="1088280"/>
          <a:ext cx="9171000" cy="4783320"/>
        </p:xfrm>
        <a:graphic>
          <a:graphicData uri="http://schemas.openxmlformats.org/drawingml/2006/table">
            <a:tbl>
              <a:tblPr/>
              <a:tblGrid>
                <a:gridCol w="2288160"/>
                <a:gridCol w="3178440"/>
                <a:gridCol w="3704040"/>
              </a:tblGrid>
              <a:tr h="1242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Деятельность компаний в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Международные операции комп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7596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Англий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 rowSpan="3"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еобходимость использования местного 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Разнородная, как культура раз­личных стран (или одной стран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Однор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Стабильность и сравнительно небольшая роль в ведении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Относительная однородность экономических усло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Большие отклонения экономиче­ских условий в разных стра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31068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меша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Минимальный уровень, прием­лемая предсказуе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о многих случаях высокий уро­вень вмешательства государства в случае резких изменений эко­номических услов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3726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Рабочая с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Квалифицированная рабочая с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едостаток квалифицированной рабочей силы, необходимость мо­дернизации и профессиональной подготовки рабоч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2556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Финансирова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аличие развитых финансов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едостаточно развитые финансо­вые рынки, движение капитала под контролем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2484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Маркетин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Доступность необходим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о многих случаях дорогая и сложная процедура сбор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2484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Реклам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Доступность, почти полное отсутствие ограни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Ограниченный доступ к средствам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2394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kk-KZ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алю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</a:pPr>
                      <a:r>
                        <a:rPr b="0" lang="kk-KZ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Доллар США почти повсемест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kk-KZ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Необходимость обмена валюты, колебания валютных курсов, валютные ограничения со стороны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18612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Транспор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сис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Одна из лучших в ми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о многих случаях не соответству­ет современным требов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31068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Проблематичность, действен­ность централизованных про­цедур контро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Более высокая степень проблема­тичности, балансирование между централизацией и децентрализа­ц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18612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Обяз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озможность пересмотра, если не удовлетворяют требованиям одной из стор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248400"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Трудовые отно­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Коллективный договор. Упро­щенная процедура увольнения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2520" rIns="25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Во многих случаях увольнение не­возможно. Возможно обязатель­ное условие участия в управл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0">
                <a:tc gridSpan="3">
                  <a:txBody>
                    <a:bodyPr lIns="2520" rIns="2520" tIns="0" bIns="0" anchor="t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" marR="25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Прямоугольник 2"/>
          <p:cNvSpPr/>
          <p:nvPr/>
        </p:nvSpPr>
        <p:spPr>
          <a:xfrm>
            <a:off x="1628640" y="670680"/>
            <a:ext cx="94939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Таблица 1. Различия между внутренней и международной деятельностью американских комп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Группа 1"/>
          <p:cNvGrpSpPr/>
          <p:nvPr/>
        </p:nvGrpSpPr>
        <p:grpSpPr>
          <a:xfrm>
            <a:off x="2802960" y="719280"/>
            <a:ext cx="6631200" cy="4780440"/>
            <a:chOff x="2802960" y="719280"/>
            <a:chExt cx="6631200" cy="4780440"/>
          </a:xfrm>
        </p:grpSpPr>
        <p:sp>
          <p:nvSpPr>
            <p:cNvPr id="1016" name="Прямоугольник 2"/>
            <p:cNvSpPr/>
            <p:nvPr/>
          </p:nvSpPr>
          <p:spPr>
            <a:xfrm>
              <a:off x="3025080" y="719280"/>
              <a:ext cx="6297840" cy="9489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 marL="228600" indent="-228600" algn="ctr">
                <a:lnSpc>
                  <a:spcPct val="107000"/>
                </a:lnSpc>
                <a:buClr>
                  <a:srgbClr val="000000"/>
                </a:buClr>
                <a:buFont typeface="StarSymbol"/>
                <a:buAutoNum type="arabicPeriod"/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пределение основных приоритет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Прямоугольник 3"/>
            <p:cNvSpPr/>
            <p:nvPr/>
          </p:nvSpPr>
          <p:spPr>
            <a:xfrm>
              <a:off x="3168000" y="941760"/>
              <a:ext cx="1522800" cy="3358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бобщенный анали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Прямоугольник 4"/>
            <p:cNvSpPr/>
            <p:nvPr/>
          </p:nvSpPr>
          <p:spPr>
            <a:xfrm>
              <a:off x="5166720" y="1029960"/>
              <a:ext cx="1665360" cy="3189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бор мисс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Прямоугольник 5"/>
            <p:cNvSpPr/>
            <p:nvPr/>
          </p:nvSpPr>
          <p:spPr>
            <a:xfrm>
              <a:off x="7245360" y="945000"/>
              <a:ext cx="1665360" cy="34416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Формирование поле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0" name="Прямая со стрелкой 6"/>
            <p:cNvCxnSpPr/>
            <p:nvPr/>
          </p:nvCxnSpPr>
          <p:spPr>
            <a:xfrm>
              <a:off x="6816600" y="1080360"/>
              <a:ext cx="4604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21" name="Прямая соединительная линия 7"/>
            <p:cNvCxnSpPr/>
            <p:nvPr/>
          </p:nvCxnSpPr>
          <p:spPr>
            <a:xfrm>
              <a:off x="8070120" y="1239840"/>
              <a:ext cx="360" cy="1684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22" name="Прямая соединительная линия 8"/>
            <p:cNvCxnSpPr/>
            <p:nvPr/>
          </p:nvCxnSpPr>
          <p:spPr>
            <a:xfrm>
              <a:off x="4135320" y="1407960"/>
              <a:ext cx="390348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23" name="Прямая со стрелкой 9"/>
            <p:cNvCxnSpPr/>
            <p:nvPr/>
          </p:nvCxnSpPr>
          <p:spPr>
            <a:xfrm flipV="1">
              <a:off x="4119480" y="1256760"/>
              <a:ext cx="16200" cy="1432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24" name="Прямая со стрелкой 10"/>
            <p:cNvCxnSpPr/>
            <p:nvPr/>
          </p:nvCxnSpPr>
          <p:spPr>
            <a:xfrm flipH="1">
              <a:off x="5959800" y="1542240"/>
              <a:ext cx="16560" cy="101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25" name="Прямоугольник 11"/>
            <p:cNvSpPr/>
            <p:nvPr/>
          </p:nvSpPr>
          <p:spPr>
            <a:xfrm>
              <a:off x="3040920" y="1710720"/>
              <a:ext cx="6314040" cy="13777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. 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пределение задач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Прямоугольник 12"/>
            <p:cNvSpPr/>
            <p:nvPr/>
          </p:nvSpPr>
          <p:spPr>
            <a:xfrm>
              <a:off x="3215520" y="2282040"/>
              <a:ext cx="1522800" cy="5626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нализ внутренних возможностей фирм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Прямоугольник 13"/>
            <p:cNvSpPr/>
            <p:nvPr/>
          </p:nvSpPr>
          <p:spPr>
            <a:xfrm>
              <a:off x="5166720" y="1996200"/>
              <a:ext cx="1776600" cy="4618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пределение международных</a:t>
              </a:r>
              <a:r>
                <a:rPr b="0" lang="ru-RU" sz="1100" spc="-1" strike="noStrike">
                  <a:solidFill>
                    <a:srgbClr val="000000"/>
                  </a:solidFill>
                  <a:latin typeface="Garamond"/>
                  <a:ea typeface="Calibri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задач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Прямоугольник 14"/>
            <p:cNvSpPr/>
            <p:nvPr/>
          </p:nvSpPr>
          <p:spPr>
            <a:xfrm>
              <a:off x="5150880" y="2567520"/>
              <a:ext cx="1776600" cy="44496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пределение задач в стране базиро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Прямоугольник 15"/>
            <p:cNvSpPr/>
            <p:nvPr/>
          </p:nvSpPr>
          <p:spPr>
            <a:xfrm>
              <a:off x="7261200" y="2282040"/>
              <a:ext cx="1776600" cy="4028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Оценка взаимной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оддержки задач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Прямая со стрелкой 16"/>
            <p:cNvCxnSpPr/>
            <p:nvPr/>
          </p:nvCxnSpPr>
          <p:spPr>
            <a:xfrm>
              <a:off x="4754160" y="2374200"/>
              <a:ext cx="412920" cy="86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31" name="Прямая со стрелкой 17"/>
            <p:cNvCxnSpPr/>
            <p:nvPr/>
          </p:nvCxnSpPr>
          <p:spPr>
            <a:xfrm>
              <a:off x="4738320" y="2693520"/>
              <a:ext cx="460440" cy="172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32" name="Прямая соединительная линия 18"/>
            <p:cNvCxnSpPr/>
            <p:nvPr/>
          </p:nvCxnSpPr>
          <p:spPr>
            <a:xfrm>
              <a:off x="6975360" y="2113560"/>
              <a:ext cx="7934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33" name="Прямая соединительная линия 19"/>
            <p:cNvCxnSpPr/>
            <p:nvPr/>
          </p:nvCxnSpPr>
          <p:spPr>
            <a:xfrm>
              <a:off x="6927840" y="2844720"/>
              <a:ext cx="82512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34" name="Прямая соединительная линия 20"/>
            <p:cNvCxnSpPr/>
            <p:nvPr/>
          </p:nvCxnSpPr>
          <p:spPr>
            <a:xfrm>
              <a:off x="2834640" y="945720"/>
              <a:ext cx="360" cy="14119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35" name="Прямая со стрелкой 21"/>
            <p:cNvCxnSpPr/>
            <p:nvPr/>
          </p:nvCxnSpPr>
          <p:spPr>
            <a:xfrm flipV="1">
              <a:off x="2802960" y="945720"/>
              <a:ext cx="206640" cy="900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36" name="Прямая со стрелкой 22"/>
            <p:cNvCxnSpPr/>
            <p:nvPr/>
          </p:nvCxnSpPr>
          <p:spPr>
            <a:xfrm flipV="1">
              <a:off x="7752600" y="2651400"/>
              <a:ext cx="360" cy="1936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37" name="Прямая со стрелкой 23"/>
            <p:cNvCxnSpPr/>
            <p:nvPr/>
          </p:nvCxnSpPr>
          <p:spPr>
            <a:xfrm>
              <a:off x="7752600" y="2105280"/>
              <a:ext cx="360" cy="2019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38" name="Прямоугольник 24"/>
            <p:cNvSpPr/>
            <p:nvPr/>
          </p:nvSpPr>
          <p:spPr>
            <a:xfrm>
              <a:off x="3104280" y="4122000"/>
              <a:ext cx="1967040" cy="428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kk-KZ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нализ услов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</a:pPr>
              <a:r>
                <a:rPr b="0" lang="kk-KZ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 стране базиро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Прямоугольник 25"/>
            <p:cNvSpPr/>
            <p:nvPr/>
          </p:nvSpPr>
          <p:spPr>
            <a:xfrm>
              <a:off x="5373000" y="4105440"/>
              <a:ext cx="2172960" cy="4618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kk-KZ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бор стратегических альтернатив</a:t>
              </a: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в стране базиро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рямоугольник 26"/>
            <p:cNvSpPr/>
            <p:nvPr/>
          </p:nvSpPr>
          <p:spPr>
            <a:xfrm>
              <a:off x="5436720" y="3550680"/>
              <a:ext cx="2157120" cy="52056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бор стратегических альтернатив за рубеж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Прямоугольник 27"/>
            <p:cNvSpPr/>
            <p:nvPr/>
          </p:nvSpPr>
          <p:spPr>
            <a:xfrm>
              <a:off x="7863840" y="3836520"/>
              <a:ext cx="1300680" cy="3272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азработка стратег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Прямая со стрелкой 28"/>
            <p:cNvCxnSpPr/>
            <p:nvPr/>
          </p:nvCxnSpPr>
          <p:spPr>
            <a:xfrm>
              <a:off x="5103360" y="3668040"/>
              <a:ext cx="3650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43" name="Прямая со стрелкой 29"/>
            <p:cNvCxnSpPr/>
            <p:nvPr/>
          </p:nvCxnSpPr>
          <p:spPr>
            <a:xfrm>
              <a:off x="5103360" y="4390920"/>
              <a:ext cx="2700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44" name="Прямая соединительная линия 30"/>
            <p:cNvCxnSpPr/>
            <p:nvPr/>
          </p:nvCxnSpPr>
          <p:spPr>
            <a:xfrm>
              <a:off x="7625880" y="3701880"/>
              <a:ext cx="103140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45" name="Прямая соединительная линия 31"/>
            <p:cNvCxnSpPr/>
            <p:nvPr/>
          </p:nvCxnSpPr>
          <p:spPr>
            <a:xfrm>
              <a:off x="7720920" y="4348800"/>
              <a:ext cx="92052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46" name="Прямая со стрелкой 32"/>
            <p:cNvCxnSpPr/>
            <p:nvPr/>
          </p:nvCxnSpPr>
          <p:spPr>
            <a:xfrm flipV="1">
              <a:off x="8656920" y="4163760"/>
              <a:ext cx="16200" cy="17712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47" name="Прямая со стрелкой 33"/>
            <p:cNvCxnSpPr/>
            <p:nvPr/>
          </p:nvCxnSpPr>
          <p:spPr>
            <a:xfrm flipH="1">
              <a:off x="8656920" y="3710160"/>
              <a:ext cx="16200" cy="1432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48" name="Прямая со стрелкой 34"/>
            <p:cNvCxnSpPr/>
            <p:nvPr/>
          </p:nvCxnSpPr>
          <p:spPr>
            <a:xfrm flipH="1">
              <a:off x="6039360" y="3088440"/>
              <a:ext cx="16200" cy="1094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049" name="Прямая соединительная линия 35"/>
            <p:cNvCxnSpPr/>
            <p:nvPr/>
          </p:nvCxnSpPr>
          <p:spPr>
            <a:xfrm flipH="1">
              <a:off x="2882160" y="3886560"/>
              <a:ext cx="17496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50" name="Прямая соединительная линия 36"/>
            <p:cNvCxnSpPr/>
            <p:nvPr/>
          </p:nvCxnSpPr>
          <p:spPr>
            <a:xfrm>
              <a:off x="2834640" y="2676600"/>
              <a:ext cx="360" cy="12189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051" name="Прямая со стрелкой 37"/>
            <p:cNvCxnSpPr/>
            <p:nvPr/>
          </p:nvCxnSpPr>
          <p:spPr>
            <a:xfrm flipV="1">
              <a:off x="2866320" y="2668320"/>
              <a:ext cx="143280" cy="864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52" name="Прямоугольник 38"/>
            <p:cNvSpPr/>
            <p:nvPr/>
          </p:nvSpPr>
          <p:spPr>
            <a:xfrm>
              <a:off x="4278600" y="3240000"/>
              <a:ext cx="3125160" cy="2264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3. </a:t>
              </a:r>
              <a:r>
                <a:rPr b="0" lang="kk-KZ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азработка стратег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Прямоугольник 39"/>
            <p:cNvSpPr/>
            <p:nvPr/>
          </p:nvSpPr>
          <p:spPr>
            <a:xfrm>
              <a:off x="3088440" y="4777560"/>
              <a:ext cx="6345720" cy="7221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4. Реализация стратег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Прямоугольник 40"/>
            <p:cNvSpPr/>
            <p:nvPr/>
          </p:nvSpPr>
          <p:spPr>
            <a:xfrm>
              <a:off x="3247200" y="5029560"/>
              <a:ext cx="1903320" cy="3272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Разработка планов, программ и т.д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Прямоугольник 41"/>
            <p:cNvSpPr/>
            <p:nvPr/>
          </p:nvSpPr>
          <p:spPr>
            <a:xfrm>
              <a:off x="5531760" y="5037840"/>
              <a:ext cx="1665360" cy="3272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deb34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ыполне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Прямоугольник 42"/>
            <p:cNvSpPr/>
            <p:nvPr/>
          </p:nvSpPr>
          <p:spPr>
            <a:xfrm>
              <a:off x="7483320" y="5046480"/>
              <a:ext cx="1871640" cy="31068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7000"/>
                </a:lnSpc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Контроль и оценка</a:t>
              </a:r>
              <a:r>
                <a:rPr b="0" lang="ru-RU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э</a:t>
              </a: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ффективнос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7" name="Прямая соединительная линия 43"/>
            <p:cNvCxnSpPr/>
            <p:nvPr/>
          </p:nvCxnSpPr>
          <p:spPr>
            <a:xfrm flipH="1" flipV="1">
              <a:off x="4135320" y="5424120"/>
              <a:ext cx="4347360" cy="1728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sp>
        <p:nvSpPr>
          <p:cNvPr id="1058" name="Прямоугольник 44"/>
          <p:cNvSpPr/>
          <p:nvPr/>
        </p:nvSpPr>
        <p:spPr>
          <a:xfrm>
            <a:off x="3088440" y="3598920"/>
            <a:ext cx="1918800" cy="4093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условий за рубежо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9" name="Прямая со стрелкой 50"/>
          <p:cNvCxnSpPr/>
          <p:nvPr/>
        </p:nvCxnSpPr>
        <p:spPr>
          <a:xfrm flipV="1">
            <a:off x="8482320" y="5373720"/>
            <a:ext cx="360" cy="759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60" name="Прямая со стрелкой 54"/>
          <p:cNvCxnSpPr/>
          <p:nvPr/>
        </p:nvCxnSpPr>
        <p:spPr>
          <a:xfrm flipV="1">
            <a:off x="4127400" y="5365440"/>
            <a:ext cx="8280" cy="67680"/>
          </a:xfrm>
          <a:prstGeom prst="straightConnector1">
            <a:avLst/>
          </a:prstGeom>
          <a:ln>
            <a:solidFill>
              <a:srgbClr val="83992a"/>
            </a:solidFill>
            <a:round/>
            <a:tailEnd len="med" type="triangle" w="med"/>
          </a:ln>
        </p:spPr>
      </p:cxnSp>
      <p:sp>
        <p:nvSpPr>
          <p:cNvPr id="1061" name="Прямоугольник 56"/>
          <p:cNvSpPr/>
          <p:nvPr/>
        </p:nvSpPr>
        <p:spPr>
          <a:xfrm>
            <a:off x="2778120" y="5818320"/>
            <a:ext cx="8537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2 Процесс стратегического планирования международной фи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3"/>
          <p:cNvSpPr/>
          <p:nvPr/>
        </p:nvSpPr>
        <p:spPr>
          <a:xfrm>
            <a:off x="928080" y="913680"/>
            <a:ext cx="9839520" cy="42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В первом значе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международный менеджмент определяется как теория рационального руководства предприятиями в условиях коллективной деятельности за рубежом во всех формах внешнеэкономических связ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Во втором значен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 международный менеджмент определяется как процесс планирования, организации, управления, контроля в организациях, осуществляющих внешнеэкономи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Прямоугольник 1"/>
          <p:cNvSpPr/>
          <p:nvPr/>
        </p:nvSpPr>
        <p:spPr>
          <a:xfrm>
            <a:off x="1902960" y="788040"/>
            <a:ext cx="88347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тратегические подходы для компаний, работающих на международных рын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рямоугольник 2"/>
          <p:cNvSpPr/>
          <p:nvPr/>
        </p:nvSpPr>
        <p:spPr>
          <a:xfrm>
            <a:off x="1676520" y="1583280"/>
            <a:ext cx="937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- Предоставление лицензий иностранным фирмам на использование технологии компании или производство и сбыт ее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оугольник 3"/>
          <p:cNvSpPr/>
          <p:nvPr/>
        </p:nvSpPr>
        <p:spPr>
          <a:xfrm>
            <a:off x="1676520" y="2229840"/>
            <a:ext cx="9370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- Поддержание национального (в одной стране) производства и экспорт товаров на  иностранные рынки с использованием собственных или находящихся под иностранным контролем каналов распред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рямоугольник 4"/>
          <p:cNvSpPr/>
          <p:nvPr/>
        </p:nvSpPr>
        <p:spPr>
          <a:xfrm>
            <a:off x="1676520" y="3152880"/>
            <a:ext cx="9370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- Следование многонациональной стратегии, при которой разрабатываются международные стратегии для каждой страны отдельно, чтобы можно было реагировать на специфические потребности и условия рынка, существующие в каждой стране, где работает комп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Прямоугольник 5"/>
          <p:cNvSpPr/>
          <p:nvPr/>
        </p:nvSpPr>
        <p:spPr>
          <a:xfrm>
            <a:off x="1676520" y="4076280"/>
            <a:ext cx="966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Следование глобальной стратегии низких издержек, дифференциации или концентрации на рыночной нише, при которой компания стремится стать поставщиком с низкими издержками на большинстве или на всех важных мировых рынках, стремится создать устойчивый имидж или обслуживать одну и ту же четко определенную нишу потреб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Прямоугольник 1"/>
          <p:cNvSpPr/>
          <p:nvPr/>
        </p:nvSpPr>
        <p:spPr>
          <a:xfrm>
            <a:off x="3459960" y="963720"/>
            <a:ext cx="5992560" cy="6793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Факторы выбора стретегии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Прямоугольник 2"/>
          <p:cNvSpPr/>
          <p:nvPr/>
        </p:nvSpPr>
        <p:spPr>
          <a:xfrm>
            <a:off x="1322280" y="1985400"/>
            <a:ext cx="97491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Garamon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специализацией производственных компа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долей расходов на научные исследования и разработки в общих издержках у отдельных компаний отрас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уровнем международной отраслевой конкурен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использованием в производстве передовых технологий, внедрением на рынок новых видов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озможностью снижения материалоемкости производства в результате свободного доступа к глобальным источникам сырья и многими другими факт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9"/>
          <p:cNvSpPr/>
          <p:nvPr/>
        </p:nvSpPr>
        <p:spPr>
          <a:xfrm>
            <a:off x="2512440" y="1289160"/>
            <a:ext cx="1770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aramond"/>
              <a:ea typeface="Garamond"/>
            </a:endParaRPr>
          </a:p>
        </p:txBody>
      </p:sp>
      <p:grpSp>
        <p:nvGrpSpPr>
          <p:cNvPr id="1070" name="Group 1"/>
          <p:cNvGrpSpPr/>
          <p:nvPr/>
        </p:nvGrpSpPr>
        <p:grpSpPr>
          <a:xfrm>
            <a:off x="2512440" y="1289160"/>
            <a:ext cx="5296680" cy="3690360"/>
            <a:chOff x="2512440" y="1289160"/>
            <a:chExt cx="5296680" cy="3690360"/>
          </a:xfrm>
        </p:grpSpPr>
        <p:pic>
          <p:nvPicPr>
            <p:cNvPr id="1071" name="Picture 8" descr=""/>
            <p:cNvPicPr/>
            <p:nvPr/>
          </p:nvPicPr>
          <p:blipFill>
            <a:blip r:embed="rId1"/>
            <a:stretch/>
          </p:blipFill>
          <p:spPr>
            <a:xfrm>
              <a:off x="2512440" y="1289160"/>
              <a:ext cx="5296680" cy="36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Text Box 7"/>
            <p:cNvSpPr/>
            <p:nvPr/>
          </p:nvSpPr>
          <p:spPr>
            <a:xfrm>
              <a:off x="3114720" y="1579680"/>
              <a:ext cx="9889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можности (Шансы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6"/>
            <p:cNvSpPr/>
            <p:nvPr/>
          </p:nvSpPr>
          <p:spPr>
            <a:xfrm>
              <a:off x="5277600" y="1389240"/>
              <a:ext cx="1550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рменная стратегия структур отрасли и сотрудниче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5"/>
            <p:cNvSpPr/>
            <p:nvPr/>
          </p:nvSpPr>
          <p:spPr>
            <a:xfrm>
              <a:off x="3136680" y="2921760"/>
              <a:ext cx="97236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кторы производ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4"/>
            <p:cNvSpPr/>
            <p:nvPr/>
          </p:nvSpPr>
          <p:spPr>
            <a:xfrm>
              <a:off x="6497280" y="3026880"/>
              <a:ext cx="11354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словия спрос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3"/>
            <p:cNvSpPr/>
            <p:nvPr/>
          </p:nvSpPr>
          <p:spPr>
            <a:xfrm>
              <a:off x="3739680" y="4153320"/>
              <a:ext cx="1414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путствующие и поддерживающ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расл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2"/>
            <p:cNvSpPr/>
            <p:nvPr/>
          </p:nvSpPr>
          <p:spPr>
            <a:xfrm>
              <a:off x="6298200" y="4253040"/>
              <a:ext cx="1072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авительств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Прямоугольник 9"/>
          <p:cNvSpPr/>
          <p:nvPr/>
        </p:nvSpPr>
        <p:spPr>
          <a:xfrm>
            <a:off x="2077200" y="5223240"/>
            <a:ext cx="663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Garamond"/>
              </a:rPr>
              <a:t>Рисунок 3  Модель «национального ромба» М. Пор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k-KZ" sz="4400" spc="-1" strike="noStrike">
                <a:solidFill>
                  <a:srgbClr val="262626"/>
                </a:solidFill>
                <a:latin typeface="Times New Roman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6.1 Характеристика международного стратегического альянса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6.2 Формы стратегических альянсов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6.3.Содержание процесса управления функционированием стратегических альянсов 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81" name="Подзаголовок 2"/>
          <p:cNvSpPr/>
          <p:nvPr/>
        </p:nvSpPr>
        <p:spPr>
          <a:xfrm>
            <a:off x="2423520" y="692640"/>
            <a:ext cx="6815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0000"/>
          </a:bodyPr>
          <a:p>
            <a:pPr marL="246960" indent="-2469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Garamond"/>
                <a:ea typeface="Arial"/>
              </a:rPr>
              <a:t>Лекция 6. Международный стратегический альян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Прямоугольник 5"/>
          <p:cNvSpPr/>
          <p:nvPr/>
        </p:nvSpPr>
        <p:spPr>
          <a:xfrm>
            <a:off x="1423800" y="731160"/>
            <a:ext cx="958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. Движущие силы и цели объединений международных комп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3" name="Таблица 6"/>
          <p:cNvGraphicFramePr/>
          <p:nvPr/>
        </p:nvGraphicFramePr>
        <p:xfrm>
          <a:off x="1811520" y="1323720"/>
          <a:ext cx="9201960" cy="4621320"/>
        </p:xfrm>
        <a:graphic>
          <a:graphicData uri="http://schemas.openxmlformats.org/drawingml/2006/table">
            <a:tbl>
              <a:tblPr/>
              <a:tblGrid>
                <a:gridCol w="4641480"/>
                <a:gridCol w="4560480"/>
              </a:tblGrid>
              <a:tr h="504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ижущие</a:t>
                      </a:r>
                      <a:r>
                        <a:rPr b="0" lang="ru-RU" sz="18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и</a:t>
                      </a:r>
                      <a:r>
                        <a:rPr b="0" lang="ru-RU" sz="18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ди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жесточающаяся</a:t>
                      </a:r>
                      <a:r>
                        <a:rPr b="0" lang="ru-RU" sz="18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нкур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почитают</a:t>
                      </a:r>
                      <a:r>
                        <a:rPr b="0" lang="ru-RU" sz="1800" spc="20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диниться,</a:t>
                      </a:r>
                      <a:r>
                        <a:rPr b="0" lang="ru-RU" sz="1800" spc="19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r>
                        <a:rPr b="0" lang="ru-RU" sz="1800" spc="19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кращать</a:t>
                      </a:r>
                      <a:r>
                        <a:rPr b="0" lang="ru-RU" sz="1800" spc="18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ходы</a:t>
                      </a:r>
                      <a:r>
                        <a:rPr b="0" lang="ru-RU" sz="1800" spc="180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-за</a:t>
                      </a:r>
                      <a:r>
                        <a:rPr b="0" lang="ru-RU" sz="1800" spc="18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нижения цен</a:t>
                      </a:r>
                      <a:r>
                        <a:rPr b="0" lang="ru-RU" sz="1800" spc="43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800" spc="43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ия</a:t>
                      </a:r>
                      <a:r>
                        <a:rPr b="0" lang="ru-RU" sz="1800" spc="4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ходов</a:t>
                      </a:r>
                      <a:r>
                        <a:rPr b="0" lang="ru-RU" sz="1800" spc="3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кл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ие</a:t>
                      </a:r>
                      <a:r>
                        <a:rPr b="0" lang="ru-RU" sz="1800" spc="26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ффективности  </a:t>
                      </a:r>
                      <a:r>
                        <a:rPr b="0" lang="ru-RU" sz="1800" spc="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1067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ую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1067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ждународное</a:t>
                      </a:r>
                      <a:r>
                        <a:rPr b="0" lang="ru-RU" sz="18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9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1125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пользов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8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ждународной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ономической</a:t>
                      </a:r>
                      <a:r>
                        <a:rPr b="0" lang="ru-RU" sz="18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динение фирм стран — членов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а-ционных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руппировок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ЕС,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ФТА,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СЕАН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р.)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ью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ционализации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изводства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быта</a:t>
                      </a:r>
                      <a:r>
                        <a:rPr b="0" lang="ru-RU" sz="18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0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шевые</a:t>
                      </a:r>
                      <a:r>
                        <a:rPr b="0" lang="ru-RU" sz="1800" spc="14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редиты</a:t>
                      </a:r>
                      <a:r>
                        <a:rPr b="0" lang="ru-RU" sz="1800" spc="14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800" spc="14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ватизация</a:t>
                      </a:r>
                      <a:r>
                        <a:rPr b="0" lang="ru-RU" sz="1800" spc="17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е либерализации политики во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ногих</a:t>
                      </a:r>
                      <a:r>
                        <a:rPr b="0" lang="ru-RU" sz="18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динения</a:t>
                      </a:r>
                      <a:r>
                        <a:rPr b="0" lang="ru-RU" sz="1800" spc="2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800" spc="2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ью</a:t>
                      </a:r>
                      <a:r>
                        <a:rPr b="0" lang="ru-RU" sz="1800" spc="2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шевых</a:t>
                      </a:r>
                      <a:r>
                        <a:rPr b="0" lang="ru-RU" sz="1800" spc="10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редитов</a:t>
                      </a:r>
                      <a:r>
                        <a:rPr b="0" lang="ru-RU" sz="1800" spc="10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800" spc="11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обретения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ватизированных</a:t>
                      </a:r>
                      <a:r>
                        <a:rPr b="0" lang="ru-RU" sz="18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0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е</a:t>
                      </a:r>
                      <a:r>
                        <a:rPr b="0" lang="ru-RU" sz="1800" spc="12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вестиционного</a:t>
                      </a:r>
                      <a:r>
                        <a:rPr b="0" lang="ru-RU" sz="1800" spc="13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ли-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та</a:t>
                      </a:r>
                      <a:r>
                        <a:rPr b="0" lang="ru-RU" sz="18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</a:t>
                      </a:r>
                      <a:r>
                        <a:rPr b="0" lang="ru-RU" sz="18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ногих</a:t>
                      </a:r>
                      <a:r>
                        <a:rPr b="0" lang="ru-RU" sz="18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11869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вместно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поль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11869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ия эффективности прямых и</a:t>
                      </a:r>
                      <a:r>
                        <a:rPr b="0" lang="ru-RU" sz="18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ртфельных</a:t>
                      </a:r>
                      <a:r>
                        <a:rPr b="0" lang="ru-RU" sz="18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вести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Рисунок 9" descr=""/>
          <p:cNvPicPr/>
          <p:nvPr/>
        </p:nvPicPr>
        <p:blipFill>
          <a:blip r:embed="rId1"/>
          <a:stretch/>
        </p:blipFill>
        <p:spPr>
          <a:xfrm>
            <a:off x="6212160" y="1260000"/>
            <a:ext cx="3327120" cy="3680280"/>
          </a:xfrm>
          <a:prstGeom prst="rect">
            <a:avLst/>
          </a:prstGeom>
          <a:ln w="0">
            <a:noFill/>
          </a:ln>
        </p:spPr>
      </p:pic>
      <p:pic>
        <p:nvPicPr>
          <p:cNvPr id="1085" name="Рисунок 10" descr=""/>
          <p:cNvPicPr/>
          <p:nvPr/>
        </p:nvPicPr>
        <p:blipFill>
          <a:blip r:embed="rId2"/>
          <a:stretch/>
        </p:blipFill>
        <p:spPr>
          <a:xfrm>
            <a:off x="1951560" y="1260000"/>
            <a:ext cx="4260240" cy="3803040"/>
          </a:xfrm>
          <a:prstGeom prst="rect">
            <a:avLst/>
          </a:prstGeom>
          <a:ln w="0">
            <a:noFill/>
          </a:ln>
        </p:spPr>
      </p:pic>
      <p:sp>
        <p:nvSpPr>
          <p:cNvPr id="1086" name="Прямоугольник 11"/>
          <p:cNvSpPr/>
          <p:nvPr/>
        </p:nvSpPr>
        <p:spPr>
          <a:xfrm>
            <a:off x="3040200" y="5209560"/>
            <a:ext cx="495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1257840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Прямоугольник 1"/>
          <p:cNvSpPr/>
          <p:nvPr/>
        </p:nvSpPr>
        <p:spPr>
          <a:xfrm>
            <a:off x="1752480" y="896760"/>
            <a:ext cx="873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1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Международных стратегических алья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2"/>
          <p:cNvSpPr/>
          <p:nvPr/>
        </p:nvSpPr>
        <p:spPr>
          <a:xfrm>
            <a:off x="832680" y="1575360"/>
            <a:ext cx="1057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algn="just">
              <a:lnSpc>
                <a:spcPct val="100000"/>
              </a:lnSpc>
              <a:spcBef>
                <a:spcPts val="6"/>
              </a:spcBef>
              <a:tabLst>
                <a:tab algn="l" pos="614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оопцион</a:t>
            </a:r>
            <a:r>
              <a:rPr b="0" lang="ru-RU" sz="24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option)</a:t>
            </a:r>
            <a:r>
              <a:rPr b="0" lang="ru-RU" sz="2400" spc="-4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ет</a:t>
            </a:r>
            <a:r>
              <a:rPr b="0" lang="ru-RU" sz="2400" spc="-5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х</a:t>
            </a:r>
            <a:r>
              <a:rPr b="0" lang="ru-RU" sz="24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ентов</a:t>
            </a:r>
            <a:r>
              <a:rPr b="0" lang="ru-RU" sz="2400" spc="-26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юз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6"/>
              </a:spcBef>
              <a:tabLst>
                <a:tab algn="l" pos="61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6"/>
              </a:spcBef>
              <a:tabLst>
                <a:tab algn="l" pos="614160"/>
              </a:tabLst>
            </a:pPr>
            <a:r>
              <a:rPr b="0" lang="ru-RU" sz="2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2) Взаимная</a:t>
            </a:r>
            <a:r>
              <a:rPr b="0" lang="ru-RU" sz="24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</a:t>
            </a:r>
            <a:r>
              <a:rPr b="0" lang="ru-RU" sz="24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specialization)</a:t>
            </a:r>
            <a:r>
              <a:rPr b="0" lang="ru-RU" sz="2400" spc="-4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-ет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ргетического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а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я</a:t>
            </a:r>
            <a:r>
              <a:rPr b="0" lang="ru-RU" sz="2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х ресурсов, знаний и навыков участников альян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6"/>
              </a:spcBef>
              <a:tabLst>
                <a:tab algn="l" pos="61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  <a:spcBef>
                <a:spcPts val="6"/>
              </a:spcBef>
              <a:tabLst>
                <a:tab algn="l" pos="614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нтернализация или обучение и освоение (Learning and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ization)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м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</a:t>
            </a:r>
            <a:r>
              <a:rPr b="0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</a:t>
            </a:r>
            <a:r>
              <a:rPr b="0" lang="ru-RU" sz="2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м</a:t>
            </a:r>
            <a:r>
              <a:rPr b="0" lang="ru-RU" sz="24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7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Рисунок 1" descr=""/>
          <p:cNvPicPr/>
          <p:nvPr/>
        </p:nvPicPr>
        <p:blipFill>
          <a:blip r:embed="rId1"/>
          <a:stretch/>
        </p:blipFill>
        <p:spPr>
          <a:xfrm>
            <a:off x="1528560" y="1255680"/>
            <a:ext cx="9048240" cy="3587400"/>
          </a:xfrm>
          <a:prstGeom prst="rect">
            <a:avLst/>
          </a:prstGeom>
          <a:ln w="0">
            <a:noFill/>
          </a:ln>
        </p:spPr>
      </p:pic>
      <p:sp>
        <p:nvSpPr>
          <p:cNvPr id="1090" name="Прямоугольник 2"/>
          <p:cNvSpPr/>
          <p:nvPr/>
        </p:nvSpPr>
        <p:spPr>
          <a:xfrm>
            <a:off x="1214640" y="5078520"/>
            <a:ext cx="880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016000" algn="just">
              <a:lnSpc>
                <a:spcPct val="100000"/>
              </a:lnSpc>
              <a:spcBef>
                <a:spcPts val="459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  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</a:t>
            </a:r>
            <a:r>
              <a:rPr b="0" lang="ru-RU" sz="18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х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Рисунок 1" descr=""/>
          <p:cNvPicPr/>
          <p:nvPr/>
        </p:nvPicPr>
        <p:blipFill>
          <a:blip r:embed="rId1"/>
          <a:stretch/>
        </p:blipFill>
        <p:spPr>
          <a:xfrm>
            <a:off x="3002400" y="1289520"/>
            <a:ext cx="5922720" cy="2872440"/>
          </a:xfrm>
          <a:prstGeom prst="rect">
            <a:avLst/>
          </a:prstGeom>
          <a:ln w="0">
            <a:noFill/>
          </a:ln>
        </p:spPr>
      </p:pic>
      <p:sp>
        <p:nvSpPr>
          <p:cNvPr id="1092" name="Прямоугольник 2"/>
          <p:cNvSpPr/>
          <p:nvPr/>
        </p:nvSpPr>
        <p:spPr>
          <a:xfrm>
            <a:off x="3381480" y="4936680"/>
            <a:ext cx="539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5960"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r>
              <a:rPr b="0" lang="ru-RU" sz="18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х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Прямоугольник 1"/>
          <p:cNvSpPr/>
          <p:nvPr/>
        </p:nvSpPr>
        <p:spPr>
          <a:xfrm>
            <a:off x="1351080" y="907200"/>
            <a:ext cx="97714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ru-RU" sz="2400" spc="1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</a:t>
            </a:r>
            <a:r>
              <a:rPr b="0" lang="ru-RU" sz="2400" spc="15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ми</a:t>
            </a:r>
            <a:r>
              <a:rPr b="0" lang="ru-RU" sz="2400" spc="15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ами</a:t>
            </a:r>
            <a:r>
              <a:rPr b="0" lang="ru-RU" sz="2400" spc="15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</a:t>
            </a:r>
            <a:r>
              <a:rPr b="0" lang="ru-RU" sz="2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</a:t>
            </a:r>
            <a:r>
              <a:rPr b="0" lang="ru-RU" sz="2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880" indent="271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525240"/>
                <a:tab algn="l" pos="1644120"/>
                <a:tab algn="l" pos="2700000"/>
                <a:tab algn="l" pos="3340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прав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</a:t>
            </a:r>
            <a:r>
              <a:rPr b="0" lang="ru-RU" sz="2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оспособного</a:t>
            </a:r>
            <a:r>
              <a:rPr b="0" lang="ru-RU" sz="2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52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</a:t>
            </a:r>
            <a:r>
              <a:rPr b="0" lang="ru-RU" sz="2800" spc="49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43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</a:t>
            </a:r>
            <a:r>
              <a:rPr b="0" lang="ru-RU" sz="2800" spc="43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и</a:t>
            </a:r>
            <a:r>
              <a:rPr b="0" lang="ru-RU" sz="2800" spc="43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29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</a:t>
            </a:r>
            <a:r>
              <a:rPr b="0" lang="ru-RU" sz="2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525240"/>
                <a:tab algn="l" pos="1040760"/>
                <a:tab algn="l" pos="1796400"/>
                <a:tab algn="l" pos="2003400"/>
                <a:tab algn="l" pos="3242160"/>
                <a:tab algn="l" pos="39751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52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</a:t>
            </a:r>
            <a:r>
              <a:rPr b="0" lang="ru-RU" sz="2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0" lang="ru-RU" sz="2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го</a:t>
            </a:r>
            <a:r>
              <a:rPr b="0" lang="ru-RU" sz="2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я</a:t>
            </a:r>
            <a:r>
              <a:rPr b="0" lang="ru-RU" sz="2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52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ие</a:t>
            </a:r>
            <a:r>
              <a:rPr b="0" lang="ru-RU" sz="2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ственной</a:t>
            </a:r>
            <a:r>
              <a:rPr b="0" lang="ru-RU" sz="2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</a:t>
            </a:r>
            <a:r>
              <a:rPr b="0" lang="ru-RU" sz="2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х</a:t>
            </a:r>
            <a:r>
              <a:rPr b="0" lang="ru-RU" sz="2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Прямоугольник 1"/>
          <p:cNvSpPr/>
          <p:nvPr/>
        </p:nvSpPr>
        <p:spPr>
          <a:xfrm>
            <a:off x="2879640" y="787680"/>
            <a:ext cx="759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Специфические черты международного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2"/>
          <p:cNvSpPr/>
          <p:nvPr/>
        </p:nvSpPr>
        <p:spPr>
          <a:xfrm>
            <a:off x="900720" y="1249560"/>
            <a:ext cx="101808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- хозяйственная деятельность предприятия осуществляется на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охватывает более широкое территориальное пространство, отличающееся по наличию природных богатств, климатических, часовых и других ф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 мировых хозяйственных связях принимает участие большое количество хозяйствующих субъектов, которые функционируют в разных политических, экономических, правовых и культурных условиях, а также субъектов имеющих свое представление о ценност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в роли субъектов внешнеэкономической деятельности выступают не только предприятия, но и государство со своей внешнеэкономической политикой, стратегией в сфере внешнеэкономической деятельности, совокупностью инструментов влияния на эту сф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Garamond"/>
                <a:ea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Характеристика международного операционного менеджмента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Производственный менеджмент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Эффективность международного менеджмента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Управление качеством в международных компаниях</a:t>
            </a:r>
            <a:endParaRPr b="0" lang="en-US" sz="28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96" name="Прямоугольник 3"/>
          <p:cNvSpPr/>
          <p:nvPr/>
        </p:nvSpPr>
        <p:spPr>
          <a:xfrm>
            <a:off x="2972880" y="836640"/>
            <a:ext cx="7837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екция 7. Международный операционный менедж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Прямоугольник 3"/>
          <p:cNvSpPr/>
          <p:nvPr/>
        </p:nvSpPr>
        <p:spPr>
          <a:xfrm>
            <a:off x="1328400" y="814680"/>
            <a:ext cx="97668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87640"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</a:t>
            </a:r>
            <a:r>
              <a:rPr b="1" i="1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ый</a:t>
            </a:r>
            <a:r>
              <a:rPr b="1" i="1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</a:t>
            </a:r>
            <a:r>
              <a:rPr b="1" i="1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мых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ей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риалов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д.)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.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й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м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х продуктов (товаров) и операционный менеджмент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х продуктов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image43.png" descr=""/>
          <p:cNvPicPr/>
          <p:nvPr/>
        </p:nvPicPr>
        <p:blipFill>
          <a:blip r:embed="rId1"/>
          <a:stretch/>
        </p:blipFill>
        <p:spPr>
          <a:xfrm>
            <a:off x="2415600" y="2389320"/>
            <a:ext cx="6673320" cy="3151080"/>
          </a:xfrm>
          <a:prstGeom prst="rect">
            <a:avLst/>
          </a:prstGeom>
          <a:ln w="0">
            <a:noFill/>
          </a:ln>
        </p:spPr>
      </p:pic>
      <p:sp>
        <p:nvSpPr>
          <p:cNvPr id="1099" name="Прямоугольник 5"/>
          <p:cNvSpPr/>
          <p:nvPr/>
        </p:nvSpPr>
        <p:spPr>
          <a:xfrm>
            <a:off x="2147400" y="5638680"/>
            <a:ext cx="915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а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г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го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880" indent="271080">
              <a:lnSpc>
                <a:spcPct val="100000"/>
              </a:lnSpc>
              <a:spcBef>
                <a:spcPts val="54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Прямоугольник 12"/>
          <p:cNvSpPr/>
          <p:nvPr/>
        </p:nvSpPr>
        <p:spPr>
          <a:xfrm>
            <a:off x="3020040" y="719640"/>
            <a:ext cx="574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62520">
              <a:lnSpc>
                <a:spcPct val="100000"/>
              </a:lnSpc>
              <a:spcBef>
                <a:spcPts val="6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ого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3"/>
          <p:cNvSpPr/>
          <p:nvPr/>
        </p:nvSpPr>
        <p:spPr>
          <a:xfrm>
            <a:off x="791640" y="1296360"/>
            <a:ext cx="2797560" cy="4500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Планирова 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Прямоугольник 15"/>
          <p:cNvSpPr/>
          <p:nvPr/>
        </p:nvSpPr>
        <p:spPr>
          <a:xfrm>
            <a:off x="4039560" y="1296360"/>
            <a:ext cx="73422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Планирование </a:t>
            </a:r>
            <a:r>
              <a:rPr b="0" i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это процесс выработки множества различных взаимосвязанных решений, касающихся будущей деятельности предприятия по достижению его целей, а также путей и средств их реализации, наиболее эффективных в конкретных услов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Цель планирования </a:t>
            </a:r>
            <a:r>
              <a:rPr b="0" i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разрешить неопределенность путем приспособления предприятия к перемен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Прямоугольник 16"/>
          <p:cNvSpPr/>
          <p:nvPr/>
        </p:nvSpPr>
        <p:spPr>
          <a:xfrm>
            <a:off x="791640" y="2820600"/>
            <a:ext cx="2797560" cy="4500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17"/>
          <p:cNvSpPr/>
          <p:nvPr/>
        </p:nvSpPr>
        <p:spPr>
          <a:xfrm>
            <a:off x="4039560" y="2644200"/>
            <a:ext cx="7342200" cy="136800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Функция организации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- это установление постоянных и временных взаимоотношений между всеми подразделениями и отдельными исполнителями, определение порядка их функционирования</a:t>
            </a:r>
            <a:r>
              <a:rPr b="0" lang="ru-RU" sz="1800" spc="-1" strike="noStrike">
                <a:solidFill>
                  <a:schemeClr val="dk1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Основная    цель    организации    работ   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заключается    в обеспечении необходимыми материалами запуска изделий, деталей и сборочных единиц в производство и последующем слежении за их движением по ходу их изгото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18"/>
          <p:cNvSpPr/>
          <p:nvPr/>
        </p:nvSpPr>
        <p:spPr>
          <a:xfrm>
            <a:off x="791640" y="4344480"/>
            <a:ext cx="2906640" cy="5547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Нормирова 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19"/>
          <p:cNvSpPr/>
          <p:nvPr/>
        </p:nvSpPr>
        <p:spPr>
          <a:xfrm>
            <a:off x="4039560" y="4164840"/>
            <a:ext cx="7342200" cy="8845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Функция нормирования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представляет собой процесс разработки научно обоснованных расчетных величин, устанавливающих количественную и качественную оценку различных элементов, используемых в процессе производства и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20"/>
          <p:cNvSpPr/>
          <p:nvPr/>
        </p:nvSpPr>
        <p:spPr>
          <a:xfrm>
            <a:off x="791640" y="5229360"/>
            <a:ext cx="2906640" cy="759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21"/>
          <p:cNvSpPr/>
          <p:nvPr/>
        </p:nvSpPr>
        <p:spPr>
          <a:xfrm>
            <a:off x="4039560" y="5229360"/>
            <a:ext cx="7342200" cy="759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Объективными</a:t>
            </a: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характеристикам</a:t>
            </a: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протекания производственного процесса являются </a:t>
            </a:r>
            <a:r>
              <a:rPr b="1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экономические показатели</a:t>
            </a:r>
            <a:r>
              <a:rPr b="0" lang="ru-RU" sz="1600" spc="-1" strike="noStrike">
                <a:solidFill>
                  <a:schemeClr val="dk1"/>
                </a:solidFill>
                <a:latin typeface="Times New Roman"/>
                <a:ea typeface="Arial"/>
              </a:rPr>
              <a:t>. Каждый конкретный показатель имеет качественную и количественную определен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Прямоугольник 1"/>
          <p:cNvSpPr/>
          <p:nvPr/>
        </p:nvSpPr>
        <p:spPr>
          <a:xfrm>
            <a:off x="832680" y="859680"/>
            <a:ext cx="2974680" cy="4363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  <a:ea typeface="Arial"/>
              </a:rPr>
              <a:t>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рямоугольник 2"/>
          <p:cNvSpPr/>
          <p:nvPr/>
        </p:nvSpPr>
        <p:spPr>
          <a:xfrm flipH="1" flipV="1" rot="10800000">
            <a:off x="4039200" y="859680"/>
            <a:ext cx="738324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Контроль за ходом производства </a:t>
            </a:r>
            <a:r>
              <a:rPr b="0" i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это процесс соизмерения, сопоставления фактически достигнутых результатов с запланирован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Его целью является выявление отклонений от установленных плановых заданий и календарных графиков производства, рассогласований в работе различных подразделений и служб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рямоугольник 3"/>
          <p:cNvSpPr/>
          <p:nvPr/>
        </p:nvSpPr>
        <p:spPr>
          <a:xfrm>
            <a:off x="832680" y="2381400"/>
            <a:ext cx="2974680" cy="6955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  <a:ea typeface="Arial"/>
              </a:rPr>
              <a:t>Оператив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4"/>
          <p:cNvSpPr/>
          <p:nvPr/>
        </p:nvSpPr>
        <p:spPr>
          <a:xfrm>
            <a:off x="4039560" y="2224440"/>
            <a:ext cx="7383240" cy="14871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Основой для выполнения работ по планированию, контролю, анализу и регулированию (диспетчеризации) является </a:t>
            </a: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оперативный учет результатов производственной деятельности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 всех подразделений предприятия за определенный период времени. Он предназначен для получения связанного набора показателей, значения которых сравниваются затем с запланированными, т.е. ожидаемыми. В результате этого сравнения вырабатываются корректирующие воздействия на объект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Прямоугольник 5"/>
          <p:cNvSpPr/>
          <p:nvPr/>
        </p:nvSpPr>
        <p:spPr>
          <a:xfrm>
            <a:off x="832680" y="4039560"/>
            <a:ext cx="2974680" cy="6685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Прямоугольник 6"/>
          <p:cNvSpPr/>
          <p:nvPr/>
        </p:nvSpPr>
        <p:spPr>
          <a:xfrm>
            <a:off x="4039560" y="3889440"/>
            <a:ext cx="7383240" cy="109152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Координация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 - обеспечение согласованности действий в работе всех звеньев предприятия, сохранение, поддержание и совершенствование установленных связей между ними. 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осуществляется в целях обеспечения согласованной и слаженной   работы   участвующих   в   процессе   выполнения плановых заданий производственных и функциональных подразделений предприятия и цех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7"/>
          <p:cNvSpPr/>
          <p:nvPr/>
        </p:nvSpPr>
        <p:spPr>
          <a:xfrm>
            <a:off x="832680" y="5295240"/>
            <a:ext cx="2974680" cy="75024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Мотив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рямоугольник 8"/>
          <p:cNvSpPr/>
          <p:nvPr/>
        </p:nvSpPr>
        <p:spPr>
          <a:xfrm>
            <a:off x="4039560" y="5158800"/>
            <a:ext cx="7383240" cy="88668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Мотивация</a:t>
            </a:r>
            <a:r>
              <a:rPr b="0" lang="ru-RU" sz="1400" spc="-1" strike="noStrike">
                <a:solidFill>
                  <a:schemeClr val="dk1"/>
                </a:solidFill>
                <a:latin typeface="Times New Roman"/>
                <a:ea typeface="Arial"/>
              </a:rPr>
              <a:t> — процесс побуждения работников к активной трудовой деятельности для достижения личностных целей и целей предприятия, т.е. создание у работников внутренних (психологических) побуждений к тру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Прямоугольник 1"/>
          <p:cNvSpPr/>
          <p:nvPr/>
        </p:nvSpPr>
        <p:spPr>
          <a:xfrm>
            <a:off x="709560" y="969120"/>
            <a:ext cx="3357000" cy="736560"/>
          </a:xfrm>
          <a:prstGeom prst="rect">
            <a:avLst/>
          </a:prstGeom>
          <a:solidFill>
            <a:srgbClr val="ffffff"/>
          </a:solidFill>
          <a:ln>
            <a:solidFill>
              <a:srgbClr val="deb34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Garamond"/>
                <a:ea typeface="Arial"/>
              </a:rPr>
              <a:t>Регулирова 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Прямоугольник 2"/>
          <p:cNvSpPr/>
          <p:nvPr/>
        </p:nvSpPr>
        <p:spPr>
          <a:xfrm>
            <a:off x="4421880" y="828720"/>
            <a:ext cx="7000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</a:t>
            </a:r>
            <a:r>
              <a:rPr b="1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</a:t>
            </a:r>
            <a:r>
              <a:rPr b="0" i="1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ий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г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м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</a:t>
            </a:r>
            <a:r>
              <a:rPr b="0" lang="ru-RU" sz="1800" spc="-21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роцесс разработки и реализации решений п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ю отклонений и сбоев в ходе производства, а 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медлительному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image44.png" descr=""/>
          <p:cNvPicPr/>
          <p:nvPr/>
        </p:nvPicPr>
        <p:blipFill>
          <a:blip r:embed="rId1"/>
          <a:stretch/>
        </p:blipFill>
        <p:spPr>
          <a:xfrm>
            <a:off x="3435480" y="1200600"/>
            <a:ext cx="5394240" cy="3794040"/>
          </a:xfrm>
          <a:prstGeom prst="rect">
            <a:avLst/>
          </a:prstGeom>
          <a:ln w="0">
            <a:noFill/>
          </a:ln>
        </p:spPr>
      </p:pic>
      <p:sp>
        <p:nvSpPr>
          <p:cNvPr id="1120" name="Прямоугольник 2"/>
          <p:cNvSpPr/>
          <p:nvPr/>
        </p:nvSpPr>
        <p:spPr>
          <a:xfrm>
            <a:off x="1874160" y="4995000"/>
            <a:ext cx="756972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>
              <a:lnSpc>
                <a:spcPct val="100000"/>
              </a:lnSpc>
              <a:spcBef>
                <a:spcPts val="26"/>
              </a:spcBef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3440"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.1 -</a:t>
            </a:r>
            <a:r>
              <a:rPr b="0" lang="ru-RU" sz="1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а управления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Прямоугольник 1"/>
          <p:cNvSpPr/>
          <p:nvPr/>
        </p:nvSpPr>
        <p:spPr>
          <a:xfrm>
            <a:off x="1383120" y="902520"/>
            <a:ext cx="101080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бизнес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ровень его прибыльности и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аб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</a:t>
            </a:r>
            <a:r>
              <a:rPr b="1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а</a:t>
            </a:r>
            <a:r>
              <a:rPr b="1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ой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ее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</a:t>
            </a:r>
            <a:r>
              <a:rPr b="0" lang="ru-RU" sz="20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</a:t>
            </a:r>
            <a:r>
              <a:rPr b="0" lang="ru-RU" sz="20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ых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2"/>
          <p:cNvSpPr/>
          <p:nvPr/>
        </p:nvSpPr>
        <p:spPr>
          <a:xfrm>
            <a:off x="1187280" y="2468520"/>
            <a:ext cx="101671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основных критериев</a:t>
            </a:r>
            <a:r>
              <a:rPr b="1" lang="ru-RU" sz="2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</a:t>
            </a:r>
            <a:r>
              <a:rPr b="1" lang="ru-RU" sz="2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го</a:t>
            </a:r>
            <a:r>
              <a:rPr b="1" lang="ru-RU" sz="2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</a:t>
            </a:r>
            <a:r>
              <a:rPr b="0" lang="ru-RU" sz="2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ов и</a:t>
            </a:r>
            <a:r>
              <a:rPr b="0" lang="ru-RU" sz="2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</a:t>
            </a:r>
            <a:r>
              <a:rPr b="0" lang="ru-RU" sz="2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ржек и</a:t>
            </a:r>
            <a:r>
              <a:rPr b="0" lang="ru-RU" sz="2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611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</a:t>
            </a:r>
            <a:r>
              <a:rPr b="0" lang="ru-RU" sz="2400" spc="-3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абельности</a:t>
            </a:r>
            <a:r>
              <a:rPr b="0" lang="ru-RU" sz="2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бильность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жа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у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иция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ке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</a:t>
            </a:r>
            <a:r>
              <a:rPr b="0" lang="ru-RU" sz="2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 преб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Прямоугольник 1"/>
          <p:cNvSpPr/>
          <p:nvPr/>
        </p:nvSpPr>
        <p:spPr>
          <a:xfrm>
            <a:off x="1257840" y="586080"/>
            <a:ext cx="9293760" cy="41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</a:t>
            </a:r>
            <a:r>
              <a:rPr b="1" i="1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880">
              <a:lnSpc>
                <a:spcPct val="100000"/>
              </a:lnSpc>
              <a:tabLst>
                <a:tab algn="l" pos="487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пределена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</a:t>
            </a:r>
            <a:r>
              <a:rPr b="0" lang="ru-RU" sz="1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545400"/>
                <a:tab algn="l" pos="546120"/>
                <a:tab algn="l" pos="1068120"/>
                <a:tab algn="l" pos="2319480"/>
                <a:tab algn="l" pos="2514600"/>
                <a:tab algn="l" pos="2991600"/>
                <a:tab algn="l" pos="3649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ир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880">
              <a:lnSpc>
                <a:spcPct val="100000"/>
              </a:lnSpc>
              <a:tabLst>
                <a:tab algn="l" pos="545400"/>
                <a:tab algn="l" pos="546120"/>
                <a:tab algn="l" pos="1068120"/>
                <a:tab algn="l" pos="2319480"/>
                <a:tab algn="l" pos="2514600"/>
                <a:tab algn="l" pos="2991600"/>
                <a:tab algn="l" pos="3649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емая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515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сть</a:t>
            </a:r>
            <a:r>
              <a:rPr b="0" lang="ru-RU" sz="1400" spc="21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21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ижность</a:t>
            </a:r>
            <a:r>
              <a:rPr b="0" lang="ru-RU" sz="1400" spc="21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ой</a:t>
            </a:r>
            <a:r>
              <a:rPr b="0" lang="ru-RU" sz="1400" spc="21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и,</a:t>
            </a:r>
            <a:r>
              <a:rPr b="0" lang="ru-RU" sz="1400" spc="21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64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оспособность</a:t>
            </a:r>
            <a:r>
              <a:rPr b="0" lang="ru-RU" sz="1400" spc="7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ов,</a:t>
            </a:r>
            <a:r>
              <a:rPr b="0" lang="ru-RU" sz="1400" spc="83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е</a:t>
            </a:r>
            <a:r>
              <a:rPr b="0" lang="ru-RU" sz="1400" spc="89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83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</a:t>
            </a:r>
            <a:r>
              <a:rPr b="0" lang="ru-RU" sz="1400" spc="9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а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 со стороны покуп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</a:t>
            </a:r>
            <a:r>
              <a:rPr b="1" i="1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i="1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880"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е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х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й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ся ее персонал, потребители продукции и услуг, партнеры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4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у</a:t>
            </a:r>
            <a:r>
              <a:rPr b="0" lang="ru-RU" sz="14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вщики,</a:t>
            </a:r>
            <a:r>
              <a:rPr b="0" lang="ru-RU" sz="14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жники,</a:t>
            </a:r>
            <a:r>
              <a:rPr b="0" lang="ru-RU" sz="14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ы,</a:t>
            </a:r>
            <a:r>
              <a:rPr b="0" lang="ru-RU" sz="1400" spc="-4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овые</a:t>
            </a:r>
            <a:r>
              <a:rPr b="0" lang="ru-RU" sz="1400" spc="-5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тели).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ям</a:t>
            </a:r>
            <a:r>
              <a:rPr b="0" lang="ru-RU" sz="1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и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е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ой этикет, моральный кодекс, корпоративная культура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й</a:t>
            </a:r>
            <a:r>
              <a:rPr b="0" lang="ru-RU" sz="1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</a:t>
            </a:r>
            <a:r>
              <a:rPr b="1" i="1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880" algn="just">
              <a:lnSpc>
                <a:spcPct val="100000"/>
              </a:lnSpc>
              <a:tabLst>
                <a:tab algn="l" pos="487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,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ь,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х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стие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ю</a:t>
            </a:r>
            <a:r>
              <a:rPr b="0" lang="ru-RU" sz="1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рженность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торимому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ы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ими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льность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</a:t>
            </a:r>
            <a:r>
              <a:rPr b="0" lang="ru-RU" sz="14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и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4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Прямоугольник 2"/>
          <p:cNvSpPr/>
          <p:nvPr/>
        </p:nvSpPr>
        <p:spPr>
          <a:xfrm>
            <a:off x="1257840" y="4771800"/>
            <a:ext cx="95781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</a:t>
            </a:r>
            <a:r>
              <a:rPr b="1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ляющих,</a:t>
            </a:r>
            <a:r>
              <a:rPr b="0" lang="ru-RU" sz="1400" spc="15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</a:t>
            </a:r>
            <a:r>
              <a:rPr b="0" lang="ru-RU" sz="1400" spc="15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</a:t>
            </a:r>
            <a:r>
              <a:rPr b="0" lang="ru-RU" sz="1400" spc="18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т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мент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</a:t>
            </a:r>
            <a:r>
              <a:rPr b="0" lang="ru-RU" sz="14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880" indent="271080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</a:t>
            </a:r>
            <a:r>
              <a:rPr b="0" lang="ru-RU" sz="1400" spc="15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ется</a:t>
            </a:r>
            <a:r>
              <a:rPr b="0" lang="ru-RU" sz="1400" spc="15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1400" spc="148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а</a:t>
            </a:r>
            <a:r>
              <a:rPr b="0" lang="ru-RU" sz="1400" spc="1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506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рженность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ному,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му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ному</a:t>
            </a:r>
            <a:r>
              <a:rPr b="0" lang="ru-RU" sz="1400" spc="-25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ям руковод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597600"/>
                <a:tab algn="l" pos="598320"/>
                <a:tab algn="l" pos="1658160"/>
                <a:tab algn="l" pos="2343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стимулирования - мотивации,</a:t>
            </a:r>
            <a:r>
              <a:rPr b="0" lang="ru-RU" sz="14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ой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ременных прием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451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ие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мный</a:t>
            </a:r>
            <a:r>
              <a:rPr b="0" lang="ru-RU" sz="14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т</a:t>
            </a:r>
            <a:r>
              <a:rPr b="0" lang="ru-RU" sz="14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Прямоугольник 1"/>
          <p:cNvSpPr/>
          <p:nvPr/>
        </p:nvSpPr>
        <p:spPr>
          <a:xfrm>
            <a:off x="1396800" y="90972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r>
              <a:rPr b="0" lang="ru-RU" sz="18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джмента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Таблица 2"/>
          <p:cNvGraphicFramePr/>
          <p:nvPr/>
        </p:nvGraphicFramePr>
        <p:xfrm>
          <a:off x="1396800" y="1555920"/>
          <a:ext cx="9439200" cy="3179520"/>
        </p:xfrm>
        <a:graphic>
          <a:graphicData uri="http://schemas.openxmlformats.org/drawingml/2006/table">
            <a:tbl>
              <a:tblPr/>
              <a:tblGrid>
                <a:gridCol w="2357640"/>
                <a:gridCol w="4080240"/>
                <a:gridCol w="3001320"/>
              </a:tblGrid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недж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отив,</a:t>
                      </a:r>
                      <a:r>
                        <a:rPr b="1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е.</a:t>
                      </a:r>
                      <a:r>
                        <a:rPr b="1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прос</a:t>
                      </a:r>
                      <a:r>
                        <a:rPr b="1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ль</a:t>
                      </a:r>
                      <a:r>
                        <a:rPr b="1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ВО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</a:t>
                      </a:r>
                      <a:r>
                        <a:rPr b="0" lang="ru-RU" sz="1400" spc="2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не</a:t>
                      </a:r>
                      <a:r>
                        <a:rPr b="0" lang="ru-RU" sz="1400" spc="24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ть</a:t>
                      </a:r>
                      <a:r>
                        <a:rPr b="0" lang="ru-RU" sz="1400" spc="25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анию,</a:t>
                      </a:r>
                      <a:r>
                        <a:rPr b="0" lang="ru-RU" sz="1400" spc="25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торой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я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чт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д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АНД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не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ть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ам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учшую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анию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ционализ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7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ФОРМ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Я хотел бы, чтобы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ания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гля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-другому.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</a:t>
                      </a:r>
                      <a:r>
                        <a:rPr b="0" lang="ru-RU" sz="14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е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это</a:t>
                      </a:r>
                      <a:r>
                        <a:rPr b="0" lang="ru-RU" sz="1400" spc="-21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рхит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3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ОС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 мне убедить персонал</a:t>
                      </a:r>
                      <a:r>
                        <a:rPr b="1" lang="ru-RU" sz="14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ктивно</a:t>
                      </a:r>
                      <a:r>
                        <a:rPr b="1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частв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1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витии</a:t>
                      </a:r>
                      <a:r>
                        <a:rPr b="1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ан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ста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Прямоугольник 1"/>
          <p:cNvSpPr/>
          <p:nvPr/>
        </p:nvSpPr>
        <p:spPr>
          <a:xfrm>
            <a:off x="982800" y="845640"/>
            <a:ext cx="89388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й</a:t>
            </a:r>
            <a:r>
              <a:rPr b="1" i="1" lang="ru-RU" sz="1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r>
              <a:rPr b="1" i="1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и</a:t>
            </a:r>
            <a:r>
              <a:rPr b="1" i="1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зволяет своевременно заметить тенденции, учитыва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, принимать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ые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й</a:t>
            </a:r>
            <a:r>
              <a:rPr b="1" i="1" lang="ru-RU" sz="1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r>
              <a:rPr b="1" i="1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и</a:t>
            </a:r>
            <a:r>
              <a:rPr b="1" i="1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</a:t>
            </a:r>
            <a:r>
              <a:rPr b="0" lang="ru-RU" sz="18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</a:t>
            </a:r>
            <a:r>
              <a:rPr b="0" lang="ru-RU" sz="18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18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е</a:t>
            </a:r>
            <a:r>
              <a:rPr b="0" lang="ru-RU" sz="1800" spc="-5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</a:t>
            </a:r>
            <a:r>
              <a:rPr b="0" lang="ru-RU" sz="1800" spc="-5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ить</a:t>
            </a:r>
            <a:r>
              <a:rPr b="0" lang="ru-RU" sz="1800" spc="-7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вы</a:t>
            </a:r>
            <a:r>
              <a:rPr b="0" lang="ru-RU" sz="1800" spc="-26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ую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ировать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«стратегические ок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ка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нутое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ей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ное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</a:t>
            </a:r>
            <a:r>
              <a:rPr b="1" i="1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</a:t>
            </a:r>
            <a:r>
              <a:rPr b="1" i="1" lang="ru-RU" sz="1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Р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х технологий, работу с потенциальными инвесторами,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</a:t>
            </a:r>
            <a:r>
              <a:rPr b="0" lang="ru-RU" sz="18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овершенствование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,</a:t>
            </a:r>
            <a:r>
              <a:rPr b="0" lang="ru-RU" sz="18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</a:t>
            </a:r>
            <a:r>
              <a:rPr b="0" lang="ru-RU" sz="1800" spc="-6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же</a:t>
            </a:r>
            <a:r>
              <a:rPr b="0" lang="ru-RU" sz="1800" spc="-26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у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м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г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а.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х</a:t>
            </a:r>
            <a:r>
              <a:rPr b="0" lang="ru-RU" sz="1800" spc="-2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янсах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</a:t>
            </a:r>
            <a:r>
              <a:rPr b="0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87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ливая</a:t>
            </a:r>
            <a:r>
              <a:rPr b="1" i="1" lang="ru-RU" sz="1800" spc="-1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ая</a:t>
            </a:r>
            <a:r>
              <a:rPr b="1" i="1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"/>
          <p:cNvSpPr/>
          <p:nvPr/>
        </p:nvSpPr>
        <p:spPr>
          <a:xfrm>
            <a:off x="682200" y="769320"/>
            <a:ext cx="10682280" cy="499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менеджмент: учебное пособие / сост.  Е. В. Пирогова. – Ульяновск : УлГТУ, 2016. – 20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ировая экономика и международные экономические отношения: учебник/подред. В.К. Поспелова. — М.: ИНФРА-М, 20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экономические отношения: учебник для вузов / под ред. В. Е. Рыбалкина. – 7-е изд., перераб. и доп. – М. : Юнити, 2008. – 59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Гриффин Р., Пастей М.  Международный бизнес. 4-е изд. / Пер. с англ. под ред. А. Г. Медведева. —  СПб.: Питер, 2006. — 1088 с: ил. — (Серия «Классика МВ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А.Ю. Архипова, Е.П. Пузакова Международные экономические отношения. Международный бизнес: учебник. – Ростов н/Д: Феникс, 2009. -57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еждународный менеджмент / Под ред. Пивоварова С. Э., Тарасевича Л. С., Майзеля А. И. — СПб: Питер, 2001. —576 с.: ил. — (Серия «Учебники для вузов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Дарибеков С.С., Набиев Е.Н. Международный бизне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Караганда: Изд-во КарГУ, 2017. – 21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Дополните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Кратко И.Г. Международного предпринимательство: Учеб. пособие. – М.: ИНФРА-М, 2001. – 27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Михалкин В.А. Организация и формы международного бизнеса: учеб. пособие/ В.А. Михалкин. – М.: Магистр: ИНФРА – М, 2017. – 44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Володько В.Ф. Международный менеджмент. Учебное пособие /В.Ф.Володько; БНТУ.- Минск: Амалфея, 2007. – 33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Руднева А.О. Международная торговля: учеб, пособие / А.О. Руднева. — М.: ИНФРА-М, 2017. — 23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Сейфуллаева М. Э.  Международный менеджмент: учебник / М. Э. Сейфуллаева. - М. : КноРус, 2012. - 227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Уткин Э.А. Этика бизнеса. Учебник. – М.: Издательство «Зерцало», 2000. – 25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NewRoman"/>
              </a:rPr>
              <a:t>Черненко В.А.  Международный бизнес Учебник / Под ред. д.э.н., проф. В.А. Черненко. — Санкт-Петербургский государственный университет сервиса и экономики. 2011. — 42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Прямоугольник 1"/>
          <p:cNvSpPr/>
          <p:nvPr/>
        </p:nvSpPr>
        <p:spPr>
          <a:xfrm>
            <a:off x="764280" y="820440"/>
            <a:ext cx="1038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8764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— это совокупность характеристик объекта, относящихся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</a:t>
            </a:r>
            <a:r>
              <a:rPr b="0" lang="ru-RU" sz="1800" spc="-60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</a:t>
            </a:r>
            <a:r>
              <a:rPr b="0" lang="ru-RU" sz="1800" spc="-5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х,</a:t>
            </a:r>
            <a:r>
              <a:rPr b="0" lang="ru-RU" sz="1800" spc="-7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ющих</a:t>
            </a:r>
            <a:r>
              <a:rPr b="0" lang="ru-RU" sz="1800" spc="-26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800" spc="-46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ую</a:t>
            </a:r>
            <a:r>
              <a:rPr b="0" lang="ru-RU" sz="1800" spc="-4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лю</a:t>
            </a:r>
            <a:r>
              <a:rPr b="0" lang="ru-RU" sz="1800" spc="-5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а</a:t>
            </a:r>
            <a:r>
              <a:rPr b="0" lang="ru-RU" sz="1800" spc="-4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image45.png" descr=""/>
          <p:cNvPicPr/>
          <p:nvPr/>
        </p:nvPicPr>
        <p:blipFill>
          <a:blip r:embed="rId1"/>
          <a:stretch/>
        </p:blipFill>
        <p:spPr>
          <a:xfrm>
            <a:off x="3673080" y="1954440"/>
            <a:ext cx="5020200" cy="2903760"/>
          </a:xfrm>
          <a:prstGeom prst="rect">
            <a:avLst/>
          </a:prstGeom>
          <a:ln w="0">
            <a:noFill/>
          </a:ln>
        </p:spPr>
      </p:pic>
      <p:sp>
        <p:nvSpPr>
          <p:cNvPr id="1130" name="Прямоугольник 3"/>
          <p:cNvSpPr/>
          <p:nvPr/>
        </p:nvSpPr>
        <p:spPr>
          <a:xfrm>
            <a:off x="3135240" y="516672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70520" algn="ctr">
              <a:lnSpc>
                <a:spcPct val="100000"/>
              </a:lnSpc>
              <a:spcBef>
                <a:spcPts val="969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ля</a:t>
            </a:r>
            <a:r>
              <a:rPr b="0" lang="ru-RU" sz="1800" spc="-7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880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Прямоугольник 1"/>
          <p:cNvSpPr/>
          <p:nvPr/>
        </p:nvSpPr>
        <p:spPr>
          <a:xfrm>
            <a:off x="2827800" y="787680"/>
            <a:ext cx="574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ой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и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4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у</a:t>
            </a:r>
            <a:r>
              <a:rPr b="0" lang="ru-RU" sz="1800" spc="-262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Таблица 2"/>
          <p:cNvGraphicFramePr/>
          <p:nvPr/>
        </p:nvGraphicFramePr>
        <p:xfrm>
          <a:off x="996120" y="1157040"/>
          <a:ext cx="10440000" cy="5059440"/>
        </p:xfrm>
        <a:graphic>
          <a:graphicData uri="http://schemas.openxmlformats.org/drawingml/2006/table">
            <a:tbl>
              <a:tblPr/>
              <a:tblGrid>
                <a:gridCol w="2182680"/>
                <a:gridCol w="8257680"/>
              </a:tblGrid>
              <a:tr h="221400">
                <a:tc>
                  <a:txBody>
                    <a:bodyPr lIns="0" rIns="0" tIns="0" bIns="0" anchor="t">
                      <a:noAutofit/>
                    </a:bodyPr>
                    <a:p>
                      <a:pPr marL="11232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78920"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856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операции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заимодопол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одит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ому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т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служивающе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вер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ффективное правовое и техническое пространство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торо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може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арантирова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есперебойность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ункционирова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утренне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ынка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оже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но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сл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тик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у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читывает</a:t>
                      </a:r>
                      <a:r>
                        <a:rPr b="0" lang="ru-RU" sz="1400" spc="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ры,</a:t>
                      </a:r>
                      <a:r>
                        <a:rPr b="0" lang="ru-RU" sz="1400" spc="2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ализуемые</a:t>
                      </a:r>
                      <a:r>
                        <a:rPr b="0" lang="ru-RU" sz="1400" spc="1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1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ционально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гиональном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ждународном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ровн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4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азовый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ан на осознании того, что политика по качеству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ставляе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дин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тегически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лементо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мышленн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тики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правленн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ие</a:t>
                      </a:r>
                      <a:r>
                        <a:rPr b="0" lang="ru-RU" sz="1400" spc="11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нкурентоспособности</a:t>
                      </a:r>
                      <a:r>
                        <a:rPr b="0" lang="ru-RU" sz="1400" spc="9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10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иро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спекте,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 не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дельных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фер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3284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значает необходимость стимулирования подходов 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тике по качеству, основанных на использован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лючевого — человеческого, фактора. В этом план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ребуют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ибка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ац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личны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циональны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н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бщества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кж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изводственн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тмосферы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т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зможно при обеспечении взаимопонимания между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ящими и исполнительными звеньями. Общая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ь  </a:t>
                      </a:r>
                      <a:r>
                        <a:rPr b="0" lang="ru-RU" sz="1400" spc="19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—  </a:t>
                      </a:r>
                      <a:r>
                        <a:rPr b="0" lang="ru-RU" sz="1400" spc="19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е  </a:t>
                      </a:r>
                      <a:r>
                        <a:rPr b="0" lang="ru-RU" sz="1400" spc="18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а  </a:t>
                      </a:r>
                      <a:r>
                        <a:rPr b="0" lang="ru-RU" sz="1400" spc="18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жизни  </a:t>
                      </a:r>
                      <a:r>
                        <a:rPr b="0" lang="ru-RU" sz="1400" spc="19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юдей  </a:t>
                      </a:r>
                      <a:r>
                        <a:rPr b="0" lang="ru-RU" sz="1400" spc="18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ъединенной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вропе,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лжна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особствовать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то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1070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  <a:tabLst>
                          <a:tab algn="l" pos="41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пользов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овой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нцепц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полагае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менени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у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рмировани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ов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ософ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тег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равл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рмами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анн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ключении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 персонала в процесс постоянного улучш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ятельности всех подразделений компании с целью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оле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но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довлетвор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просо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ребителей.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заимоотнош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утр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ждо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деления</a:t>
                      </a:r>
                      <a:r>
                        <a:rPr b="0" lang="ru-RU" sz="1400" spc="123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11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жду</a:t>
                      </a:r>
                      <a:r>
                        <a:rPr b="0" lang="ru-RU" sz="1400" spc="10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ими</a:t>
                      </a:r>
                      <a:r>
                        <a:rPr b="0" lang="ru-RU" sz="1400" spc="11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ятся</a:t>
                      </a:r>
                      <a:r>
                        <a:rPr b="0" lang="ru-RU" sz="1400" spc="123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13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поставщи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—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лиент»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м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текающим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сюда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язанностями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жд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4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рнацио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одит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шению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ву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дач: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работк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ов взаимного признания всех национальны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конодательных</a:t>
                      </a:r>
                      <a:r>
                        <a:rPr b="0" lang="ru-RU" sz="1400" spc="-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ожений</a:t>
                      </a:r>
                      <a:r>
                        <a:rPr b="0" lang="ru-RU" sz="1400" spc="-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н-членов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х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пятствий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ободном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ередвижении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оваров на едином рынке; созданию «культуры качества», обеспечению ее развития и овладению ею всеми участниками единого ры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Прямоугольник 1"/>
          <p:cNvSpPr/>
          <p:nvPr/>
        </p:nvSpPr>
        <p:spPr>
          <a:xfrm>
            <a:off x="1706040" y="936000"/>
            <a:ext cx="862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880" indent="27108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Отличия стандартами ИСО серии 9000 и концепцией T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4" name="Таблица 2"/>
          <p:cNvGraphicFramePr/>
          <p:nvPr/>
        </p:nvGraphicFramePr>
        <p:xfrm>
          <a:off x="1159920" y="1555200"/>
          <a:ext cx="10003320" cy="3742200"/>
        </p:xfrm>
        <a:graphic>
          <a:graphicData uri="http://schemas.openxmlformats.org/drawingml/2006/table">
            <a:tbl>
              <a:tblPr/>
              <a:tblGrid>
                <a:gridCol w="4978440"/>
                <a:gridCol w="5024880"/>
              </a:tblGrid>
              <a:tr h="122400">
                <a:tc>
                  <a:txBody>
                    <a:bodyPr lIns="0" rIns="0" tIns="0" bIns="0" anchor="t">
                      <a:noAutofit/>
                    </a:bodyPr>
                    <a:p>
                      <a:pPr marL="68040"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О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1040"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2824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т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обходимости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а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пределенного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реб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пределенного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реб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8080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интегрировано 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рпоративную</a:t>
                      </a:r>
                      <a:r>
                        <a:rPr b="0" lang="ru-RU" sz="1400" spc="-4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тег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ированная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атегия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988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хнические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ы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д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ософию,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нцепции,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менты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олог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8980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влеченность всех сотруднико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умевается,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о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язатель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черкивает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обходимость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влечения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х</a:t>
                      </a:r>
                      <a:r>
                        <a:rPr b="0" lang="ru-RU" sz="14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1812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ирует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ерывном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ерывно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е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QM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являются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нонимами,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зультате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его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QM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став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ерывным и не оканчивающимся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утешествием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3160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ветственность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лжна быть определена 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кументально оформлена, н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асто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ветственность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о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злагается на соответствующи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деления,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пример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ждый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к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ветственен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124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зможность</a:t>
                      </a:r>
                      <a:r>
                        <a:rPr b="0" lang="ru-RU" sz="1400" spc="-5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окуса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д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я</a:t>
                      </a:r>
                      <a:r>
                        <a:rPr b="0" lang="ru-RU" sz="1400" spc="-4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х</a:t>
                      </a:r>
                      <a:r>
                        <a:rPr b="0" lang="ru-RU" sz="1400" spc="-4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делений,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ункций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ров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6280"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м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атичен,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й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ор на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кумен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разумевает изменение процесса</a:t>
                      </a:r>
                      <a:r>
                        <a:rPr b="0" lang="ru-RU" sz="1400" spc="-24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Прямоугольник 1"/>
          <p:cNvSpPr/>
          <p:nvPr/>
        </p:nvSpPr>
        <p:spPr>
          <a:xfrm>
            <a:off x="2051640" y="894960"/>
            <a:ext cx="609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5960" indent="-2718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Основные</a:t>
            </a:r>
            <a:r>
              <a:rPr b="0" lang="ru-RU" sz="1800" spc="-15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</a:t>
            </a:r>
            <a:r>
              <a:rPr b="0" lang="ru-RU" sz="1800" spc="-2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Q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Таблица 7"/>
          <p:cNvGraphicFramePr/>
          <p:nvPr/>
        </p:nvGraphicFramePr>
        <p:xfrm>
          <a:off x="997560" y="1310040"/>
          <a:ext cx="10315800" cy="1491480"/>
        </p:xfrm>
        <a:graphic>
          <a:graphicData uri="http://schemas.openxmlformats.org/drawingml/2006/table">
            <a:tbl>
              <a:tblPr/>
              <a:tblGrid>
                <a:gridCol w="2415240"/>
                <a:gridCol w="7900560"/>
              </a:tblGrid>
              <a:tr h="300240">
                <a:tc>
                  <a:txBody>
                    <a:bodyPr lIns="0" rIns="0" tIns="0" bIns="0" anchor="t">
                      <a:noAutofit/>
                    </a:bodyPr>
                    <a:p>
                      <a:pPr marL="17352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9920"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3680">
                <a:tc>
                  <a:txBody>
                    <a:bodyPr lIns="0" rIns="0" tIns="0" bIns="0" anchor="t">
                      <a:noAutofit/>
                    </a:bodyPr>
                    <a:p>
                      <a:pPr marL="6804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иентация</a:t>
                      </a:r>
                      <a:r>
                        <a:rPr b="0" lang="ru-RU" sz="1400" spc="-24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</a:t>
                      </a:r>
                      <a:r>
                        <a:rPr b="0" lang="ru-RU" sz="1400" spc="-24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60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казч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я всецело зависит от своих заказчиков 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этому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нимать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требности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казчика,</a:t>
                      </a:r>
                      <a:r>
                        <a:rPr b="0" lang="ru-RU" sz="14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полнять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го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ребования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емиться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взойти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го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жидания.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27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едущая</a:t>
                      </a:r>
                      <a:r>
                        <a:rPr b="0" lang="ru-RU" sz="1400" spc="15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оль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ител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станавливаю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дины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и и основные направления деятельности, а такж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особы реализации целей. Они должны создать 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к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икроклимат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тором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к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удут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ксимально</a:t>
                      </a:r>
                      <a:r>
                        <a:rPr b="0" lang="ru-RU" sz="1400" spc="1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влечены</a:t>
                      </a:r>
                      <a:r>
                        <a:rPr b="0" lang="ru-RU" sz="1400" spc="1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 достижения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вленных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7" name="Таблица 9"/>
          <p:cNvGraphicFramePr/>
          <p:nvPr/>
        </p:nvGraphicFramePr>
        <p:xfrm>
          <a:off x="997560" y="2824920"/>
          <a:ext cx="10315800" cy="1449720"/>
        </p:xfrm>
        <a:graphic>
          <a:graphicData uri="http://schemas.openxmlformats.org/drawingml/2006/table">
            <a:tbl>
              <a:tblPr/>
              <a:tblGrid>
                <a:gridCol w="2415240"/>
                <a:gridCol w="7900560"/>
              </a:tblGrid>
              <a:tr h="74052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влечени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есь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ерсонал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о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сшего</a:t>
                      </a:r>
                      <a:r>
                        <a:rPr b="0" lang="ru-RU" sz="1400" spc="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ководств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бочего должен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овлечен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ятельнос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равлению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ом.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ерсонал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сматривает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амо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ольшо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огатств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ются все необходимые условия для того, чтобы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ксимальн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кры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пользова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е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ворческий потенциа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9688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ный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имуществ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ссно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стои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ерывности управления, которое он обеспечивает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 стыке отдельных процессов в рамках их системы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кже</a:t>
                      </a:r>
                      <a:r>
                        <a:rPr b="0" lang="ru-RU" sz="1400" spc="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х</a:t>
                      </a:r>
                      <a:r>
                        <a:rPr b="0" lang="ru-RU" sz="1400" spc="-1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бинации и</a:t>
                      </a:r>
                      <a:r>
                        <a:rPr b="0" lang="ru-RU" sz="1400" spc="-1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заимодейств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8" name="Таблица 10"/>
          <p:cNvGraphicFramePr/>
          <p:nvPr/>
        </p:nvGraphicFramePr>
        <p:xfrm>
          <a:off x="997560" y="4298760"/>
          <a:ext cx="10315800" cy="737280"/>
        </p:xfrm>
        <a:graphic>
          <a:graphicData uri="http://schemas.openxmlformats.org/drawingml/2006/table">
            <a:tbl>
              <a:tblPr/>
              <a:tblGrid>
                <a:gridCol w="2415240"/>
                <a:gridCol w="7900560"/>
              </a:tblGrid>
              <a:tr h="737280">
                <a:tc>
                  <a:txBody>
                    <a:bodyPr lIns="0" rIns="0" tIns="0" bIns="0" anchor="t">
                      <a:noAutofit/>
                    </a:bodyPr>
                    <a:p>
                      <a:pPr marL="68040" indent="33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ны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равл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  <a:tabLst>
                          <a:tab algn="l" pos="992520"/>
                          <a:tab algn="l" pos="2174400"/>
                          <a:tab algn="l" pos="2901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зультативнос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ффективнос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ятельност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ответстви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ципам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QM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огут</a:t>
                      </a:r>
                      <a:r>
                        <a:rPr b="0" lang="ru-RU" sz="1400" spc="-4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ы</a:t>
                      </a:r>
                      <a:r>
                        <a:rPr b="0" lang="ru-RU" sz="1400" spc="-3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чет</a:t>
                      </a:r>
                      <a:r>
                        <a:rPr b="0" lang="ru-RU" sz="1400" spc="-4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здания,</a:t>
                      </a:r>
                      <a:r>
                        <a:rPr b="0" lang="ru-RU" sz="1400" spc="-3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еспечения</a:t>
                      </a:r>
                      <a:r>
                        <a:rPr b="0" lang="ru-RU" sz="1400" spc="-24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 управления системой взаимосвязанных процессов.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9" name="Таблица 11"/>
          <p:cNvGraphicFramePr/>
          <p:nvPr/>
        </p:nvGraphicFramePr>
        <p:xfrm>
          <a:off x="997560" y="5036040"/>
          <a:ext cx="10315800" cy="600480"/>
        </p:xfrm>
        <a:graphic>
          <a:graphicData uri="http://schemas.openxmlformats.org/drawingml/2006/table">
            <a:tbl>
              <a:tblPr/>
              <a:tblGrid>
                <a:gridCol w="2415240"/>
                <a:gridCol w="7900560"/>
              </a:tblGrid>
              <a:tr h="60048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оянное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луч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и и задачи основываются на результатах оценк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епени удовлетворенности заказчика (полученной в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оде обратной связи) и на показателях деятельност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амо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.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Таблица 1"/>
          <p:cNvGraphicFramePr/>
          <p:nvPr/>
        </p:nvGraphicFramePr>
        <p:xfrm>
          <a:off x="1134360" y="999720"/>
          <a:ext cx="10152000" cy="2271600"/>
        </p:xfrm>
        <a:graphic>
          <a:graphicData uri="http://schemas.openxmlformats.org/drawingml/2006/table">
            <a:tbl>
              <a:tblPr/>
              <a:tblGrid>
                <a:gridCol w="2377080"/>
                <a:gridCol w="7775280"/>
              </a:tblGrid>
              <a:tr h="124956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  <a:tabLst>
                          <a:tab algn="l" pos="797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хо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	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инятию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шений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анны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-7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ак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ффективны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ш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ывают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ольк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стоверных данных. Источниками таких данных могут</a:t>
                      </a:r>
                      <a:r>
                        <a:rPr b="0" lang="ru-RU" sz="1400" spc="-23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езультаты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нутренни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веро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ы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чества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рректирующи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упреждающи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ействий, жалоб! и пожеланий заказчиков и т.д. Такж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ормац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оже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ыватьс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нализ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дей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2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ложений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упающих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ков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и</a:t>
                      </a:r>
                      <a:r>
                        <a:rPr b="0" lang="ru-RU" sz="1400" spc="20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щ</a:t>
                      </a:r>
                      <a:r>
                        <a:rPr b="0" lang="ru-RU" sz="1400" spc="208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правленных</a:t>
                      </a:r>
                      <a:r>
                        <a:rPr b="0" lang="ru-RU" sz="1400" spc="199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</a:t>
                      </a:r>
                      <a:r>
                        <a:rPr b="0" lang="ru-RU" sz="1400" spc="202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вышение производительности,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нижение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ходов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2204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ношения</a:t>
                      </a:r>
                      <a:r>
                        <a:rPr b="0" lang="ru-RU" sz="1400" spc="2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400" spc="-23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вщ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5880" algn="just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к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изац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сн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язана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оим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вщиками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есообразн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лаживать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ими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заимовыгодны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тношения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целью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альнейшего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ширения возможностей деятельности. На данном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тап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станавливаются,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кументированные</a:t>
                      </a:r>
                      <a:r>
                        <a:rPr b="0" lang="ru-RU" sz="1400" spc="4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цедуры,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язательные</a:t>
                      </a:r>
                      <a:r>
                        <a:rPr b="0" lang="ru-RU" sz="1400" spc="-55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ля</a:t>
                      </a:r>
                      <a:r>
                        <a:rPr b="0" lang="ru-RU" sz="1400" spc="-6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блюдения</a:t>
                      </a:r>
                      <a:r>
                        <a:rPr b="0" lang="ru-RU" sz="1400" spc="-4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тавщик на</a:t>
                      </a:r>
                      <a:r>
                        <a:rPr b="0" lang="ru-RU" sz="1400" spc="-2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х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тапах</a:t>
                      </a:r>
                      <a:r>
                        <a:rPr b="0" lang="ru-RU" sz="1400" spc="-26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отруднич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ик 1"/>
          <p:cNvSpPr/>
          <p:nvPr/>
        </p:nvSpPr>
        <p:spPr>
          <a:xfrm>
            <a:off x="1091880" y="1329120"/>
            <a:ext cx="10208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концепция абсолютных преимуществ (производство товаров в той стране, где выше производительность труда и ниже издерж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концепция относительных преимуществ (при возможности выпуска в стране нескольких видов товаров необходимо сделать выбор, что производить на экспорт, а что – для внутреннего рын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концепция международного жизненного цикл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прямые иностранные инвестиции (капиталовложения на долгосрочной основе между предпрятием -инвестором и фирмой принимающей стран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"/>
          <p:cNvSpPr/>
          <p:nvPr/>
        </p:nvSpPr>
        <p:spPr>
          <a:xfrm>
            <a:off x="2774880" y="608400"/>
            <a:ext cx="811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Базовые принципы теории глобального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Прямоугольник 1"/>
          <p:cNvSpPr/>
          <p:nvPr/>
        </p:nvSpPr>
        <p:spPr>
          <a:xfrm>
            <a:off x="1323720" y="853920"/>
            <a:ext cx="9157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Garamond"/>
              </a:rPr>
              <a:t>При выборе принимающей страны инвесторы обращают внимание на следующие показа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"/>
          <p:cNvSpPr/>
          <p:nvPr/>
        </p:nvSpPr>
        <p:spPr>
          <a:xfrm>
            <a:off x="1323720" y="2516400"/>
            <a:ext cx="9662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- темпы экономического ро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издержки производства товаров и у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развитие законодательной б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политическая и макроэкономическая стаб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Натуральные материалы">
  <a:themeElements>
    <a:clrScheme name="Натуральные материалы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  <Words>5798</Words>
  <Paragraphs>6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8T12:32:37Z</dcterms:created>
  <dc:creator/>
  <dc:description/>
  <dc:language>en-US</dc:language>
  <cp:lastModifiedBy>Boss</cp:lastModifiedBy>
  <cp:lastPrinted>2023-06-28T12:32:37Z</cp:lastPrinted>
  <dcterms:modified xsi:type="dcterms:W3CDTF">2023-06-30T14:29:07Z</dcterms:modified>
  <cp:revision>6</cp:revision>
  <dc:subject/>
  <dc:title>Дисциплина Международный 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74</vt:r8>
  </property>
</Properties>
</file>