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89A5-9CC0-4E0E-A004-2CBC1920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1CAD-18E3-4572-8C72-34BAAA84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5748-8AE1-4AA7-BED3-A2BBBAD7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693-1BD0-4205-8D47-B90F9A0E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9568-666D-44D0-B269-9676FA0D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942A-9280-4C6E-88EF-9A65F1E8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060-8570-4A75-890B-88A5280D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F10-70FB-4007-99F2-40133082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7153-AEE6-4BEB-AA88-CE423363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C3B-A3F5-49A9-A558-A9990FBE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F89-6CC8-460B-9E62-8FD22584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2F42-19BA-440B-920E-CF4ABF5E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8895-074E-4F33-BF2C-C1FFB2F639A1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1856880"/>
            <a:ext cx="85723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900"/>
            </a:br>
            <a:r>
              <a:rPr b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неркәсіптегі еңбек қауіпсіздігі”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әні бойынша</a:t>
            </a:r>
            <a:br>
              <a:rPr sz="3200"/>
            </a:br>
            <a:br>
              <a:rPr sz="1000"/>
            </a:br>
            <a:r>
              <a:rPr b="0" lang="ru-RU" sz="3000" spc="-1" strike="noStrike">
                <a:solidFill>
                  <a:srgbClr val="fe8637"/>
                </a:solidFill>
                <a:latin typeface="Times New Roman"/>
                <a:ea typeface="Times New Roman"/>
              </a:rPr>
              <a:t> 7 тақырып. </a:t>
            </a:r>
            <a:r>
              <a:rPr b="1" lang="kk-K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ндірістегі шудың зиянды әсерінен қорғану.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1120" y="4221000"/>
            <a:ext cx="83725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ұрастырғандар: Смагулов Ж.К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-м.ғ.д, профессор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ұсабекова Ә.Қ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диофизика және электроника кафедрасының аға оқытушыс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бақ түрі: дәрі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611280" y="3078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зақстан Республикасы Ғылым және жоғары білім министрліг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адемик Е.А. Бөкетов атындағы Қарағанды ​​университе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3100680" y="6093000"/>
            <a:ext cx="236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рағанды 20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1763640" y="954000"/>
            <a:ext cx="66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изика және электроника кафедр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дың классификацияс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р сипатына қара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ң жиекті және тональд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ңжиекті-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і бір октавадан кең үзіліссіз спектрлі ш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аль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-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ктрі белгілі дискретті (тональді) ш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ақыт сипаттамасына қарай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ұрақты және тұрақсы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ұрақты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8 сағаттық жұмыс күнінде уақыт бойынша дыбыс деңгейінің өзгеруі 5 дБА аспайтын ш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ұрақсыз шуды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нылмалы, үзілісті және импульсты деп бөледі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нымалы ш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ақыт бойынша үзіліссіз дыбыс деңгейі өзгеретін ш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зілісті ш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ұл шудың уақыт бойынша баспалдақт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 дБА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әне кө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ыбыс деңгейі өзгеред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ульсты шу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әрқайсысының ұзақтығы 1 секундтан кем емес бір немесе бірнеше дыбыстық сигналдан тұратын ш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5480" y="214200"/>
            <a:ext cx="86439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ұмыс орнындағы тұрақсыз шуды нормалайтын параметрлері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БА өлшем бірлігі мен берілген эквивалентті дыбыс деңгейі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максималды дыбыс деңгей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ладағы шу көздері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ь және теміржол транспорт ағын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ндірістік мекемелер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уежайлар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шық спорт жә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ын алаңдар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еменің жүктеу-түсіру жұмыстарының алаң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ұрылыстар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лалық жерлерді жинауда қолданылатын механизмдер, машиналар және т.б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214200"/>
            <a:ext cx="91440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7120" y="928800"/>
          <a:ext cx="8429760" cy="3325680"/>
        </p:xfrm>
        <a:graphic>
          <a:graphicData uri="http://schemas.openxmlformats.org/drawingml/2006/table">
            <a:tbl>
              <a:tblPr/>
              <a:tblGrid>
                <a:gridCol w="5726160"/>
                <a:gridCol w="2703600"/>
              </a:tblGrid>
              <a:tr h="92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өлме, террит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Рұқсат етілген мен эквивалентті  ДКД, д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қу аудиторияла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</a:t>
                      </a: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абин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</a:t>
                      </a: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қу және кеңес залда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үнді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Тұрғын бөлмелер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</a:t>
                      </a: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демалыс орында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үндіз/ түн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0/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Тұрғын үй маңының территорияс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үндіз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/</a:t>
                      </a: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түн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5/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Rectangle 4"/>
          <p:cNvSpPr/>
          <p:nvPr/>
        </p:nvSpPr>
        <p:spPr>
          <a:xfrm>
            <a:off x="0" y="468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2-кесте</a:t>
            </a: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Рұқсат етілген дыбыс деңгейлері ДКД, д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85480" y="214200"/>
            <a:ext cx="86439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Шуды азайту жолда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Шуды азайту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үшін келесі шараларды іске асырғаны жөн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шу көзіндегі шуды азайт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таралу бағытын өзгерт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мекеменің рационалды жоспарлану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мекемені акустикалық жөнде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шуды таралу жолында азай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Шу машинаның бөлек детальдарының серпімді тербеліс әсерінен пайда болады. Осыған байланысты шуды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механикалық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аэродинамикалық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гидродинамикалық жә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электромагнитті деп бөлед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4200" y="28548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ұрғын үй территориясында және шудан қорғалған ортада (пәтерде) ДҚД шамасын азайту жолда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транспорт ағын интенсивтілігін (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kk-K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1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төмендет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 ағынының қозғалыс жылдамдығының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</a:t>
            </a:r>
            <a:r>
              <a:rPr b="0" i="1" lang="kk-K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2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шекте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л бөлігінің түрін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kk-K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А4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) өзгертту (5-кесте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сыл желектерді көбейту (6-кесте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езелерді   (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kk-K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7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аустыру (7-кесте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14720" y="1285920"/>
          <a:ext cx="4572000" cy="5375160"/>
        </p:xfrm>
        <a:graphic>
          <a:graphicData uri="http://schemas.openxmlformats.org/drawingml/2006/table">
            <a:tbl>
              <a:tblPr/>
              <a:tblGrid>
                <a:gridCol w="3186000"/>
                <a:gridCol w="1386000"/>
              </a:tblGrid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Автокөліктің екіжақтық қозғалу интенсивтілігі, бірлік/са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</a:t>
                      </a: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А</a:t>
                      </a:r>
                      <a:r>
                        <a:rPr b="1" lang="kk-KZ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д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1"/>
          <p:cNvSpPr/>
          <p:nvPr/>
        </p:nvSpPr>
        <p:spPr>
          <a:xfrm>
            <a:off x="0" y="5760"/>
            <a:ext cx="885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3-к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Автотранспорт ағын интенсивтілігі бойын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эквивалентті ДҚД түзетулер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344600"/>
          <a:ext cx="6096240" cy="5227560"/>
        </p:xfrm>
        <a:graphic>
          <a:graphicData uri="http://schemas.openxmlformats.org/drawingml/2006/table">
            <a:tbl>
              <a:tblPr/>
              <a:tblGrid>
                <a:gridCol w="2355840"/>
                <a:gridCol w="1870200"/>
                <a:gridCol w="1870200"/>
              </a:tblGrid>
              <a:tr h="870120"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Транспорт ағынының шуылдық сипаттамасына әсер етуші факторла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рташа жылдамдық, км/са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Эквиваленттік дыбыс деңгейлерінің түзетулері:    ,    (дБ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rowSpan="14">
                  <a:txBody>
                    <a:bodyPr lIns="66240" rIns="66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Транспорт ағынының орташа жылдамдығ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м/са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–</a:t>
                      </a: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–</a:t>
                      </a: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–</a:t>
                      </a: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–</a:t>
                      </a: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–</a:t>
                      </a: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rowSpan="5">
                  <a:txBody>
                    <a:bodyPr lIns="66240" rIns="66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Жол бөлігінің жазықтық ен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6" name="Object 2"/>
              <p:cNvSpPr txBox="1"/>
              <p:nvPr/>
            </p:nvSpPr>
            <p:spPr>
              <a:xfrm>
                <a:off x="0" y="0"/>
                <a:ext cx="3049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"/>
              <p:cNvSpPr txBox="1"/>
              <p:nvPr/>
            </p:nvSpPr>
            <p:spPr>
              <a:xfrm>
                <a:off x="0" y="0"/>
                <a:ext cx="3049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Rectangle 3"/>
          <p:cNvSpPr/>
          <p:nvPr/>
        </p:nvSpPr>
        <p:spPr>
          <a:xfrm>
            <a:off x="0" y="468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4-кес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Автотранспорт ағын жылдамдығы бойынш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эквивалентті ДҚД түзетулер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120" y="4071960"/>
          <a:ext cx="8429760" cy="2428920"/>
        </p:xfrm>
        <a:graphic>
          <a:graphicData uri="http://schemas.openxmlformats.org/drawingml/2006/table">
            <a:tbl>
              <a:tblPr/>
              <a:tblGrid>
                <a:gridCol w="2998800"/>
                <a:gridCol w="1347840"/>
                <a:gridCol w="1347840"/>
                <a:gridCol w="1368360"/>
                <a:gridCol w="1366920"/>
              </a:tblGrid>
              <a:tr h="4842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Жолдың түр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Эквиваленттік дыбыс деңгейлерінің түзетулер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д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орташа жылдамдық бойынш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км/</a:t>
                      </a: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ағ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0</a:t>
                      </a: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тө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0</a:t>
                      </a: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тан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60</a:t>
                      </a: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дейі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0</a:t>
                      </a: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тан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80</a:t>
                      </a: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дейі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0</a:t>
                      </a: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жоғ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Асфаль</a:t>
                      </a: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т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е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Цемент</a:t>
                      </a: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е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Жұмыр та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Т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57120" y="928800"/>
          <a:ext cx="8429760" cy="1776240"/>
        </p:xfrm>
        <a:graphic>
          <a:graphicData uri="http://schemas.openxmlformats.org/drawingml/2006/table">
            <a:tbl>
              <a:tblPr/>
              <a:tblGrid>
                <a:gridCol w="4067280"/>
                <a:gridCol w="1646280"/>
                <a:gridCol w="2716200"/>
              </a:tblGrid>
              <a:tr h="45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Жасыл желектер қат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Қатар ені,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Шу деңгейінің бәсеңдеу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</a:t>
                      </a:r>
                      <a:r>
                        <a:rPr b="1" i="1" lang="kk-KZ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А 6</a:t>
                      </a: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д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Шахматты түрде жол ортасында отырғызылған бір қатарл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 – 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6 – 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– 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 – 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Қатарлар арасы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 – </a:t>
                      </a: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олатын қос қатар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1 – 25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 – 10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Қатарлар арасы болатын екі, үш қатарл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6 – 30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 – 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2"/>
          <p:cNvSpPr/>
          <p:nvPr/>
        </p:nvSpPr>
        <p:spPr>
          <a:xfrm>
            <a:off x="0" y="180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5-к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Жол бөлігінің түрі бойынша эквивалентті ДҚД түзетулер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"/>
              <p:cNvSpPr txBox="1"/>
              <p:nvPr/>
            </p:nvSpPr>
            <p:spPr>
              <a:xfrm>
                <a:off x="0" y="0"/>
                <a:ext cx="35244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Rectangle 3"/>
          <p:cNvSpPr/>
          <p:nvPr/>
        </p:nvSpPr>
        <p:spPr>
          <a:xfrm>
            <a:off x="-285840" y="2505960"/>
            <a:ext cx="942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6-к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Жасыл желектер қатары бойынша эквивалентті ДҚД түзетул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71680" y="1357200"/>
          <a:ext cx="7929360" cy="4714920"/>
        </p:xfrm>
        <a:graphic>
          <a:graphicData uri="http://schemas.openxmlformats.org/drawingml/2006/table">
            <a:tbl>
              <a:tblPr/>
              <a:tblGrid>
                <a:gridCol w="1798560"/>
                <a:gridCol w="1251000"/>
                <a:gridCol w="1282680"/>
                <a:gridCol w="1798560"/>
                <a:gridCol w="1798560"/>
              </a:tblGrid>
              <a:tr h="3121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Терезе констру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ция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Шыны қалыңдығ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Ауа қабат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Δ</a:t>
                      </a:r>
                      <a:r>
                        <a:rPr b="0" i="1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</a:t>
                      </a:r>
                      <a:r>
                        <a:rPr b="0" i="1" lang="kk-KZ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д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ериметр</a:t>
                      </a: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бойын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тығыздағышы жо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тығыздағышы б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Әйнегі ашық терез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ір қабат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Қос қабат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 </a:t>
                      </a: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е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 </a:t>
                      </a: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ме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 </a:t>
                      </a: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ме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өлініп, жақындатылғ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 </a:t>
                      </a: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е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 </a:t>
                      </a: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ме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өлінген терез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 </a:t>
                      </a: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ме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Rectangle 1"/>
          <p:cNvSpPr/>
          <p:nvPr/>
        </p:nvSpPr>
        <p:spPr>
          <a:xfrm>
            <a:off x="285840" y="576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7-к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Терезе конструкциясы бойынша эквивалентті ДҚД түзетул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6748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дебиеттер тізімі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2560" y="78588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ізг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ив С.В., Усенко В.Г.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игиена труда. М.: Медицина, 198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ла В.И., Скала Н.В.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организации охраны и безопасности труда в Республике Казахстан. Алматы: Издательство ТО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M</a:t>
            </a:r>
            <a:r>
              <a:rPr b="0" lang="kk-K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07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kk-K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кімжанов Т.Е.</a:t>
            </a:r>
            <a:r>
              <a:rPr b="0" lang="kk-K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ңбек қорғау: Оқу құралы.- Алматы: Эверо, 2008.- 240б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орожный А.А.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храна труда и производственная безопасност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kk-K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. М. 2005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әуренбекова Ә.Н. Өндірісті ұйымдастыру: Оқу құралы.- Алматы: Экономика, 2007.- 174б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лов А.В., Бакаева Т.Н.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опасность жизнедеятельности.Охрана труда.-Ростов н/Д.: Феникс, 2005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Дәріс жоспары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Шудың сипаттамала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ыбыс деңгейлері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Шу көзінін параметрлері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Шуды азайту жолда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2920" y="213840"/>
            <a:ext cx="88581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осым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Батенков В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храна труда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очные материа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наул: Изд-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Алт.ун-та, 200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валов Ю.В., Гендлер С.Г., Павлов И.А.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ая безопасность: Учеб. пособие/ Санкт-Петербургский государственный горный институт (технический университет). СПб, 2005. 152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ин П.П., Лапин В.Л., Пономарев Н.Л. и др.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 жизнедеятельности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ая безопасность и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храна труда: Учеб. для техникумов.- М.: Высш.шк., 200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611280" y="476280"/>
            <a:ext cx="80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Әдебиеттер тіз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гізг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Скала В.И., Скала Н.В.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Основы организации охраны и безопасности труда в Республике Казахстан. Алматы: Издательство ТО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LEM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кімжанов Т.Е.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Еңбек қорғау: Оқу құралы.- Алматы: Эверо, 2008.- 240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Раздорожный А.А.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Охрана труда и производственная безопас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: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Учебник. М.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Дәуренбекова Ә.Н. Өндірісті ұйымдастыру: Оқу құралы.- Алматы: Экономика, 2007.- 174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Фролов А.В., Бакаева Т.Н.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Безопасность жизнедеятельности.Охрана труда.-Ростов н/Д.: Феникс,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Прихотько Н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Безопасность жизнедеятельности: Курс лекций. - Алматы: ВШП «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Әділ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»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баспас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,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кин П.П., Лапин В.Л., Пономарев Н.Л. и др.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зопасность жизнедеятельност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изводственная безопасность и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храна труда: Учеб. для техникумов.- М.: Высш.шк.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влов С.П., Губонина З.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храна труда в приборостроении: Учебник для ВУЗов.- М.: Высш.шк., 1986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Шудың сипаттамалары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аз тәрізді, сұйық және қатты ортада механикалық тербеліс әсерінен пайда болатын, жиілігі және интенсивтілігі әр түрлі дыбыс жиынтығы. Күнделікті өмірде шу деп кез келген дыбыстық кедергі келтіретін дыбысты айтад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быстық толқындар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үш түсу әсерінен ортаның стационарлы күйінің бұзылғанынан пайда болады. Бұл жағдайда ортаның бөлшектері тепе-теңдік күйіне қарай тербеле бастайды. Дыбыстық толқындар дыбыстық өріс кеңістігінде  тарала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ық қысымның лездік мәні мен орташа қысым арасындағы айырмашылық </a:t>
            </a: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быстық қысым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п аталады, ол Паскальмен (Па) өлшенед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быс эталоны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тінде жиілігі 1000 Гц болатын дыбыс алынады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у табалдырығы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геніміз адам құлағы еститін ең төменгі дыбыс қысымы мен дыбыс интенсивтілігі. Жиілігі 1000 Гц үшін есту табалдырығының интенсивтілігі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kk-K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lang="kk-K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2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т/м</a:t>
            </a:r>
            <a:r>
              <a:rPr b="0" lang="kk-K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л дыбыстық қысымы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kk-K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∙10</a:t>
            </a:r>
            <a:r>
              <a:rPr b="0" lang="kk-K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 адам құлағы қабылдай алатын дыбыс интенсивтілігі мен қысымының ең жоғары шегі </a:t>
            </a: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руды сезу табалдырығы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п аталады. Дыбыс жиілігі 1000Гц үшін ауруды сезу табалдырығының интенсивтілігі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 Вт/м</a:t>
            </a:r>
            <a:r>
              <a:rPr b="0" lang="kk-K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қысымы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∙10</a:t>
            </a:r>
            <a:r>
              <a:rPr b="0" lang="kk-K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у табалдырығы  мен ауруды сезу табалдырығының арасында  </a:t>
            </a: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у аймағы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ата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ыбыс  деңгейлер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Тәжірибе жүзінде шу сипаттамала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дыбыс интенсивтілігінің деңгей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10 1gI/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дыбыс қысымының деңгейі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kk-KZ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(ДКД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Р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20 1g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мұндағ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- берілген нүктедегі дыбы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нсив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тіліг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, бұ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ц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жиіліктегі есту   табалдырығына сәйкес дыбыс интенсивтіліг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- берілген нүктедегі дыбыстық қысы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∙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, бұ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ц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жиіліктегі есту   табалдырығының  қысымы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Адамның есту аппаратының 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ең жоғарғы сезімталдығы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800...1000 Гц , ал төменгі  —20...100 Гц жиіліктер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2560" y="14292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быстық қысымның коррективті деңгейі: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kk-KZ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L</a:t>
            </a:r>
            <a:r>
              <a:rPr b="0" i="1" lang="kk-KZ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kk-KZ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дБА  -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быс деңгейі (А- түрі) деп атала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өбінесе октавты (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kk-K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f</a:t>
            </a:r>
            <a:r>
              <a:rPr b="0" i="1" lang="kk-K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kk-K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) және үшоктавты ( ) жиілік аралықтарын қолданады, мұндағы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kk-K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әне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kk-K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әйкесінше жоғарғы және төменгі шекаралық жиілікте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таша геометриялық жиілік  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kk-K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г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"/>
              <p:cNvSpPr txBox="1"/>
              <p:nvPr/>
            </p:nvSpPr>
            <p:spPr>
              <a:xfrm>
                <a:off x="2916360" y="4292640"/>
                <a:ext cx="22906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г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4200" y="-360"/>
            <a:ext cx="87156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85840" y="785880"/>
          <a:ext cx="8501040" cy="5572080"/>
        </p:xfrm>
        <a:graphic>
          <a:graphicData uri="http://schemas.openxmlformats.org/drawingml/2006/table">
            <a:tbl>
              <a:tblPr/>
              <a:tblGrid>
                <a:gridCol w="1719000"/>
                <a:gridCol w="735120"/>
                <a:gridCol w="736560"/>
                <a:gridCol w="736560"/>
                <a:gridCol w="736920"/>
                <a:gridCol w="736560"/>
                <a:gridCol w="841320"/>
                <a:gridCol w="1128600"/>
                <a:gridCol w="1130400"/>
              </a:tblGrid>
              <a:tr h="1451520">
                <a:tc rowSpan="2"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Жұмыс орындар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өлмел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рташа геометриялық жиіліктегі (Гц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ктавты ДҚД , 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Экви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дыбыс деңгей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д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480">
                <a:tc>
                  <a:txBody>
                    <a:bodyPr lIns="68040" rIns="68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онструктор. бюро, комп. зал, есепте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480">
                <a:tc>
                  <a:txBody>
                    <a:bodyPr lIns="68040" rIns="68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асқару бөлмер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68040" rIns="68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Дистаци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ды басқа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68040" rIns="68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Шу техникасы б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68040" rIns="68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Құрастыру цехт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68040" rIns="68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Өндірістік  цехт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1"/>
          <p:cNvSpPr/>
          <p:nvPr/>
        </p:nvSpPr>
        <p:spPr>
          <a:xfrm>
            <a:off x="603000" y="214920"/>
            <a:ext cx="73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Өндірістегі шекті рұқсат етілген, эквивалентті ДҚ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4200" y="142560"/>
            <a:ext cx="87156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Шу көзінің параметрлер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 көзінің параметрлері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шу көзінің дыбыстық қуаты </a:t>
            </a:r>
            <a:r>
              <a:rPr b="0" i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ақыт бірлігі ішінде шу көзімен қоршаған ортаға сәулеленетін барлық дыбыстық энергия мөлшері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әулеленудің бағытталу факторы </a:t>
            </a:r>
            <a:r>
              <a:rPr b="0" i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 = I/I</a:t>
            </a:r>
            <a:r>
              <a:rPr b="0" i="1" lang="kk-KZ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р</a:t>
            </a:r>
            <a:r>
              <a:rPr b="0" i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Р</a:t>
            </a:r>
            <a:r>
              <a:rPr b="0" i="1" lang="kk-KZ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Р</a:t>
            </a:r>
            <a:r>
              <a:rPr b="0" i="1" lang="kk-KZ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kk-KZ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р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ұндағы: I– бағытталған шу көзінің берілген нүктедегі дыбыс интенсивтілігі, I</a:t>
            </a:r>
            <a:r>
              <a:rPr b="0" lang="kk-KZ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р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қуаты бірдей бағытталмаған шу көзінің сол нүктедегі дыбыс интенсивтіліг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63; 125; 250; 500; 1000; 2000; 4000 және 8000 Гц орташа геометриялық жиіліктермен берілген октавты  аралықтарындағы шудың дыбыстық қуат деңгейі және дыбыстық қуаттың коррективті деңгей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4:16:08Z</dcterms:created>
  <dc:creator>Admin</dc:creator>
  <dc:description/>
  <dc:language>en-US</dc:language>
  <cp:lastModifiedBy>Аселя</cp:lastModifiedBy>
  <dcterms:modified xsi:type="dcterms:W3CDTF">2024-06-06T07:11:05Z</dcterms:modified>
  <cp:revision>38</cp:revision>
  <dc:subject/>
  <dc:title>Слайд 1</dc:title>
</cp:coreProperties>
</file>