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8C6-14FA-4C1B-BD4D-A71B1217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950-7558-4CB4-8161-72FE289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799-A43F-4FA1-80B9-01C4AFBA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7E6-C56B-4EDF-8B0D-9F943C01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395-D620-43A6-A6F4-B61BFDC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797-2D65-4250-967F-546F7A3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F36-C22C-4F0D-AD19-7ADC9F2F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A5F-CBCD-481C-A914-0CA58C62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EB6-2355-4E37-8620-0FA0EED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FAB-7ADA-4B7D-A6B7-7B2E91F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CE3-D6FD-49C5-B978-2BB5271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E3D-4EB5-4D34-BD09-70F44FD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FCB-248C-4664-9BA6-6DDEF62FF9B7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43080"/>
            <a:ext cx="8572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500"/>
            </a:br>
            <a:br>
              <a:rPr sz="2500"/>
            </a:br>
            <a:r>
              <a:rPr b="1" lang="kk-K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kk-K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еркәсіптегі еңбек қауіпсіздігі”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әні бойынша</a:t>
            </a:r>
            <a:br>
              <a:rPr sz="2500"/>
            </a:br>
            <a:br>
              <a:rPr sz="900"/>
            </a:br>
            <a:r>
              <a:rPr b="0" lang="ru-RU" sz="26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 2 тақырып. </a:t>
            </a:r>
            <a:r>
              <a:rPr b="1" lang="kk-KZ" sz="2900" spc="-1" strike="noStrike">
                <a:solidFill>
                  <a:srgbClr val="000000"/>
                </a:solidFill>
                <a:latin typeface="Times New Roman"/>
                <a:ea typeface="SimSun"/>
              </a:rPr>
              <a:t>Кәсіпорындағы енбек қорғау</a:t>
            </a:r>
            <a:br>
              <a:rPr sz="2900"/>
            </a:br>
            <a:r>
              <a:rPr b="1" lang="kk-KZ" sz="2900" spc="-1" strike="noStrike">
                <a:solidFill>
                  <a:srgbClr val="000000"/>
                </a:solidFill>
                <a:latin typeface="Times New Roman"/>
                <a:ea typeface="SimSun"/>
              </a:rPr>
              <a:t> жағдайын бақылау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4221000"/>
            <a:ext cx="8372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растырғандар: Смагулов Ж.К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-м.ғ.д, профессор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ұсабекова Ә.Қ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диофизика және электроника кафедрасының аға оқытушы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қ түрі: дәрі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11280" y="307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зақстан Республикасы Ғылым және жоғары білім министрлі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Е.А. Бөкетов атындағы Қарағанды ​​университе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3100680" y="6093000"/>
            <a:ext cx="236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ағанды 2024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692360" y="1339920"/>
            <a:ext cx="66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изика және электроника кафедр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891360" y="-1080"/>
            <a:ext cx="71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Еңбек жағдайына әсер етуші факторларын сандық бағалауына қойылатын талап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"/>
          <p:cNvSpPr/>
          <p:nvPr/>
        </p:nvSpPr>
        <p:spPr>
          <a:xfrm>
            <a:off x="4730760" y="2300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90"/>
          <p:cNvSpPr/>
          <p:nvPr/>
        </p:nvSpPr>
        <p:spPr>
          <a:xfrm>
            <a:off x="5694480" y="2300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33"/>
          <p:cNvSpPr/>
          <p:nvPr/>
        </p:nvSpPr>
        <p:spPr>
          <a:xfrm>
            <a:off x="2803680" y="237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34"/>
          <p:cNvSpPr/>
          <p:nvPr/>
        </p:nvSpPr>
        <p:spPr>
          <a:xfrm>
            <a:off x="2803680" y="24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8"/>
          <p:cNvSpPr/>
          <p:nvPr/>
        </p:nvSpPr>
        <p:spPr>
          <a:xfrm>
            <a:off x="2803680" y="2519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59"/>
          <p:cNvSpPr/>
          <p:nvPr/>
        </p:nvSpPr>
        <p:spPr>
          <a:xfrm>
            <a:off x="2803680" y="25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2200"/>
          <a:ext cx="8785440" cy="6477120"/>
        </p:xfrm>
        <a:graphic>
          <a:graphicData uri="http://schemas.openxmlformats.org/drawingml/2006/table">
            <a:tbl>
              <a:tblPr/>
              <a:tblGrid>
                <a:gridCol w="3268800"/>
                <a:gridCol w="1430280"/>
                <a:gridCol w="1425600"/>
                <a:gridCol w="1424160"/>
                <a:gridCol w="1236600"/>
              </a:tblGrid>
              <a:tr h="2444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актор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ағдайл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ұқсат етілг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Зиянды, қауіпті, ауытқу дәрежесі (ұпайме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-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әре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ұп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әре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ұп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-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әре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ұп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 Санитар</a:t>
                      </a: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ы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гигиен</a:t>
                      </a: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лық әсер етуші факторл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Жұмыс аумағындағы зиянды заттар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бу мен газда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г/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≤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Р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5–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терінің ластану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г/с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≤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Р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5–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шаң мен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аэрозоль, мг/ 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≤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Р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5–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ибраци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алпы, жергілікті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,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≤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Р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1–6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6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Шу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дБА,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≤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Р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 д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1–12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12 д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Жұмыс орны м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кроклимат</a:t>
                      </a: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ауа 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мпература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˚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5 %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ылы және суық мезгілде рұқсат етілген шамадан ауытқу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˚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,1 – 8˚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8˚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ауа қабаты қозғ.жылд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/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ылы және суық мезгілде рұқсат етілген шамадан ауытқу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ауаның салыст. ылғалдылығы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ылы және суық мезгілде рұқсат етілген шамадан ауытқу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инфрақызыл (жылулық) сәулеленудің 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тенсив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ілігі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Вт/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41–3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51–28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Жарықталу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л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&lt;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Р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сихофизиологи</a:t>
                      </a: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ялық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фактор</a:t>
                      </a: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ңбек ауыртпалығы (физикалық жүктемесі, эмоционалдылығы, жұмыс ауысымы және т.б.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84360" y="172764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ттестаттау қорытындысын талдау барысында жұмыс орнындағы әсер етуші (неғұрлым маңызды) факторлар жеке қарастырылып, қорытынды көрсеткіші талқылан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алдау нәтижесі бойынша келесі шешімдер қабылдана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жақсартуға тура келетін қауіпті және зиянды еңбек жағдайы факторларын анықтау (арнайы нақты шараларды ұсын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ңбек жағдайын жақсарту мақсатында жұмыс жағдайы ерекше болатын жұмыскерлерге қосымша төлемақыны төлеуді ұсы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547640" y="333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3.Аттестаттау қорытындысы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талдау және орындау тәртіб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964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егер аттестаттаудың қорытындысын талдау нәтижесінде студент берілген жұмыс орнының екі және одан да көп факторлары ең жоғары 3 ұпаймен бағаланатынын анықтайтын болса (аса қауіпті және аса зиянды еңбек жағдайы), онда ол берілген жұмыс орнының жұмысын тоқтатуы туралы қорытынды жасай а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95280" y="911160"/>
            <a:ext cx="8304120" cy="50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Әдебиеттер тіз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Қазақстан Республикасыны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ң 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ңбек кодексі. 2007 жылғы 15 мамырдағы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2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авила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оведения обязательной периодической аттестации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оизводственных объектов по условиям труда приказом Министра труда и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социальной защиты населения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Республики Казахстан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от 23)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Скала В.И., Скала Н.В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Основы организации охраны и безопасности труда в Республике Казахстан. Алматы: Издательство ТО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M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акімжанов Т.Е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Еңбек қорғау: Оқу құралы.- Алматы: Эверо, 2008.- 240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дорожный А.А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Охрана труда и производственная без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Учебник. М.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Дәуренбекова Ә.Н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Өндірісті ұйымдастыру: Оқу құралы.- Алматы: Экономика, 2007.- 174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Алексив С.В., Усенко В.Г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Гигиена труда. М.: Медицина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39640" y="1284840"/>
            <a:ext cx="8425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Дәріс жоспа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Жұмыс орындарын аттестаттау бойынша жұмысты ұйымдасты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ңбек жағдайын ұпаймен бағалау әдістемес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ттестаттау қорытындысын талдау және орындау тәртіб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0920" y="189000"/>
            <a:ext cx="86421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ебиеттер тізі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ізг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Қазақстан Республикасыны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ң Е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ңбек кодексі. 2007 жылғы 15 мамырдағы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2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проведения обязательной периодической аттестации производственных объектов по условиям труда приказом Министра труда и социальной защиты населения Республики Казахстан от 2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Скала В.И., Скала Н.В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Основы организации охраны и безопасности труда в Республике Казахстан. Алматы: Издательство ТО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LEM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кімжанов Т.Е.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Еңбек қорғау: Оқу құралы.- Алматы: Эверо, 2008.- 240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дорожный А.А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Охрана труда и производственная безопас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Учебник. М.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Дәуренбекова Ә.Н.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Өндірісті ұйымдастыру: Оқу құралы.- Алматы: Экономика, 2007.- 174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ихотько Н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Безопасность жизнедеятельности: Курс лекций. - Алматы: ВШП «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Әділ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»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баспас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в С.В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езопасность жизнедеятельности: Учебник для вузов.- М.: Высш. шк.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Қосым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тенков В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i="1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храна труда: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авочные материа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-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рнаул: Изд-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Алт.ун-та, 200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Шувалов Ю.В., Гендлер С.Г., Павлов И.А.</a:t>
            </a:r>
            <a:r>
              <a:rPr b="0" i="1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и др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оизводственная безопасность: Учеб. пособие/ Санкт-Петербургский государственный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горный институт (технический университет). СПб, 2005. 152 с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7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Алексив С.В., Усенко В.Г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Гигиена труда. М.: Медицина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69240" y="337680"/>
            <a:ext cx="61621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3960" rIns="90000" tIns="152280" bIns="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Жұмыс орындарын аттестатта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бойынша жұмысты ұйымдас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11280" y="2343240"/>
            <a:ext cx="81374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ұмыскер еңбек ету барысында ағзаға әсерін тигізетін, жеке мүшелерінің қызметіне өзгертулеріне себеп бола алатын өндіріс факторлардың әсеріне душар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сапалық және өндіріс ортасының сандық сипаттамалары өзінің шекті көрсеткіштерінен асып, яғни денсаулыққа зияны жоқ болған жағдайда бай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24000" y="980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ттау комиссиясы жұмыс барысында келесі мақсаттарға қол жеткізуі тиі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ңбек жағдайының сандық бағасын анықтап, әрбір жұмыс орнына немесе тобына еңбек жағдайының картасын құру (1, 2 -кестелер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тестаттау нәтижесі бойынша жұмыс орындарының тізімін құр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тестаттаудан өтетін жұмыс орындарының тізімін құ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2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қажетті нормативті - мәлімет базаны қалыпт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берілген кәсіпорындағы мамандықтар, лауазымдар тізімі мен сәйкес орындалатын жұмыс сипаттамасының Ортақ тариф-біліктілікті анықтамалық пен басшылар, мамандар мен қызметкерлердің лауазымдарының біліктілік анықтамалығының талаптарына сәйкес келуін анықтай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барлық деңгейлерде орындалатын жұмысқа ұйымдық,  әдістемелік басшылық пен бақылауды жүзеге асы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дам денсаулығына зиян және қауіпті өндірістік факторларды зерттеу қажеттігін анықта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еңбек жағдайы мен жұмыскерлердің денсаулығын сақтау бойынша шаралар ұйымдасты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8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Жұмыс орнындағы еңбек жағдайын бағалау  кар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907920"/>
          <a:ext cx="8209080" cy="5803920"/>
        </p:xfrm>
        <a:graphic>
          <a:graphicData uri="http://schemas.openxmlformats.org/drawingml/2006/table">
            <a:tbl>
              <a:tblPr/>
              <a:tblGrid>
                <a:gridCol w="3700440"/>
                <a:gridCol w="648000"/>
                <a:gridCol w="819000"/>
                <a:gridCol w="933480"/>
                <a:gridCol w="745920"/>
                <a:gridCol w="750960"/>
                <a:gridCol w="611280"/>
              </a:tblGrid>
              <a:tr h="5731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Мекеме атауы, коды            2.Өндіріс түрі                           3.Бөлімше                                    4. Бірегей жұмыс орындарының са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І. Еңбек жағдайын бағалау нәтижес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ңбек жағдайының санитарлы-гигиеналық әсер ету факторлар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үн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орматив</a:t>
                      </a: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мәнд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актор нақты шама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ктор</a:t>
                      </a: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ұпай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актор әсер ету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Әсер уақыты бойынша ұп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Жұмыс аумағындағы зиянды заттар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г/м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)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у, газ (қауіптілік класы бойынш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)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ері ластану деңгейі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г/с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) 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аң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аэрозоль, мг/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ибрация, дБ</a:t>
                      </a: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жалпы, жергілікті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у, дБА,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нфра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ыбыс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льтра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ыбыс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д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льтра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үлгін сәулелену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Вт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Жұмыс орнының микроклима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)ауа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емпература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)ауа қабатының қозғ.жылдамдығ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м/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)ауаның салыст.ылғалдылығ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нфра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ызыл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ылулық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сәулеленудің интенсивтілігі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Вт/м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 Жарықтану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л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8115120" y="-10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б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8920" y="333360"/>
          <a:ext cx="8532720" cy="6278400"/>
        </p:xfrm>
        <a:graphic>
          <a:graphicData uri="http://schemas.openxmlformats.org/drawingml/2006/table">
            <a:tbl>
              <a:tblPr/>
              <a:tblGrid>
                <a:gridCol w="5298840"/>
                <a:gridCol w="1208160"/>
                <a:gridCol w="1065240"/>
                <a:gridCol w="960480"/>
              </a:tblGrid>
              <a:tr h="3049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ІІ.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</a:t>
                      </a:r>
                      <a:r>
                        <a:rPr b="1" i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ңбек жағдайының психофизиологиялық факторл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екті мән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2-кес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ақты мә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Ұпай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изикалық динамикалық жүктеменің шамас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к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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жалпы, регионал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ір рет көтергендегі жүк салмағ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кг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түрі бойын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ұмыс ауысымы бойынша статикалық жүктемес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к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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ұмыс қалпы мен кеңістікте қозғалы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ұмыс ырғағ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– 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ағатына қимыл саны (ұсақ, күрделі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азар аудару деңгейі (түрі бойын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нализаторлық функцияларға түсірілетін салмақ (көз, құлақ анализатор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онотон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ылы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моционал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ылығ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стети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қалы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дискомф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изиологи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ялы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дискомф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ұмыс ауысы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 </a:t>
                      </a:r>
                      <a:r>
                        <a:rPr b="1" i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Еңбек жағдайын ұпаймен бағалау</a:t>
                      </a: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II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 №1 и №2</a:t>
                      </a:r>
                      <a:r>
                        <a:rPr b="1" i="1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тізімге сәйкес ерекше еңбек жағдайы үшін қосымша төлемақы мөлш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ттестаттау қорытындысымен танысты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артаны құрастыру кү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ттестаттау комиссиясының төрағ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ттестаттау комиссиясының мүшел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24000" y="933840"/>
            <a:ext cx="8280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ңбек жағдайын бағалау өндірістік ортаның санитарлы-гигиеналық және психофизиологиялық факторларының құраушыларына тәуелді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Зерттеу барысында келесі көрсеткіштерді анықтау керек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ңбек шарттарын сан жағынан бағалау үшін жұмыс орындарына қойылатын талаптар (3-кест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өндірістік ортаның санитарлы-гигиеналық фактор сипаттамасының нормативтік мә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ңбек шарттарының психофизиологиялық факторларының рұқсат етілетін көлемі (2-кест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есептеу жүргізу, зертханалық зерттеу жұмысы немесе құрал-жабдықты өлшеу арқылы алынған өндірістік орта факторларының деректі көлемі (1-кес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332000" y="235080"/>
            <a:ext cx="69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.Еңбек жағдайын ұпаймен бағалау әдістеме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0:14:35Z</dcterms:created>
  <dc:creator>XTreme</dc:creator>
  <dc:description/>
  <dc:language>en-US</dc:language>
  <cp:lastModifiedBy>Аселя</cp:lastModifiedBy>
  <dcterms:modified xsi:type="dcterms:W3CDTF">2024-06-06T07:03:00Z</dcterms:modified>
  <cp:revision>29</cp:revision>
  <dc:subject/>
  <dc:title>Е.А.Бґкетов атындаєы ЌарМУ</dc:title>
</cp:coreProperties>
</file>