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38E91-1BBB-4AA6-9F11-0CC370906B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77A9B-935F-480D-BD54-9808B0A9CF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8B07B-B569-401F-9625-C4501015F9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4086-0B00-49F6-99AA-FFBA5C745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67B0-10C8-496B-874F-337BD3C61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4BDF-6879-422B-BC96-221501656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AB90-B013-4E37-8247-695EEC6EE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8395-EAE8-4B4B-A275-DBDA418AC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FF0E-132E-466E-8895-48068FD83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8779-D60B-4E48-B48E-64147A4F1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B681-DAD6-49F2-B67C-971A50A61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A2CA-DD6C-4D3D-AAEB-719C57FD5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B020-9A26-4092-8342-3E7AD3BB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AA6F-6EF4-487D-A67A-285ECAF6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39E3-DDF7-4094-A523-BEAF45F0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C7F6B-42D9-49CC-99E4-222B3C33BB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инистерство науки и высшего образования Республики Казахст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гандинский университет имени академика Е.А.Букет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БЕЗОПАСНОСТЬ ТЕХНИКИ И ТЕХНОЛОГИ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4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ормализация воздушной среды в </a:t>
            </a:r>
            <a:r>
              <a:rPr b="1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изводственных помещен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разовательная программа: «6В11201 – Безопасность жизнедеятельности и защита окружающей сред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вторы: Смагулов Ж.К., профессор кафедры  радиофизики и электро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ұсабекова Ә.Қ. м.т.н., старший преподаватель кафедры радиофизики и электро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 занятий: ле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ганда 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0" y="44280"/>
          <a:ext cx="9144000" cy="6807240"/>
        </p:xfrm>
        <a:graphic>
          <a:graphicData uri="http://schemas.openxmlformats.org/drawingml/2006/table">
            <a:tbl>
              <a:tblPr/>
              <a:tblGrid>
                <a:gridCol w="539640"/>
                <a:gridCol w="4753080"/>
                <a:gridCol w="1511280"/>
                <a:gridCol w="2340000"/>
              </a:tblGrid>
              <a:tr h="4320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ществ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К, мг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r>
                        <a:rPr b="0" lang="ru-RU" sz="19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 опасности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д углерода (СО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ды азота (в пересчете на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r>
                        <a:rPr b="0" lang="ru-RU" sz="19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ды марганц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иэтилен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тути неорганические соединения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,0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туть металлическая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,00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инец и его неорганические соединения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ная кислот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оводород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оуглерод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,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рт метиловый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рт этиловый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рьма металлическая (пыль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луол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айт-спирит (в пересчете на С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сусная кислот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1280" y="28440"/>
            <a:ext cx="822960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егории раб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0" y="1200240"/>
          <a:ext cx="9144000" cy="5181480"/>
        </p:xfrm>
        <a:graphic>
          <a:graphicData uri="http://schemas.openxmlformats.org/drawingml/2006/table">
            <a:tbl>
              <a:tblPr/>
              <a:tblGrid>
                <a:gridCol w="900000"/>
                <a:gridCol w="1871640"/>
                <a:gridCol w="1841760"/>
                <a:gridCol w="1923840"/>
                <a:gridCol w="2606760"/>
              </a:tblGrid>
              <a:tr h="915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е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нсивность энергозатрат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кал/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нсивность энергозатрат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а рабо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1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д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вейное, часов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 ÷ 1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 ÷ 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дя, стоя, ходьб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еры, мастера, связ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 ÷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 ÷ 232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оянная ходьба, перенос тяжести до 1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дильное, механосбороч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 ÷ 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3 ÷ 2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оянная ходьба, перенос тяжести до 10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ханическое, сварочное, машиностроитель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е 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е 2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оянная ходьба, перенос тяжести свыше 10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знечное, литейное, металлург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тимальные показатели микроклимата производственных помещ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0" y="1125360"/>
          <a:ext cx="9144000" cy="573588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1630440"/>
                <a:gridCol w="1631880"/>
                <a:gridCol w="1538280"/>
              </a:tblGrid>
              <a:tr h="132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од г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егория работ по уровню энергозатрат, В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ература воздуха, ° 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носительная влажность воздуха,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 движения воздуха, м/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 rowSpan="5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лод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a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до 139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– 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– 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 (140 – 17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 – 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– 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a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175 – 23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 – 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– 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 (233 – 29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– 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– 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более 29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 – 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– 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 rowSpan="5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пл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a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до 139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 – 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– 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 (140 – 17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– 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– 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a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175 – 23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– 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– 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 (233 – 29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 – 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– 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более 29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 – 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– 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-324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устимые показатели микроклима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440" y="620640"/>
          <a:ext cx="9107640" cy="6213600"/>
        </p:xfrm>
        <a:graphic>
          <a:graphicData uri="http://schemas.openxmlformats.org/drawingml/2006/table">
            <a:tbl>
              <a:tblPr/>
              <a:tblGrid>
                <a:gridCol w="1330560"/>
                <a:gridCol w="1584360"/>
                <a:gridCol w="1224000"/>
                <a:gridCol w="1368360"/>
                <a:gridCol w="1366920"/>
                <a:gridCol w="1081080"/>
                <a:gridCol w="1152360"/>
              </a:tblGrid>
              <a:tr h="54900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од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егория работ по уровню энергозатрат, В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ература воздуха,  С Диапаз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носительная влажность воздуха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 движения воздуха, м/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е оптим. велич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ше оптим. велич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е оптим. велич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ше оптим. велич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rowSpan="5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лод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a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до 13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0 – 2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1 – 2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– 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 (140 – 17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0 – 20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1 – 24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– 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a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175 – 23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0 – 1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,1 – 23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– 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 (233 – 29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0 – 1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1 – 2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– 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более 29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0 – 15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1 – 2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– 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rowSpan="5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пл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a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до 13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,0 – 22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1 – 2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– 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 (140 – 17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0 – 2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1 – 2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– 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a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175 – 23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0 – 19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,1 – 2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– 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 (233 – 29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0 – 1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,1 – 2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– 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более 29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0 – 17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1 – 2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– 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0" y="-144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ы, влияющие на микроклимат в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ещен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источников теплообразования (в том числе работающего персонал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опоступления от солнечной ради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ообразования при работе электрического обору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ность воздухообмена в помещ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опередача через ограждающие констру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ы поверхностей оборудования и ограждающих констру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чет воздухообменапо количеству выделяемого (избыточного) тепла:</a:t>
            </a:r>
            <a:r>
              <a:rPr b="0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=Q</a:t>
            </a:r>
            <a:r>
              <a:rPr b="0" i="1" lang="kk-KZ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изб</a:t>
            </a:r>
            <a:r>
              <a:rPr b="0" i="1" lang="kk-K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C</a:t>
            </a:r>
            <a:r>
              <a:rPr b="0" i="1" lang="kk-KZ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i="1" lang="kk-K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ρ</a:t>
            </a:r>
            <a:r>
              <a:rPr b="0" i="1" lang="kk-KZ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i="1" lang="kk-K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</a:t>
            </a:r>
            <a:r>
              <a:rPr b="0" i="1" lang="kk-KZ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уд </a:t>
            </a:r>
            <a:r>
              <a:rPr b="0" i="1" lang="kk-K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t</a:t>
            </a:r>
            <a:r>
              <a:rPr b="0" i="1" lang="kk-KZ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пр</a:t>
            </a:r>
            <a:r>
              <a:rPr b="0" i="1" lang="kk-K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kk-K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м</a:t>
            </a:r>
            <a:r>
              <a:rPr b="0" lang="kk-KZ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kk-K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час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kk-K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арт.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количество избыточного тепла</a:t>
            </a:r>
            <a:r>
              <a:rPr b="0" i="1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Дж/ча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i="1" lang="kk-K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удельная теплоемкость воздуха (кДж/кг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</a:t>
            </a:r>
            <a:r>
              <a:rPr b="0" i="1" lang="kk-K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лотность приточного воздуха (кг/м</a:t>
            </a:r>
            <a:r>
              <a:rPr b="0" lang="kk-KZ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kk-K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уд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температура удаляемого и </a:t>
            </a:r>
            <a:r>
              <a:rPr b="0" i="1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kk-K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пр</a:t>
            </a:r>
            <a:r>
              <a:rPr b="0" i="1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температура приточного возду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6480" y="-100080"/>
            <a:ext cx="9144000" cy="712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ности воздухообме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количество воздуха, поступающего в помещение за 1 ч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объем поме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= 1 ÷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0" y="26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Объект 6"/>
          <p:cNvGraphicFramePr/>
          <p:nvPr/>
        </p:nvGraphicFramePr>
        <p:xfrm>
          <a:off x="3780000" y="1557360"/>
          <a:ext cx="1223640" cy="114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1557360"/>
                    <a:ext cx="122364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320" y="0"/>
            <a:ext cx="91393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ы по защите воздушной среды от загрязнен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гидро- и пневмотранспорта для пылящих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дистанционного управления, автоматизации контроля за ходом технологического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на вредных веществ на безвредные или менее вред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гиеническая стандартизация химического сырья и проду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фективная вентиляция производственных помещ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душное или водо-воздушное душирование рабочих м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ройство специальных комнат, кабин для кратковременного отдыха с подачей в них кондиционированного воздух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защитных экранов, водяных и воздушных зав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средств индивидуальной защиты, спецодежды, спецобуви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611280" y="3267000"/>
            <a:ext cx="80643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"/>
          <p:cNvSpPr/>
          <p:nvPr/>
        </p:nvSpPr>
        <p:spPr>
          <a:xfrm>
            <a:off x="0" y="333360"/>
            <a:ext cx="9036000" cy="60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ы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душная среда на производстве оказывает существенное влияние на  здоровье работающих, их психофизиологическое состояние и работоспособ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 за содержанием вредных веществ I класса опасности должен осуществлятьс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ерыв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помощью автоматических приборов, выдающих сигнал превышения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Д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ацию вредных веществ II, III и IV классов опасности допускается определять периодиче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0" y="28080"/>
            <a:ext cx="9144000" cy="68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ные вопрос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называется рабочей зон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называется рабочим мест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ность ионизации воздуха рабочей з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овое з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какому вредному фактору относится монотонность труд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Физическ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Химическ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) Биологическ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Психофизиологическ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) Социальн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1042920" y="1004400"/>
            <a:ext cx="7632720" cy="50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4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4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6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224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онятия производственной сре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224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4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душная среда на производ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4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4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Основные характеристики воздушной сре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4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4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Гигиеническое нормирование метеоусло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4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4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Основные способы и средства оздоровления воздушной среды на производ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4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0" y="0"/>
            <a:ext cx="914400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Конституция Республики Казахстан от 30.08.19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Трудовой кодекс Республики Казахстан от 15.05.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Закон РК от 21.07.2007 «О безопасности машин и оборудовани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Закон РК от 21.07.2007 «О безопасности химической продукци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ов С.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Безопасность жизнедеятельности и защита окружающей среды.- М.:Юрайт, 201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0" i="1" lang="sr-CS" sz="2400" spc="-1" strike="noStrike">
                <a:solidFill>
                  <a:srgbClr val="000000"/>
                </a:solidFill>
                <a:latin typeface="Times New Roman"/>
              </a:rPr>
              <a:t>Скала В.И., Скала Н.В.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Основы организации охраны и безопасности труда в РК. Алматы:ТО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M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,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устамов Э.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Безопасность жизнедеятельности.- М.: Издательско-торговая корп. ДАШКОВ и К, 200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укин П.П., Лапин В.Л.. Пономарев Н.Л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езопасность жизнедеятельности. Производственная безопасность и охрана труда.-М.:Высш. Шк.-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Система стандартов безопасности труда (ССБТ). ГОСТ 12.0 – 12.4.- М.: Госстандарт, 198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 труд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овокупность факторов производственной среды и трудового процесса, оказывающих влияние на работоспособность и здоровье работ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ственная сред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странство, в котором осуществляется трудовая деятельность чело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чая зон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странство (до 2м) над уровнем пола или площадки, на котором находятся места постоянного или временного пребывания работающ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чее место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асть рабочей зоны; оно представляет собой место постоянного или временного пребывания работающих в процессе трудов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0" y="0"/>
            <a:ext cx="9144000" cy="695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ственные опасные и вредные факторы подразделяются 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машины, механизмы, повышенное напряжение в электро сетях, излучения, вибрации, шум и д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ческ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химические элементы, их соединения, обладающие токсичными, раздражающими, мутагенными, сенсибилизирующими и канцерогенными свойствам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гическ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микро и макроорганизмы -бактерии, вирусы, грибы, растения, животны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физиологическ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изические перегрузки, нервно-психические перегрузки -умственное перенапряжение, монотонность труда, эмоциональные перегрузки и др.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ы  условий тру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тимальн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храняется здоровье работающих, высокий уровень работоспособ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устимые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ни факторов среды не превышают гигиенических норм, возможные изменения функционального состояния организма восстанавливаются к началу новой сме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дные 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ни вредных техногенных факторов превышают гигиенические нормы, неблагоприятное действие на организм работника (и/или его потомст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асн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ся угроза для жизни, высокий риск развития тяжелых профзаболева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Т 12.1.007-76 «ССБТ. Вредные вещества. Классификация и общие требования безопасности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класс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резвычайн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асные,  ПДК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РЗ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0,1 мг/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класс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асные вещества, ПДК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РЗ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,1-1,0 мг/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 класс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ренн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асные вещества, ПДК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РЗ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0-10 мг/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 клас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оопасн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щества, ПДК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РЗ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10 мг/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-25560" y="-360"/>
            <a:ext cx="14738400" cy="2212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ирование вредных веществ в воздух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чей зоны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фактические концентрации вредных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ДК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РЗ 1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ДК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РЗ 2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ДК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РЗ 3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 нормативные зна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-25560" y="0"/>
            <a:ext cx="1473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Объект 6"/>
              <p:cNvSpPr txBox="1"/>
              <p:nvPr/>
            </p:nvSpPr>
            <p:spPr>
              <a:xfrm>
                <a:off x="1332000" y="2060640"/>
                <a:ext cx="6200640" cy="11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С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ПДК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РЗ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С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ПДК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РЗ</m:t>
                            </m:r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С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ПДК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РЗn</m:t>
                            </m:r>
                          </m:sub>
                        </m:sSub>
                      </m:den>
                    </m:f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4920" y="1033560"/>
          <a:ext cx="9109080" cy="5891040"/>
        </p:xfrm>
        <a:graphic>
          <a:graphicData uri="http://schemas.openxmlformats.org/drawingml/2006/table">
            <a:tbl>
              <a:tblPr/>
              <a:tblGrid>
                <a:gridCol w="781200"/>
                <a:gridCol w="4897440"/>
                <a:gridCol w="1738080"/>
                <a:gridCol w="1692360"/>
              </a:tblGrid>
              <a:tr h="726840"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ще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К, мг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 опас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з</a:t>
                      </a: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ы, пары, аэрозо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зотная кисло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миа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цето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нз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рная кисло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хлорэт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Й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ерос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сил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ышьяковистый водород (арсин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кель и оксиды ник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о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Прямоугольник 1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ельно допустимые концентрации вредных веществ в воздухе рабочей зоны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8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5T16:32:43Z</dcterms:created>
  <dc:creator>Admin</dc:creator>
  <dc:description/>
  <dc:language>en-US</dc:language>
  <cp:lastModifiedBy>Аселя</cp:lastModifiedBy>
  <dcterms:modified xsi:type="dcterms:W3CDTF">2024-05-30T09:08:29Z</dcterms:modified>
  <cp:revision>104</cp:revision>
  <dc:subject/>
  <dc:title>Е.А.Бґкетов атындаєы ЌарМУ</dc:title>
</cp:coreProperties>
</file>