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DF1-12C1-43CF-95FC-4E118F5F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0E7-CD22-4689-BCE2-E51F389C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FEA-19F4-471F-A2B3-D9CFF241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F38-80F8-4BAC-BF6C-835124CB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0583-A785-4E25-85B0-3AA3325A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A97C-2AE9-4905-B2E3-B71A3AF7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C883-9853-4B20-AA6A-F1AA9157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D8DD-7880-46AB-907B-01BF6483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1F71-3A00-40DD-8823-A90AE73D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74EE-0C71-4A35-B555-E6F4484D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6E08-E6C9-4B8D-9555-D62E9E9C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627-B33D-4C87-AD24-B89E7424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9B5E-55C3-4588-A736-A5DBDFD8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69B3-0F2E-4109-9AF8-7FC616DF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D8EB-EB76-444E-8322-9BE453B0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A29D-7F14-4CB3-95A5-F634FA0A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3C20-318F-4D59-B042-7D375977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04AC1-C5C9-401B-8EF6-D1019ECB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67C05-C199-41F2-964F-4791E720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F0A38-FB3C-4E08-8699-C2BC6F39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42AA9-9A48-4490-B31C-7048DAD5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2671-75D6-4C0C-A6A1-42A6F9E5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716-5C5A-4404-8A4F-2533F9F3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27D8-F675-420C-A967-57DF4133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63FDF-7CCD-4FC1-A7FC-EDD092D7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10CD1-6F7D-4F0E-9F99-E04B3C5C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BB2B-56DF-4727-A484-E5E759CC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092D4-A533-4C9E-A145-1E6E3BD6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7210-98C9-4893-994D-EC5108FC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266AD-B233-4681-8935-ECB9A87D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7F26B-63FA-41B7-BE60-7D053ED5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16894-6DAC-4A1C-85E5-58F649FF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AF07F-6C0F-4CA9-8A24-E923E073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50D-F4C7-4F0E-A716-055421F2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4FF4F-34FD-4C1B-9809-AB052984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F5D7B-0360-4BDA-ACEB-03755268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6866-E27C-4FB3-B2EE-ADEA43BF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DB8CD-BD30-40B9-8515-29AC6B57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320B7-EE25-4F73-A737-30F5FE57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A5198-C2E7-4F6E-ADB3-DCD89AD4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77595-35BB-40BE-B854-B9808E73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4F8BB-E0E5-410D-8F8C-44B75184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0B78C-BB15-439C-B624-25C4DC92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520-2539-4545-B576-A5485296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AB4-A822-469D-96CE-02D18AB3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C383-37A2-4A25-9834-D1E848A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E10-72FF-453A-B5F1-253088CE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03F-5D6E-4049-9B07-EBF9FCB2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7FC9-DD69-422B-866B-3CA26F1C81AF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6A85-ABAB-450D-AD88-AC4B333D1347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A4DA-3F8F-41AA-9709-5E140FEECC2C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3E01-6D9E-4324-ADAE-4463B21A3819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инистерство науки и высшего образования Республики Казахста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агандинский университет имени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адемика Е.А.Букетов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БЕЗОПАСНОСТЬ ТЕХНИКИ И ТЕХНОЛОГИЙ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ма 2.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Правовые и организационные основ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разовательная программа: «6В11201 – Безопасность жизнедеятельности и защита окружающей среды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вторы: Смагулов Ж.К., профессор кафедры  радиофизики и электроник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k-KZ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ұсабекова Ә.Қ. м.т.н., старший преподаватель кафедры радиофизики и электроник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 занятий: лекц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аганда 20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0" y="0"/>
            <a:ext cx="91440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беспечения безопас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ранственное (или временное)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де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чей зоны (гомосферы) и пространства, в котором постоянно или периодически возникают опасности (ноксосфер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мализация ноксосферы путем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ключ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асностей, используя комплекс средств защ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системы приемов и средств, направленных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адаптацию челов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соответствующей среде и повышению его защищенности (обучение, использование средств индивидуальной защиты, профессиональный отбор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2833560" y="973080"/>
            <a:ext cx="3497400" cy="3071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2"/>
          <a:stretch/>
        </p:blipFill>
        <p:spPr>
          <a:xfrm>
            <a:off x="47520" y="768240"/>
            <a:ext cx="2714760" cy="3335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3"/>
          <a:stretch/>
        </p:blipFill>
        <p:spPr>
          <a:xfrm>
            <a:off x="6516720" y="608040"/>
            <a:ext cx="2533680" cy="34542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10"/>
          <p:cNvSpPr/>
          <p:nvPr/>
        </p:nvSpPr>
        <p:spPr>
          <a:xfrm>
            <a:off x="131760" y="4573440"/>
            <a:ext cx="888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а)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б)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Рис.1 Средства коллективной защ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3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900000" y="5845320"/>
            <a:ext cx="69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Рис.2  Средства индивидуальной защ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Группа 7"/>
          <p:cNvGrpSpPr/>
          <p:nvPr/>
        </p:nvGrpSpPr>
        <p:grpSpPr>
          <a:xfrm>
            <a:off x="1928880" y="642960"/>
            <a:ext cx="5143320" cy="4714920"/>
            <a:chOff x="1928880" y="642960"/>
            <a:chExt cx="5143320" cy="4714920"/>
          </a:xfrm>
        </p:grpSpPr>
        <p:pic>
          <p:nvPicPr>
            <p:cNvPr id="235" name="Picture 5" descr="01"/>
            <p:cNvPicPr/>
            <p:nvPr/>
          </p:nvPicPr>
          <p:blipFill>
            <a:blip r:embed="rId1"/>
            <a:stretch/>
          </p:blipFill>
          <p:spPr>
            <a:xfrm>
              <a:off x="1928880" y="642960"/>
              <a:ext cx="514332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Овал 6"/>
            <p:cNvSpPr/>
            <p:nvPr/>
          </p:nvSpPr>
          <p:spPr>
            <a:xfrm>
              <a:off x="3854520" y="2624400"/>
              <a:ext cx="1643040" cy="15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5"/>
            <p:cNvSpPr/>
            <p:nvPr/>
          </p:nvSpPr>
          <p:spPr>
            <a:xfrm>
              <a:off x="3929040" y="304884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И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611280" y="3267000"/>
            <a:ext cx="8064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"/>
          <p:cNvSpPr/>
          <p:nvPr/>
        </p:nvSpPr>
        <p:spPr>
          <a:xfrm>
            <a:off x="0" y="1197000"/>
            <a:ext cx="9036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 эффективного и безопасного труда- это соответствие производственных условий рабочих мест всем требованиям государственных стандартов в области охраны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, виновные в нарушении трудового законодательства РК, несут ответственность в соответствии с законами 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28080"/>
            <a:ext cx="9144000" cy="68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трольные вопрос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определяет нормативная документация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чем заключается принцип  слабого звен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называется ноксосферой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стовое зада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новополагающим законодательным актом РК в области охраны труда являетс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) Трудовой кодекс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) Гражданский кодекс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) Закон о труд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ССБ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) Конституц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826920" y="1136160"/>
            <a:ext cx="7632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авовые основы охраны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, методы и средства обеспечения безопасност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нституция Республики Казахстан от 30.08.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рудовой кодекс Республики Казахстан от 15.05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 С.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 и защита окружающей среды.- М.:Юрайт,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Скала В.И., Скала Н.В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сновы организации охраны и безопасности труда в Республике Казахстан. Алматы:ТО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M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устамов Э.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.- М.: Издательско-торговая корп. ДАШКОВ и К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кин П.П., Лапин В.Л.. Пономарев Н.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опасность жизнедеятельности. Производственная безопасность и охрана труда: Учебное пособие для студентов спец. учеб. заведений.-М.:Высш. Шк.-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истема стандартов безопасности труда (ССБТ). ГОСТ 12.0 – 12.4.- М.: Госстандарт, 19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тья 24 часть 2 Конституции РК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ждый имеет право на условия труда, отвечающие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ребованиям безопасности и гигиены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вознаграждение за труд без какой-либо дискримин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96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4. Принципы трудового законодательства РеспубликиКазахстан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1810800"/>
            <a:ext cx="9136080" cy="6094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едопустимость ограничения прав человека и гражданина в сфере труда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2) Свобода труд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3) Запрещение дискриминации, принудительного труда и наихудших форм детского труда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4) Обеспечение права на условия труда, отвечающие требованиям 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зопас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 и гигиены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5) Приоритет жизни и здоровья работника по отношению к результатам производственной деятельности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6) Обеспечение права на справедливое вознаграждение за труд не ниже минимального размера заработной платы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7) Обеспечение права на отдых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8) Равенство прав и возможностей работников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9) Обеспечение права работников и работодателей на объединение для защиты своих прав и интерес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10) Социальное партнерство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11) Государственное регулирование вопросов 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зопас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 и охраны труда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) Обеспечение права представителей работников осуществлять общественный контроль за соблюдением трудового законодательства Республики Казахстан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520" y="-11556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1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сударственная политика в области безопасности и охраны труд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аботка и принятие нормативных правовых актов Р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аботка государственных, отраслевых и региональных програм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ние и реализацию систем экономического стимулирования  по разработке и улучшению условий,  внедрению безопасной техники и технологий, производству средств охраны труд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уществление мониторинга в области безопасности труд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дение научных исследований по проблемам безопасности  и охране труд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тановление единого порядка учета несчастных случаев на производстве и профессиональных заболеван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сударственный надзор и контроль за соблюдением требований законодательства РК в области безопасности и охраны труд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уществление общественного контроля за соблюдением прав и законных интересов работников в области безопасности и охраны труд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щиту законных интересов работников, пострадавших от несчастных случаев на производстве и профзаболеваний, а также членов их сем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тановление условий оплаты труда за тяжелую работу и работу с вредными (особо вредными) и опасными условиями труд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пространение передового отечественного и зарубежного опыта работы по улучшению условий и охраны труд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у и повышение квалификации специалистов по безопасности и охране труд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рганизацию государственной статистической отчетности о производственном травматизме и профзаболеваемост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функционирования единой информационной систем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ждународное сотрудничество в области безопасности  труд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ис.1 Структура законодательной и нормативной документации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[6]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Picture 2" descr="охр"/>
          <p:cNvPicPr/>
          <p:nvPr/>
        </p:nvPicPr>
        <p:blipFill>
          <a:blip r:embed="rId1"/>
          <a:stretch/>
        </p:blipFill>
        <p:spPr>
          <a:xfrm>
            <a:off x="826920" y="0"/>
            <a:ext cx="74901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0" y="0"/>
            <a:ext cx="91440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правовые акты по охране тру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ССБТ   - Государственные стандарты системы стандартов безопасност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 ССБТ   - Отраслевые стандарты системы стандартов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              - Санитарные пр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             -  Санитарные н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              -  Гигиенические норма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ПиН    -  Санитарные правила и н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П         -  Строительные нормы и пр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Б               - Правила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Э         -  Правила устройства и безопасной эксплуа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Б            -    Инструкции по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 М     -   Правила по охране труда межотрасл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 О      -   Правила по охране труда отрасл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И           -  Типовые отраслевые инструкции по охран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6:32:43Z</dcterms:created>
  <dc:creator>Admin</dc:creator>
  <dc:description/>
  <dc:language>en-US</dc:language>
  <cp:lastModifiedBy>Аселя</cp:lastModifiedBy>
  <dcterms:modified xsi:type="dcterms:W3CDTF">2024-05-30T09:07:46Z</dcterms:modified>
  <cp:revision>97</cp:revision>
  <dc:subject/>
  <dc:title>Е.А.Бґкетов атындаєы ЌарМУ</dc:title>
</cp:coreProperties>
</file>