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4770-F97F-4DE5-B93C-D33D72678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D1F-22CA-4C82-BF3C-7CD637C09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DACF-287B-4491-A67E-BE8C06578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80C-3C08-410A-A2BE-92064067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9D8-4814-4382-BFAB-48F1ACE9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D01-F972-46B8-9576-849B7F8B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1B6-5D13-404D-BCAC-F2201FB3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E18B-391B-46C5-B03D-78839C51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B4D-0AA4-407A-BFB0-9FD2586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073-1449-4812-9512-432D2F83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F6EC-E469-4C4E-B373-1A23E7DB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B471-FC14-4F4A-9E4A-8E0AC1B4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3CAF-844D-4E85-82AE-B0C6619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B1C-8C21-4644-B9AC-1C9BE89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F67-6208-41A5-B4F7-539897A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E769-43F3-4B2D-81E5-CF5C00D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E5FC-C053-4082-9ABA-7341CD2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D15B-6037-4052-B08E-E69398E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4B3-0789-4262-8787-354BCCC5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8872-FF0B-49AC-A49A-1CA6A9B6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7029-23D3-4A3E-AE81-5C0DCFBD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4C58-5A85-4625-8417-9F1D93D4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C3AF-64E9-4530-B9CE-18D38286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3944-7B02-4B30-B668-BEE722F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B9D8-0827-4A7E-A909-2478A8B5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F55-D05E-4B2F-93F4-F2F47B96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1976-692B-46C2-A7CD-5E1BB67C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408C-6035-4892-9D60-058C64B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D636-C2B8-4381-BED4-A288D51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AA01-849A-4E48-8BC4-E58C123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009A-E423-4207-B041-823E316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ACA4-6DC0-4D19-9A9B-F2430EB8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3707-FA44-4FA7-8C61-AC3B74D9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DC86-3DBB-416F-B179-ACACD562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64A9-2F0A-4BD0-970B-14497F8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BCAD-9995-4D30-BC71-876994C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B2B-6B5C-4216-B47F-48B9575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1908-FB78-4A32-AAA5-152A608E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E50E-C691-4EC3-8164-7C0F09B2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CAE2-1D2F-41FA-A1C4-E252231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88C5-FA07-4FA3-B544-B386B23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1135-9154-4BB3-BC15-35EF6AF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7C63-B51D-4A3F-AA8E-C96CC90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9F1C-E7D2-4E06-A89A-F43CF44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80CF-D0E1-4E97-BD2A-4ED0278F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DBA2-886E-426A-9A0B-37C34AD5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477-4F00-4232-A455-B6B7D5E5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784-631B-42A0-A019-136BA057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286-48D7-4206-9CD2-C449AEF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7D5-6CC1-4784-B9D5-523C530E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0EC-E520-484C-BC13-0DC73E5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DEB-4DE6-4CB6-AE44-6718E8453500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F5E-E919-4977-AD5E-815D2C356D4E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C95-ED68-48D0-B062-057A5E667A1A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9F74-B5F4-412F-9174-EA5018EBDB72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7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жаро и взрывоопасност</a:t>
            </a:r>
            <a:r>
              <a:rPr b="1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ь производственных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омещений</a:t>
            </a: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я расчета количества поступивших веществ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ария происходит одного из аппара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содержимое аппарата поступает в помещ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новременная утечка из всех трубопрово­дов аппарата до  их отклю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ощадь испарения разлившейся жид­кости: 1л растворов (70%)- 0,5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0" lang="kk-KZ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;  остальные – 1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0" lang="kk-KZ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и испарения- открытые емкости, свежеокрашенные поверх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ительность испарения- до полного испарения, не более 3600 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ободный  объем помещения- условно 80% геометрического объема пом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ассификация </a:t>
            </a:r>
            <a:r>
              <a:rPr b="1" i="1" lang="ru-RU" sz="18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пожароопасных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4479840" y="32288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332000"/>
          <a:ext cx="9036000" cy="3990960"/>
        </p:xfrm>
        <a:graphic>
          <a:graphicData uri="http://schemas.openxmlformats.org/drawingml/2006/table">
            <a:tbl>
              <a:tblPr/>
              <a:tblGrid>
                <a:gridCol w="1927080"/>
                <a:gridCol w="71089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пожа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ой з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, расположенные в помещениях, в ко­торых обращаются горючие жидкости с температурой вспышки выше 61 º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, расположенные в помещениях, в ко­торых выделяются горючие пыли или во­локна с НПВ более 65 г/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объему воз­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, расположенные в помещениях, в ко­торых обращаются твердые горючие вещес­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, расположенные вне помещения, в которых обращаются горючие жидкости с температурой вспышки выше 61 ºС или твердые горюч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30240"/>
            <a:ext cx="9144000" cy="68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Размер пожароопасной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н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 единичном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жароопасном оборудовани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жароопасная зона помещения -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м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горизонтали 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тикали от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г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44280" y="-25920"/>
            <a:ext cx="9036000" cy="67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м взрывоопасной газовоздушной смес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м паров, поступивших в помещ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ижний концетрационный предел воспламе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коэффициент, учитывающий степень участия паров ЛВЖ,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Ж в образовании взрыво паровоздушной смеси (равен 3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08000" y="-1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Объект 7"/>
              <p:cNvSpPr txBox="1"/>
              <p:nvPr/>
            </p:nvSpPr>
            <p:spPr>
              <a:xfrm>
                <a:off x="2455920" y="544680"/>
                <a:ext cx="423216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З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  <m:sup>
                            <m:r>
                              <m:t xml:space="preserve">П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ққ</m:t>
                        </m:r>
                      </m:num>
                      <m:den>
                        <m:sSubSup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  <m:sup>
                            <m:r>
                              <m:t xml:space="preserve">О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11"/>
          <p:cNvSpPr/>
          <p:nvPr/>
        </p:nvSpPr>
        <p:spPr>
          <a:xfrm>
            <a:off x="-100080" y="49320"/>
            <a:ext cx="893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12"/>
              <p:cNvSpPr txBox="1"/>
              <p:nvPr/>
            </p:nvSpPr>
            <p:spPr>
              <a:xfrm>
                <a:off x="369720" y="2897280"/>
                <a:ext cx="530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Ж</m:t>
                        </m:r>
                      </m:sub>
                      <m:sup>
                        <m:r>
                          <m:t xml:space="preserve">П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Объект 14"/>
              <p:cNvSpPr txBox="1"/>
              <p:nvPr/>
            </p:nvSpPr>
            <p:spPr>
              <a:xfrm>
                <a:off x="-973080" y="54936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Ж</m:t>
                        </m:r>
                      </m:sub>
                      <m:sup>
                        <m:r>
                          <m:t xml:space="preserve">П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Объект 16"/>
          <p:cNvGraphicFramePr/>
          <p:nvPr/>
        </p:nvGraphicFramePr>
        <p:xfrm>
          <a:off x="369720" y="3933720"/>
          <a:ext cx="53028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933720"/>
                    <a:ext cx="5302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меры </a:t>
            </a:r>
            <a:r>
              <a:rPr b="1" i="1" lang="ru-RU" sz="18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взрывоопасных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зон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"Правила устройств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ктроустановок« -ПУЭ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м взрывоопасной смес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вышает 5% свободного объема помещения, то взрывоопасной зоной считается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объем всего пом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он равен или меньше 5%, то взрывоопасной счита­етс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н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помещен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еделах </a:t>
            </a:r>
            <a:r>
              <a:rPr b="1" i="1" lang="ru-RU" sz="24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до 5м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горизонтали и вертикал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технологического аппарата, из которого возможно выделение горючих газов или ЛВЖ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льной объем помещения в этом случае -  невзрывоопасен, если нет других факторов, создающих в нем взрывоопас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ассы </a:t>
            </a:r>
            <a:r>
              <a:rPr b="0" i="1" lang="ru-RU" sz="1800" spc="-1" strike="noStrike">
                <a:solidFill>
                  <a:srgbClr val="638797"/>
                </a:solidFill>
                <a:latin typeface="Times New Roman"/>
                <a:ea typeface="Times New Roman"/>
              </a:rPr>
              <a:t>взрывоопасных зо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4920" y="549360"/>
          <a:ext cx="9109080" cy="6391080"/>
        </p:xfrm>
        <a:graphic>
          <a:graphicData uri="http://schemas.openxmlformats.org/drawingml/2006/table">
            <a:tbl>
              <a:tblPr/>
              <a:tblGrid>
                <a:gridCol w="1584360"/>
                <a:gridCol w="7524720"/>
              </a:tblGrid>
              <a:tr h="82332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взрывоопасной з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, в ко­торых выделяются ГГ или пары ЛВЖ  в таком количестве и  свойствами, что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образовыва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оопасные смеси при нормальных режимах работы (загрузке, разгрузке аппаратов, хранении или переливании ЛВЖ, находящихся в открытых емкостях и т.п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в помещениях, в ко­торых при нормальной эксплуатации взрывоопасные смеси ГГ или паров ЛВЖ с воздухо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разу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 возможны только в результате аварий или неисправ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в помещениях, в ко­торых обращаются твердые горючие вещес­тва при нормальной эксплуатации взрывоопасные смеси ГГ или паров ЛВЖ с воздухом не образуются, а возможны только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зультате ав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о у наружных установок: технологических установок, содержащих ГГ или ЛВЖ, надземных и подземных резервуаров с ЛВЖ или ГГ, эстакад для слива и налива ЛВЖ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в помещения, в которых выделяются переходящие во взвешенное состояние горючие пыли или волокна в таком количестве и с такими свойствами, что он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образовыва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духом взрывоопасные смеси при нормальных режимах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в помещения, в которых опасные состояния, указанные для В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имеют места при нормальной эксплуатации оборудования, а возможны только в результате аварий или неисправ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тивопожарные мероприят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хнические (соблюдение противопожарных норм при установке, строительстве, организации, монтаже оборудовани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ксплутационые (правильная организация  и соблюдение технологического процесс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онные (обучение персонала противопожарным правилам, издание плакатов, инструкций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жимные (регламентирует ограничение, запрещение открытого огня, газо-сварочных работ и т.д.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"/>
          <p:cNvSpPr/>
          <p:nvPr/>
        </p:nvSpPr>
        <p:spPr>
          <a:xfrm>
            <a:off x="0" y="333360"/>
            <a:ext cx="903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взрыво-пожароопасности производственных помещений производить на основе  СН и П 2.09.02 -85, СНБ 2.02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ю взрыво-пожароопасных зон производить из расчета  объема газовоздушной 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акторы возникновения пожа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какие классы делятся легковоспламеняющиеся жидкост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тегории взрыво-пожароопасности  помещ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мер взрывоопасной зоны по вертикали и горизонтали от технологического оборудования в предел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 До 5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Свыше 3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Менее 7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До 10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Свыше 4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900000" y="613080"/>
            <a:ext cx="7632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пожароопас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ка пожарной и взрывопожарной опасности производственных по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ссификация взрыво- и пожароопасных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жарные мероприятия в зданиях и на территории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0"/>
            <a:ext cx="91440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3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3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возникновения процесса горения необходимо одновремен­ное присутствие трех факторов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рючего вещест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кислител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а зажиг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рючие вещества могут находиться в трех агрегатных состояния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газообразном, жидком и тверд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­честве окислителя наиболее часто выступает кислород воздух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ом зажигания являе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энергетический импульс (искра, открытое пламя, нагретая поверхность и т. д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3168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ы про­цесса горения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пышка воспламене­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згор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воспламен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возгорание взры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уппы горючести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горючи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ещества, которые неспособны к горению на воздух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дногорючи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ые могут возгораться и гореть при наличии источника зажигания, но не способны к го­рению при его удален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ючи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ые возгораются от источ­ника зажигания и продолжают гореть при его удален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3168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­казатели пожаро опасност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горюче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спышки (ЛВЖ и ГЖ)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сп­ламенени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самовоспламен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онные пределы воспламен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е пределы воспламенения и т. д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х веществ и материал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горюче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спламе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самовоспламе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лон­ность к самовозгоранию и д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яды легковоспламеняющихся  жидкостей (ЛВЖ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773360"/>
          <a:ext cx="9144000" cy="3743280"/>
        </p:xfrm>
        <a:graphic>
          <a:graphicData uri="http://schemas.openxmlformats.org/drawingml/2006/table">
            <a:tbl>
              <a:tblPr/>
              <a:tblGrid>
                <a:gridCol w="2840040"/>
                <a:gridCol w="2940120"/>
                <a:gridCol w="3363840"/>
              </a:tblGrid>
              <a:tr h="93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д ЛВ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спышки (в закрытом тигле),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спыш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открытом тигле), 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 ≤ 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 ≤ 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при повышенной темпера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≤ 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≤ t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тегории   помещени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Н и П 2.09.02 -85, СНБ 2.02.03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-7920" y="1484280"/>
          <a:ext cx="9151920" cy="4314960"/>
        </p:xfrm>
        <a:graphic>
          <a:graphicData uri="http://schemas.openxmlformats.org/drawingml/2006/table">
            <a:tbl>
              <a:tblPr/>
              <a:tblGrid>
                <a:gridCol w="2052720"/>
                <a:gridCol w="7099200"/>
              </a:tblGrid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по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веществ и материалов, находящихся (обращающихся) в поме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оопасн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tabLst>
                          <a:tab algn="l" pos="0"/>
                          <a:tab algn="l" pos="4944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ючие газы, ЛВЖ с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i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28 ºС в таком количестве, что могут образовывать взрывоопа­сные парогазовоздушные смеси, при воспламенении которых в помещении развивается расчетное избыточно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зрыва, превышающее 5 кП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2000"/>
                        </a:lnSpc>
                        <a:tabLst>
                          <a:tab algn="l" pos="0"/>
                          <a:tab algn="l" pos="4944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а и материалы, способные взрываться и гореть при взаимодействии с водой, кислородом воздуха или друг с другом в таком количестве, при котором расчетное избыточно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зрыва в помещении превышает 5 к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ючие пыли или волокна, ЛВЖ с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i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 28 ºС в таком количестве, что могут образовывать взрывоопасные пыле- и паровоздушные сме­си, при воспламенении кото-рых в помещении развивается расчетное избыточно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зрыва, превышающее 5 к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тегории   помещений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Н и П 2.09.02 -85, СНБ 2.02.03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981000"/>
          <a:ext cx="9144000" cy="5570640"/>
        </p:xfrm>
        <a:graphic>
          <a:graphicData uri="http://schemas.openxmlformats.org/drawingml/2006/table">
            <a:tbl>
              <a:tblPr/>
              <a:tblGrid>
                <a:gridCol w="2365200"/>
                <a:gridCol w="6778800"/>
              </a:tblGrid>
              <a:tr h="7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по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веществ и материалов, находящихся (обращающихся) в поме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4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о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ючие и трудногорючие жидкости, твердые горючие и трудногорючие вещества и материалы, (в том числе пыли и волокна),вещества и материалы, способные при взаимодействии с водой, кислородом воздуха или друг с другом только гореть при условии, что помещения, в которых они имеются в наличии или обращаются, не отно­сятся к категориям А или 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орючие вещества и материалы в горячем, раскаленном или расплав-ленном состоянии, про­цесс обработка которых сопровождается выделе- нием лучистого тепла, искр и пламени: горючие газы, жидкости и твердые вещества, которые сжи­гаются или утилизируются в качестве топли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орючие вещества и материалы в холодном состоя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9:08Z</dcterms:modified>
  <cp:revision>165</cp:revision>
  <dc:subject/>
  <dc:title>Е.А.Бґкетов атындаєы ЌарМУ</dc:title>
</cp:coreProperties>
</file>