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C1E0-5221-440E-AFD8-9DCD94715E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2126-B22A-401E-AF00-8E2294EEC6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3ACC-20D3-4C43-9094-3FBAD816A6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C75-E06A-478B-A1CA-7422FF74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81A-4089-44F6-9180-5E3ACF46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02D-458A-4E10-98DC-7762C375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AAEE-6828-4B70-82D8-3EEE7311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B5BE-F759-4AC6-9514-40FFD0A4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8D08-0A56-4A6D-B4DE-C4E6FB19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F3E0-8418-4D38-B7D4-A949679E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7599-CA8E-46FE-B13B-3EB985DE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083A-D4F2-4A19-BB5E-0D9EA937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32C8-B7AE-4E47-AE25-3166878B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AFA0-C042-4699-AE0B-7DB2C539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E5B-20C3-4214-BD9D-2C0619A1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FB55-2863-4143-91E8-4B646636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C003-9B24-4D09-9E25-C5DFBE51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6217-21FF-49A4-A270-A4842235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245E-2514-48D4-B142-B683E9DF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D1BF-C021-40A2-9B4C-8C74C23E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E7B27-0D54-46E0-9AA2-6EF65361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9B7E-DFEE-4FC2-8CEC-EA5339D9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87F72-0374-4E19-84C1-D7134543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B961-B9DF-430B-B9D0-877601F2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1D44B-26C6-4659-B823-4722E7E1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C93-7D4B-48CE-BC69-16C9BE8A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F8157-D3AB-49FA-B590-3F482ABE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22DA-A566-479A-8DBD-08EEABB5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DAC4E-EF85-4C8E-8391-AB76A32E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E3272-1101-419C-84F1-6322EBBB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613DC-EA83-4CA1-9D38-AD4EFCFE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49553-9F9E-4F22-8839-CA996F51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B5A6-53B1-4A62-A960-35879BCB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8549-F1B5-491E-B44E-DF1C942E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21064-57F6-493C-A2BE-A4685C2F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83025-AF4E-4974-BF33-D0EB5FD1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7E77-A09F-45A3-9772-DE22CCA1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69C13-66F7-41B7-B075-100DDCFD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369B9-07E6-4F84-A96B-3F61F9AB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DC987-4B76-47B4-AE71-51065EB4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ACBA9-E63F-4C26-B650-E4389867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6F017-8920-40C0-B622-A2E12069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3CFBE-28A1-4333-96B0-3A152C97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838BB-B93A-435E-A014-35710E8F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F4356-8C3D-4365-BF12-0844E792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8A23C-B9C5-4ECC-8BA4-5EDCFBBC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E3A-3D94-459B-A129-E238CBAB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EF9-2635-4F60-A299-D0DDA4E3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262-DD31-46C6-980A-63B5EC9C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A27-9A5C-41A9-ABB3-B40CA4F8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C4E-F15B-4291-9834-012FCCED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7F09-00D4-4033-91FE-ED81D643A759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F733-9825-4836-BB10-3290FCB778FE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7190-EF7D-424D-9BDA-AB337EA21612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3AA3-876E-4257-B80E-215B002C6001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инистерство науки и высшего образования Республики Казахста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агандинский университет имени академика Е.А.Букетов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БЕЗОПАСНОСТЬ ТЕХНИКИ И ТЕХНОЛОГИЙ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ма 9. 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Защита от электромагнитных поле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вторы: Смагулов Ж.К., профессор кафедры  радиофизики и электроник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k-KZ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ұсабекова Ә.Қ. м.т.н., старший преподаватель кафедры радиофизики и электроник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 занятий: лекц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аганда 2024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230040" y="15480"/>
            <a:ext cx="80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 электромагнитного из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5"/>
          <p:cNvPicPr/>
          <p:nvPr/>
        </p:nvPicPr>
        <p:blipFill>
          <a:blip r:embed="rId1"/>
          <a:stretch/>
        </p:blipFill>
        <p:spPr>
          <a:xfrm>
            <a:off x="-71280" y="698400"/>
            <a:ext cx="9144000" cy="3699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7"/>
          <p:cNvSpPr/>
          <p:nvPr/>
        </p:nvSpPr>
        <p:spPr>
          <a:xfrm>
            <a:off x="5667840" y="15951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525600" y="4553640"/>
            <a:ext cx="79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         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1  Размещение РЛС в районе жилой застрой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3834000" y="26856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kk-K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1093680" y="595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Объект 4"/>
              <p:cNvSpPr txBox="1"/>
              <p:nvPr/>
            </p:nvSpPr>
            <p:spPr>
              <a:xfrm>
                <a:off x="573120" y="5950080"/>
                <a:ext cx="30607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Н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Объект 6"/>
              <p:cNvSpPr txBox="1"/>
              <p:nvPr/>
            </p:nvSpPr>
            <p:spPr>
              <a:xfrm>
                <a:off x="5208480" y="5975280"/>
                <a:ext cx="30448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6"/>
          <p:cNvPicPr/>
          <p:nvPr/>
        </p:nvPicPr>
        <p:blipFill>
          <a:blip r:embed="rId1"/>
          <a:stretch/>
        </p:blipFill>
        <p:spPr>
          <a:xfrm>
            <a:off x="0" y="9360"/>
            <a:ext cx="9144000" cy="55612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6"/>
          <p:cNvSpPr/>
          <p:nvPr/>
        </p:nvSpPr>
        <p:spPr>
          <a:xfrm>
            <a:off x="358920" y="590400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с. 2   Вертикальная диаграмма излучения антенн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 до объекта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евышение мест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-252360" y="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258840" y="127080"/>
            <a:ext cx="84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Толщина экр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5"/>
          <p:cNvGraphicFramePr/>
          <p:nvPr/>
        </p:nvGraphicFramePr>
        <p:xfrm>
          <a:off x="706320" y="1041480"/>
          <a:ext cx="600732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041480"/>
                    <a:ext cx="600732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9"/>
          <p:cNvSpPr/>
          <p:nvPr/>
        </p:nvSpPr>
        <p:spPr>
          <a:xfrm>
            <a:off x="0" y="295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8"/>
          <p:cNvGraphicFramePr/>
          <p:nvPr/>
        </p:nvGraphicFramePr>
        <p:xfrm>
          <a:off x="3151080" y="3141720"/>
          <a:ext cx="3996000" cy="12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1080" y="3141720"/>
                    <a:ext cx="399600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10"/>
          <p:cNvSpPr/>
          <p:nvPr/>
        </p:nvSpPr>
        <p:spPr>
          <a:xfrm>
            <a:off x="1800" y="3569760"/>
            <a:ext cx="2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14"/>
          <p:cNvGraphicFramePr/>
          <p:nvPr/>
        </p:nvGraphicFramePr>
        <p:xfrm>
          <a:off x="169920" y="5557680"/>
          <a:ext cx="338040" cy="3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920" y="5557680"/>
                    <a:ext cx="338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13"/>
          <p:cNvGraphicFramePr/>
          <p:nvPr/>
        </p:nvGraphicFramePr>
        <p:xfrm>
          <a:off x="147600" y="6265800"/>
          <a:ext cx="360360" cy="33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1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00" y="6265800"/>
                    <a:ext cx="3603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Rectangle 15"/>
          <p:cNvSpPr/>
          <p:nvPr/>
        </p:nvSpPr>
        <p:spPr>
          <a:xfrm>
            <a:off x="147600" y="5135040"/>
            <a:ext cx="89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проникновения поля в экран, мм</a:t>
            </a:r>
            <a:r>
              <a:rPr b="0" lang="kk-K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222120" y="5503680"/>
            <a:ext cx="692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ная проницаемость материала, Гн/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та, 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462960" y="6187680"/>
            <a:ext cx="62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ая проводимость материала,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324000" y="3240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29880"/>
            <a:ext cx="913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Характеристики радиопоглощающи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0" y="763560"/>
          <a:ext cx="9134640" cy="5978520"/>
        </p:xfrm>
        <a:graphic>
          <a:graphicData uri="http://schemas.openxmlformats.org/drawingml/2006/table">
            <a:tbl>
              <a:tblPr/>
              <a:tblGrid>
                <a:gridCol w="2795760"/>
                <a:gridCol w="2238120"/>
                <a:gridCol w="2237040"/>
                <a:gridCol w="1863720"/>
              </a:tblGrid>
              <a:tr h="1079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пазон,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отражения по мощности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олит графит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ТСООЗМ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иновые коври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Ф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Ф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Ф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4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итодиэлектрические  пласт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; Х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; Х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; Х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лощающий матери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611280" y="3267000"/>
            <a:ext cx="8064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"/>
          <p:cNvSpPr/>
          <p:nvPr/>
        </p:nvSpPr>
        <p:spPr>
          <a:xfrm>
            <a:off x="0" y="1197000"/>
            <a:ext cx="90360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оре защиты персонала или населения от электромагнитных излучений необходимо учитывать особенности производства, условия эксплуатации оборудования, рабочий диапазон частот, характер выполняемых работ, интенсивность поля, продолжительность облучен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и электромагнитного облучения не должны превышать  санитарных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0" y="28080"/>
            <a:ext cx="9144000" cy="68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трольные вопрос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рмируемые параметры электромагнитного излучения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ие физические явления используются при экранировании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женерно-технические методы защи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стовое зада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олщина металлического экрана должна быть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)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&gt; 5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)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&lt;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5 с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)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&gt;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0 м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5 м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)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&lt;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0 м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826920" y="1226880"/>
            <a:ext cx="76327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STXinwei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лияние электромагнитного излучения н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ическая оценка и нормирование ЭМ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етоды и средства защиты от электромагнитных излу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нституция Республики Казахстан от 30.08.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рудовой кодекс Республики Казахстан от 15.05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он РК от 21.07.2007 «О безопасности машин и оборудов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кон РК от 21.07.2007 «О безопасности химической продукц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 С.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 и защита окружающей среды.- М.:Юрайт,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Скала В.И., Скала Н.В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сновы организации охраны и безопасности труда в Республике Казахстан. Алматы:ТО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M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кин П.П., Лапин В.Л.. Пономарев Н.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опасность жизнедеятельности. Производственная безопасность и охрана труда: Учебное пособие для студентов спец. учеб. заведений.-М.:Высш. Шк.-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истема стандартов безопасности труда (ССБТ). ГОСТ 12.0 – 12.4.- М.: Госстандарт, 19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500040" y="5256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ическая оценка и нормирование ЭМ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395280" y="33210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1268280"/>
          <a:ext cx="9144000" cy="5516640"/>
        </p:xfrm>
        <a:graphic>
          <a:graphicData uri="http://schemas.openxmlformats.org/drawingml/2006/table">
            <a:tbl>
              <a:tblPr/>
              <a:tblGrid>
                <a:gridCol w="2268360"/>
                <a:gridCol w="3527640"/>
                <a:gridCol w="3348000"/>
              </a:tblGrid>
              <a:tr h="88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от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четные формул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значения</a:t>
                      </a: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кГц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00 МГ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ток проводника (антенне)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лина антенны ,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МГц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00 ГГ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kk-K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0" i="1" lang="kk-KZ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изл</a:t>
                      </a:r>
                      <a:r>
                        <a:rPr b="0" i="1" lang="kk-K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</a:t>
                      </a: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щность излуч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тояние до излучател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коэффициент усиления антен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kk-K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</a:t>
                      </a:r>
                      <a:r>
                        <a:rPr b="0" i="1" lang="kk-KZ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фактор земли, зависит от передатчика и характеристик тр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5" name="Object 31"/>
              <p:cNvSpPr txBox="1"/>
              <p:nvPr/>
            </p:nvSpPr>
            <p:spPr>
              <a:xfrm>
                <a:off x="3691080" y="3106800"/>
                <a:ext cx="1800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6" name="Rectangle 36"/>
          <p:cNvSpPr/>
          <p:nvPr/>
        </p:nvSpPr>
        <p:spPr>
          <a:xfrm flipV="1">
            <a:off x="3924360" y="3284640"/>
            <a:ext cx="122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0"/>
              <p:cNvSpPr txBox="1"/>
              <p:nvPr/>
            </p:nvSpPr>
            <p:spPr>
              <a:xfrm>
                <a:off x="6649920" y="36082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4"/>
              <p:cNvSpPr txBox="1"/>
              <p:nvPr/>
            </p:nvSpPr>
            <p:spPr>
              <a:xfrm>
                <a:off x="3924360" y="3209760"/>
                <a:ext cx="576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46"/>
              <p:cNvSpPr txBox="1"/>
              <p:nvPr/>
            </p:nvSpPr>
            <p:spPr>
              <a:xfrm>
                <a:off x="2682720" y="2374920"/>
                <a:ext cx="1800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ε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5"/>
              <p:cNvSpPr txBox="1"/>
              <p:nvPr/>
            </p:nvSpPr>
            <p:spPr>
              <a:xfrm>
                <a:off x="2666880" y="3505320"/>
                <a:ext cx="1727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47"/>
          <p:cNvSpPr/>
          <p:nvPr/>
        </p:nvSpPr>
        <p:spPr>
          <a:xfrm>
            <a:off x="0" y="259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4662000" y="2524680"/>
            <a:ext cx="58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9"/>
          <p:cNvSpPr/>
          <p:nvPr/>
        </p:nvSpPr>
        <p:spPr>
          <a:xfrm>
            <a:off x="4519440" y="373428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2"/>
              <p:cNvSpPr txBox="1"/>
              <p:nvPr/>
            </p:nvSpPr>
            <p:spPr>
              <a:xfrm>
                <a:off x="2612880" y="4764240"/>
                <a:ext cx="19400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ЭАТ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изл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Ф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1"/>
              <p:cNvSpPr txBox="1"/>
              <p:nvPr/>
            </p:nvSpPr>
            <p:spPr>
              <a:xfrm>
                <a:off x="2649600" y="5824440"/>
                <a:ext cx="19414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ЭАТ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изл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Ф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Rectangle 53"/>
          <p:cNvSpPr/>
          <p:nvPr/>
        </p:nvSpPr>
        <p:spPr>
          <a:xfrm>
            <a:off x="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4"/>
          <p:cNvSpPr/>
          <p:nvPr/>
        </p:nvSpPr>
        <p:spPr>
          <a:xfrm>
            <a:off x="4862880" y="60314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4816440" y="48823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78"/>
              <p:cNvSpPr txBox="1"/>
              <p:nvPr/>
            </p:nvSpPr>
            <p:spPr>
              <a:xfrm>
                <a:off x="4500720" y="7532640"/>
                <a:ext cx="1963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41" name="Object 80"/>
          <p:cNvGraphicFramePr/>
          <p:nvPr/>
        </p:nvGraphicFramePr>
        <p:xfrm>
          <a:off x="5853240" y="3243240"/>
          <a:ext cx="250560" cy="2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3240" y="3243240"/>
                    <a:ext cx="25056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79"/>
          <p:cNvGraphicFramePr/>
          <p:nvPr/>
        </p:nvGraphicFramePr>
        <p:xfrm>
          <a:off x="5834160" y="4016520"/>
          <a:ext cx="287280" cy="26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7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4160" y="4016520"/>
                    <a:ext cx="287280" cy="26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81"/>
          <p:cNvSpPr/>
          <p:nvPr/>
        </p:nvSpPr>
        <p:spPr>
          <a:xfrm flipV="1">
            <a:off x="971640" y="2852640"/>
            <a:ext cx="698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2"/>
          <p:cNvSpPr/>
          <p:nvPr/>
        </p:nvSpPr>
        <p:spPr>
          <a:xfrm>
            <a:off x="6227640" y="3144960"/>
            <a:ext cx="29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электрическая проницаемость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Ф/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3"/>
          <p:cNvSpPr/>
          <p:nvPr/>
        </p:nvSpPr>
        <p:spPr>
          <a:xfrm>
            <a:off x="5965920" y="391788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вая частота поля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/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ельно допустимые уровни (ПДУ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00Гц ÷ 30 кГц :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Е= 1000 В/м (для условий шахт – 500 В/м), Н= 25 А/м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0 кГц – 300 МГц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чет для персонал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-время воздействия, ч;           и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-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ДУ энергетической нагрузки  в течение рабочего дня (табл.2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41"/>
              <p:cNvSpPr txBox="1"/>
              <p:nvPr/>
            </p:nvSpPr>
            <p:spPr>
              <a:xfrm>
                <a:off x="1020600" y="3068640"/>
                <a:ext cx="21607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Д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ЭН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Е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ПД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r>
                              <m:t xml:space="preserve">Т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46"/>
              <p:cNvSpPr txBox="1"/>
              <p:nvPr/>
            </p:nvSpPr>
            <p:spPr>
              <a:xfrm>
                <a:off x="4883040" y="3068640"/>
                <a:ext cx="22449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ЭН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Н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ПД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r>
                              <m:t xml:space="preserve">Т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3"/>
              <p:cNvSpPr txBox="1"/>
              <p:nvPr/>
            </p:nvSpPr>
            <p:spPr>
              <a:xfrm>
                <a:off x="3203640" y="4390920"/>
                <a:ext cx="7826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ЭН</m:t>
                        </m:r>
                      </m:e>
                      <m:sub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Д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38"/>
              <p:cNvSpPr txBox="1"/>
              <p:nvPr/>
            </p:nvSpPr>
            <p:spPr>
              <a:xfrm>
                <a:off x="4356000" y="4413240"/>
                <a:ext cx="792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ЭН</m:t>
                        </m:r>
                      </m:e>
                      <m:sub>
                        <m:sSub>
                          <m:e>
                            <m:r>
                              <m:t xml:space="preserve">Н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Д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250920" y="3258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ьно допустимые значения энергетической нагру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657440" y="2505240"/>
            <a:ext cx="171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1657440" y="2505240"/>
            <a:ext cx="171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15880" y="1852560"/>
          <a:ext cx="8153280" cy="2584440"/>
        </p:xfrm>
        <a:graphic>
          <a:graphicData uri="http://schemas.openxmlformats.org/drawingml/2006/table">
            <a:tbl>
              <a:tblPr/>
              <a:tblGrid>
                <a:gridCol w="2498760"/>
                <a:gridCol w="1886040"/>
                <a:gridCol w="1884240"/>
                <a:gridCol w="1884240"/>
              </a:tblGrid>
              <a:tr h="519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пазон частот, М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÷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÷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÷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(В/м)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(А/м)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7" name="Object 33"/>
              <p:cNvSpPr txBox="1"/>
              <p:nvPr/>
            </p:nvSpPr>
            <p:spPr>
              <a:xfrm>
                <a:off x="696960" y="2781360"/>
                <a:ext cx="7826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ЭН</m:t>
                        </m:r>
                      </m:e>
                      <m:sub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Д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38"/>
              <p:cNvSpPr txBox="1"/>
              <p:nvPr/>
            </p:nvSpPr>
            <p:spPr>
              <a:xfrm>
                <a:off x="684360" y="3645000"/>
                <a:ext cx="792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ЭН</m:t>
                        </m:r>
                      </m:e>
                      <m:sub>
                        <m:sSub>
                          <m:e>
                            <m:r>
                              <m:t xml:space="preserve">Н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Д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114480" y="83880"/>
            <a:ext cx="8921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 ÷  3,0 МГц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400" spc="-1" strike="noStrike">
                <a:solidFill>
                  <a:srgbClr val="c00000"/>
                </a:solidFill>
                <a:latin typeface="Times New Roman"/>
              </a:rPr>
              <a:t>условие одновременного воздействия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электрического и магнитного пол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300 МГц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300 ГГц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при                  = 2В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час/м</a:t>
            </a:r>
            <a:r>
              <a:rPr b="0" lang="kk-K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( или 2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мк В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час/см</a:t>
            </a:r>
            <a:r>
              <a:rPr b="0" lang="kk-K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) определя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- время воз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- коэффициент ослабления биологической активности (К=10 – для вращающихся и сканирующих антенн; К=1- для остальных случаев)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302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4453200" y="34938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2565360"/>
            <a:ext cx="442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4453200" y="34462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3"/>
              <p:cNvSpPr txBox="1"/>
              <p:nvPr/>
            </p:nvSpPr>
            <p:spPr>
              <a:xfrm>
                <a:off x="2916360" y="1251000"/>
                <a:ext cx="36669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ЭН</m:t>
                            </m:r>
                          </m:e>
                          <m:sub>
                            <m:r>
                              <m:t xml:space="preserve">Е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ЭН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ПД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ЭН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ЭН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Н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ПД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Rectangle 16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8"/>
              <p:cNvSpPr txBox="1"/>
              <p:nvPr/>
            </p:nvSpPr>
            <p:spPr>
              <a:xfrm>
                <a:off x="4017960" y="2832120"/>
                <a:ext cx="1349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ЭН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ППЭ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Д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21"/>
              <p:cNvSpPr txBox="1"/>
              <p:nvPr/>
            </p:nvSpPr>
            <p:spPr>
              <a:xfrm>
                <a:off x="0" y="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0"/>
              <p:cNvSpPr txBox="1"/>
              <p:nvPr/>
            </p:nvSpPr>
            <p:spPr>
              <a:xfrm>
                <a:off x="3300480" y="3894120"/>
                <a:ext cx="320364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ППЭ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К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ЭН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ППЭ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ПД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0" y="2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468360" y="278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ДУ  электромагнитного поля для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0" y="1989000"/>
          <a:ext cx="9144000" cy="4373640"/>
        </p:xfrm>
        <a:graphic>
          <a:graphicData uri="http://schemas.openxmlformats.org/drawingml/2006/table">
            <a:tbl>
              <a:tblPr/>
              <a:tblGrid>
                <a:gridCol w="1812960"/>
                <a:gridCol w="2757600"/>
                <a:gridCol w="2286000"/>
                <a:gridCol w="228744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позоны</a:t>
                      </a: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пазо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вол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</a:t>
                      </a: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00 кГ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В/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 </a:t>
                      </a: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МГ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1 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В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0 МГ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В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00 МГ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В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000 МГ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1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кВ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0 ГГ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кВ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0" y="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ДУ электромагнитных полей  для радиолокационных стан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Таблица 2" descr=""/>
          <p:cNvPicPr/>
          <p:nvPr/>
        </p:nvPicPr>
        <p:blipFill>
          <a:blip r:embed="rId1"/>
          <a:stretch/>
        </p:blipFill>
        <p:spPr>
          <a:xfrm>
            <a:off x="-19080" y="493560"/>
            <a:ext cx="918216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6:32:43Z</dcterms:created>
  <dc:creator>Admin</dc:creator>
  <dc:description/>
  <dc:language>en-US</dc:language>
  <cp:lastModifiedBy>Аселя</cp:lastModifiedBy>
  <dcterms:modified xsi:type="dcterms:W3CDTF">2024-05-30T09:10:42Z</dcterms:modified>
  <cp:revision>110</cp:revision>
  <dc:subject/>
  <dc:title>Е.А.Бґкетов атындаєы ЌарМУ</dc:title>
</cp:coreProperties>
</file>