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344-5EF8-4B89-9D95-E56AF57C6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8C7-CB23-48E8-8F6F-4AE5CC3759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k-K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659-0903-49BD-BB60-E888273D07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k-K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1CE-2946-43FB-9041-0064DEA060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k-K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75D-828E-4F77-8FE1-B80033C6A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A4A-A475-4A00-A033-E9110917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298-6DA4-45E5-8640-6FDB61A6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C1D-FFA4-4572-B3BB-8B0B515F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146-E80B-4AD4-BFAC-2CDD426D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B564-51B1-4024-AF3B-6B0D796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4F4-7A50-49F9-9179-0B5D5B6A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6FF-9BA0-4CD4-A067-CA3627F5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A8A5-2951-4085-8BD3-AE11656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634E-F856-42A5-8D90-E990411B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CE20-765C-4DF6-98D1-EF066DE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B98-189A-4DBC-B794-C9418EB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0B4-D66B-44F0-A92A-EA30DD0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31A3-F60C-4985-8C6F-3020D5E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C8F-219B-4459-B98E-39338D7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7BD-519E-4E80-9D2A-8476E7B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295-D5D6-449A-8BA0-CCDC4152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49FC-FB8C-42A9-8AAB-4712D2C7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2668-F63A-43BB-83AE-15C0EC4A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89A2-8C85-4B20-8533-396DD5D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9074-B52C-4154-9AC6-EACC17A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F626-4C6D-4D0A-A024-7918395B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590C-E473-4A03-B65B-6C45ED9F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5E2-B0EF-46DA-AD4E-FDFC5F6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784E-E3C4-4C56-B107-1454CE54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9948-BBED-4844-8A93-DCCA9B2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765F-90C2-400E-A5FE-1016E5F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C1EA-0102-4343-AA8E-C69E02E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327E-0397-4E6B-B4E8-E1C6AB0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858F-4103-4B22-BEE4-11961E65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4104-F9DF-469E-B310-B07DC098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1A55-F42F-4B60-9077-B1EFAB2C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802B-7381-4BF3-B94E-5106C0F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9453-2E1D-413A-898E-CD6A22E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F54-7251-4483-927A-DD39B10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863F-5642-410B-ACEC-A193C30E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3517-ACE3-4446-8D0D-F159C65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ABA39-84AB-4E89-8CEE-AB7E068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EDD5-475F-4190-9489-091680BB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8627-04BD-4E38-83E6-FD215CD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9BDF-C918-46B7-A405-97EE0A16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105F-7440-4CFF-BFF1-A4937E8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A394-813C-4121-A40E-8B4F92B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D6B3-2697-43ED-8F9A-14E36E34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B2E-8C3E-43A9-A588-5FF883F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19C-9D11-4E95-803B-EA483E93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E20-EE9B-4FF7-B2EF-78BC20E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1BF-987D-433D-8C6C-5C98476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F25-6812-4BDF-8322-1F8B525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C662-96DB-4B8F-8412-3142D4A1E8B1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57BE-A325-4CDB-AEBE-0A7EDD89000B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F13C-2355-48A5-8C4B-FA4046CB0B50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FF1D-D00A-4CC1-96B4-637F633B65F6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8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ктробезопасность на производст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40" y="53640"/>
            <a:ext cx="8694720" cy="182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а устройства электроустановок (ПУЭ)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установках напряжением до 1000В (при мощности генератора или трансформато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100 кВ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значение наибольшего допустимого защитного сопротивления –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мощности генератора или трансформатора более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 кВ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чение наибольшего допустимого защитного сопротивления–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-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-31680" y="399960"/>
            <a:ext cx="869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ка состояния заземляющих устройств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ктроустаново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мерение сопротивления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земляющего устройст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ввода через 1 год , далее- по план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плановые измерения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их переустройства, капитального ремонта, осадки грун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борочное вскрытие грунт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смотра элементов заземляющего устройства при измерении сопротивления заземл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ка наличия цеп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 объектами и заземлителями– при каждом ремонте или перестановке оборуд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ка надежности соединения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тественных заземлителей после каждого их ремон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иодический осмотр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емной части заземляющего устрой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-100080"/>
            <a:ext cx="9144000" cy="72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иальная схема зану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.3. 1 – корпус; 2 – аппараты защиты от токов короткого замыкания;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- сопротивление заземления нейтрали источника тока;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опротивление нулевого защитного проводника;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- ток короткого замыкания; 1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часть тока короткого замыкания через нулевой провод; 1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з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часть тока короткого замыкания через землю; 0 (н. з.) – нулевой защитный проводник</a:t>
            </a:r>
            <a:r>
              <a:rPr b="0" i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[8]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374920" y="333360"/>
            <a:ext cx="4394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-360"/>
            <a:ext cx="914400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чет сопротивления растеканию тока одиночного заземлител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дельное сопротивление грунта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диаметр  стержня (круга, трубы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-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ина стерж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убина заложения верхнего конца стержн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1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Объект 6"/>
              <p:cNvSpPr txBox="1"/>
              <p:nvPr/>
            </p:nvSpPr>
            <p:spPr>
              <a:xfrm>
                <a:off x="235080" y="1601640"/>
                <a:ext cx="86295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т</m:t>
                            </m:r>
                          </m:e>
                          <m:sub>
                            <m:r>
                              <m:t xml:space="preserve">ө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6"/>
          <p:cNvSpPr/>
          <p:nvPr/>
        </p:nvSpPr>
        <p:spPr>
          <a:xfrm>
            <a:off x="2577960" y="0"/>
            <a:ext cx="644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-163440" y="-1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Объект 22"/>
              <p:cNvSpPr txBox="1"/>
              <p:nvPr/>
            </p:nvSpPr>
            <p:spPr>
              <a:xfrm>
                <a:off x="235080" y="4660920"/>
                <a:ext cx="3920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27"/>
          <p:cNvSpPr/>
          <p:nvPr/>
        </p:nvSpPr>
        <p:spPr>
          <a:xfrm>
            <a:off x="1068480" y="765000"/>
            <a:ext cx="614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271520" y="1916280"/>
            <a:ext cx="6207120" cy="3168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684360" y="58734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Рис.4 Схема расположения одиночного стержн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[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Объект 4"/>
              <p:cNvSpPr txBox="1"/>
              <p:nvPr/>
            </p:nvSpPr>
            <p:spPr>
              <a:xfrm>
                <a:off x="3135240" y="476280"/>
                <a:ext cx="20131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108000" y="4485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стержней-заземл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чета работы соединительных поло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9360" y="3286440"/>
            <a:ext cx="925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η</a:t>
            </a:r>
            <a:r>
              <a:rPr b="0" i="1" lang="kk-KZ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с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–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коэффициент использования стержневого зазем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табл.3, предварительно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η</a:t>
            </a:r>
            <a:r>
              <a:rPr b="0" i="1" lang="kk-KZ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с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</a:t>
            </a:r>
            <a:r>
              <a:rPr b="0" i="1" lang="kk-KZ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доп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= 4 Ом (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U&lt;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1000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</a:t>
            </a:r>
            <a:r>
              <a:rPr b="0" i="1" lang="kk-KZ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доп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=10 Ом (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4"/>
              <p:cNvSpPr txBox="1"/>
              <p:nvPr/>
            </p:nvSpPr>
            <p:spPr>
              <a:xfrm>
                <a:off x="4098960" y="4562640"/>
                <a:ext cx="1987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Р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кВА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9"/>
              <p:cNvSpPr txBox="1"/>
              <p:nvPr/>
            </p:nvSpPr>
            <p:spPr>
              <a:xfrm>
                <a:off x="1763640" y="5251320"/>
                <a:ext cx="19875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Р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кВА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Объект 6"/>
              <p:cNvSpPr txBox="1"/>
              <p:nvPr/>
            </p:nvSpPr>
            <p:spPr>
              <a:xfrm>
                <a:off x="3235320" y="1773360"/>
                <a:ext cx="17272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т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до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429120"/>
            <a:ext cx="87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горизонтального полосового заземлителя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048120" y="1873080"/>
                <a:ext cx="3179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7"/>
          <p:cNvSpPr/>
          <p:nvPr/>
        </p:nvSpPr>
        <p:spPr>
          <a:xfrm>
            <a:off x="179280" y="204660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о конту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048120" y="3951360"/>
                <a:ext cx="2933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8"/>
          <p:cNvSpPr/>
          <p:nvPr/>
        </p:nvSpPr>
        <p:spPr>
          <a:xfrm>
            <a:off x="755640" y="53038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 – расстояние между заземлителями,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- количество стер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Коэффициент использования</a:t>
            </a:r>
            <a:r>
              <a:rPr b="0" i="1" lang="en-US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 </a:t>
            </a:r>
            <a:r>
              <a:rPr b="0" i="1" lang="el-GR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η</a:t>
            </a:r>
            <a:r>
              <a:rPr b="0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 вертикальных стержней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628640"/>
          <a:ext cx="9144000" cy="4753080"/>
        </p:xfrm>
        <a:graphic>
          <a:graphicData uri="http://schemas.openxmlformats.org/drawingml/2006/table">
            <a:tbl>
              <a:tblPr/>
              <a:tblGrid>
                <a:gridCol w="1976400"/>
                <a:gridCol w="1244520"/>
                <a:gridCol w="1225800"/>
                <a:gridCol w="1222200"/>
                <a:gridCol w="1050840"/>
                <a:gridCol w="324000"/>
                <a:gridCol w="1050840"/>
                <a:gridCol w="1049400"/>
              </a:tblGrid>
              <a:tr h="34812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ж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заложения зазем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ту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расстоя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заземлителями к их длине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/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0" y="1064160"/>
            <a:ext cx="9144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Расчет сопротивления растеканию тока горизонтальног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электрод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полосового заземлител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–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длина горизонтального полосового заземлителя, 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ширина (большая) сечения ,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187280" y="2492280"/>
                <a:ext cx="5977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ρ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в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250920" y="5084640"/>
                <a:ext cx="43164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-23760" y="1404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иближенная форлула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ошибка 25%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ис.5  Горизонтальный полосовой заземлител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[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2316240" y="1031760"/>
                <a:ext cx="42004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4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</m:t>
                            </m:r>
                          </m:sub>
                        </m:sSub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5"/>
          <p:cNvPicPr/>
          <p:nvPr/>
        </p:nvPicPr>
        <p:blipFill>
          <a:blip r:embed="rId1"/>
          <a:stretch/>
        </p:blipFill>
        <p:spPr>
          <a:xfrm>
            <a:off x="971640" y="3068640"/>
            <a:ext cx="6913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900000" y="274320"/>
            <a:ext cx="7632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электро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щитное зазе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ну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чет защитного зазе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чет зануления на отключающую 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ры безопасности в электроустан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179280" y="333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группового искусственного заземлите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Объект 3"/>
          <p:cNvGraphicFramePr/>
          <p:nvPr/>
        </p:nvGraphicFramePr>
        <p:xfrm>
          <a:off x="611280" y="2276640"/>
          <a:ext cx="728640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72864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-57240" y="326880"/>
            <a:ext cx="9144000" cy="84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зануления на отключающую спосо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ие тока однофазного короткого замы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ие тока срабатывания автоматического от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минальный ток плавкого предохраните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- коэффициент кратности тока ( в зависимости от типа защи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49236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Объект 3"/>
              <p:cNvSpPr txBox="1"/>
              <p:nvPr/>
            </p:nvSpPr>
            <p:spPr>
              <a:xfrm>
                <a:off x="3059280" y="1773360"/>
                <a:ext cx="259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з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358920" y="5095800"/>
                <a:ext cx="215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2" name="Rectangle 6"/>
          <p:cNvSpPr/>
          <p:nvPr/>
        </p:nvSpPr>
        <p:spPr>
          <a:xfrm>
            <a:off x="266760" y="3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Объект 7"/>
              <p:cNvSpPr txBox="1"/>
              <p:nvPr/>
            </p:nvSpPr>
            <p:spPr>
              <a:xfrm>
                <a:off x="79200" y="3747960"/>
                <a:ext cx="4953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4" name="Rectangle 8"/>
          <p:cNvSpPr/>
          <p:nvPr/>
        </p:nvSpPr>
        <p:spPr>
          <a:xfrm>
            <a:off x="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Объект 10"/>
              <p:cNvSpPr txBox="1"/>
              <p:nvPr/>
            </p:nvSpPr>
            <p:spPr>
              <a:xfrm>
                <a:off x="79200" y="4722840"/>
                <a:ext cx="63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108000" y="476280"/>
            <a:ext cx="914400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защиты в электроустановк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12.1.030-81 ССБТ, изм. от 1.07.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ое зазе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у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ое разделение с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лых напря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 профилактика повреждения изо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емкостной составляющей тока замыкания на зем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ая изо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ое отклю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внивание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случайного прикосновения к токоведущим ча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дитель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защитные средства и приспос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ельные знаки, сигнализация, блокир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"/>
          <p:cNvSpPr/>
          <p:nvPr/>
        </p:nvSpPr>
        <p:spPr>
          <a:xfrm>
            <a:off x="0" y="333360"/>
            <a:ext cx="9036000" cy="59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заземляющего устройства растеканию тока должно быть равно или меньше допустимого сопротивления по ГОСТ 12.1.030-81 ССБТ или ПУЭ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до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дотвращения опасного воздействия электрического тока на человека в электроустановках примен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ы защи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ОСТ 12.1.030-81 ССБТ, изм. от 1.07.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60480"/>
            <a:ext cx="9144000" cy="68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чем заключается сущность заземлен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чем заключается принцип занулен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му равна глубина заложения верхнего конца стержня 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каких параметрах в электроустановках значение наибольшего допустимого защитного сопротивления  10 О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=1000B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=1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ВА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&gt;1000B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&lt;10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&gt;1000B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&gt;1000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&lt;1000B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&lt;100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&gt;100B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&gt;10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А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0"/>
            <a:ext cx="9144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нституция Республики Казахстан от 30.08.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 поражения электрическим током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зависит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то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ота ток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ительность прохождения и путь то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электрического сопротивления тела челове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ые свойства организма и д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205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тока, проходящего через тело человек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яжение прикоснов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опротивление тела человека от 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до 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6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расчетная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1000 Ом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4" name="Объект 3"/>
          <p:cNvGraphicFramePr/>
          <p:nvPr/>
        </p:nvGraphicFramePr>
        <p:xfrm>
          <a:off x="3419640" y="907920"/>
          <a:ext cx="180000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907920"/>
                    <a:ext cx="18000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Объект 4"/>
          <p:cNvGraphicFramePr/>
          <p:nvPr/>
        </p:nvGraphicFramePr>
        <p:xfrm>
          <a:off x="112680" y="4076640"/>
          <a:ext cx="719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680" y="4076640"/>
                    <a:ext cx="719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Объект 6"/>
          <p:cNvGraphicFramePr/>
          <p:nvPr/>
        </p:nvGraphicFramePr>
        <p:xfrm>
          <a:off x="252360" y="5157720"/>
          <a:ext cx="5796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5157720"/>
                    <a:ext cx="579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оговые значения то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027080"/>
          <a:ext cx="9144000" cy="5635800"/>
        </p:xfrm>
        <a:graphic>
          <a:graphicData uri="http://schemas.openxmlformats.org/drawingml/2006/table">
            <a:tbl>
              <a:tblPr/>
              <a:tblGrid>
                <a:gridCol w="2050920"/>
                <a:gridCol w="1584360"/>
                <a:gridCol w="1441440"/>
                <a:gridCol w="2087640"/>
                <a:gridCol w="1979640"/>
              </a:tblGrid>
              <a:tr h="38592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то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тока, 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воздейств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Гц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й ток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 Гц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то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120"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ов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тим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… 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… 7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ощущения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е покалывание, тепл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е нагрева, зу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440"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ов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тпускающ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… 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…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ич рук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боли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ено дыха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ое ощущение нагрева, сокращение мышц, судороги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ено дых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ов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брилляцион-н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…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ка дыхания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фибрилляции серд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ка дыхания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фибрилляции серд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ельно допустимые  значен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яжения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основения и ток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700280"/>
          <a:ext cx="8964720" cy="3593880"/>
        </p:xfrm>
        <a:graphic>
          <a:graphicData uri="http://schemas.openxmlformats.org/drawingml/2006/table">
            <a:tbl>
              <a:tblPr/>
              <a:tblGrid>
                <a:gridCol w="1784520"/>
                <a:gridCol w="1184040"/>
                <a:gridCol w="1185840"/>
                <a:gridCol w="1184400"/>
                <a:gridCol w="1173240"/>
                <a:gridCol w="1226880"/>
                <a:gridCol w="1225800"/>
              </a:tblGrid>
              <a:tr h="1008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ируе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ые значения напряжения прикосновения и токов (не более) при продолжительности воздействия ток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280" y="37800"/>
            <a:ext cx="9320040" cy="82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иальная схема защитного зазем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.1 К– корпус электроустановки,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φ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х)- потенциальная крива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з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опротивление заземления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электрическое сопротивление тела человека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[8]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8229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8440" y="-360"/>
            <a:ext cx="911088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рмирующие документ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а устройства электроустановок (ПУЭ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СТ 12.1.030-81 ССБТ. «Электробезопасность. Защитное заземление, зануление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.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хема расположения заземляющего устройства в грунте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[8]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13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9:21Z</dcterms:modified>
  <cp:revision>221</cp:revision>
  <dc:subject/>
  <dc:title>Е.А.Бґкетов атындаєы ЌарМУ</dc:title>
</cp:coreProperties>
</file>