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71FE-421C-47A3-8C0F-53423DEA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0B8-8771-4E02-BCD2-096792F9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C50-D5BF-45A9-9C1E-30A3620B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5F1-222E-4012-ACC5-A37D0367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2AC9-90C0-4605-B243-8BEC000D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0157-C4EA-4EF2-9F5E-C0A2E8E8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13AD-886F-40A1-BB4C-97C3D0D5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4DD9-E0C5-4F4A-94E3-46835028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EEA9-AFFC-468D-B883-494971C9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6234-8CDA-43C6-8B39-0C2EDE6E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B6ED-6496-47D8-B40F-3FAF454C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F5F-92E4-455B-B972-6606400E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C382-7F6A-4918-85F6-CDFC6CCE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7EBC-3664-4E08-BAE1-8C934293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8566-9390-465D-A71E-23535C81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98D7-534D-4D82-9F1F-023A9FA7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037B-F682-42B7-8126-7C0D4FC0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B765B-10CC-4526-97BD-B02DADE0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0B88C-87FC-4951-9E71-013DC327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34E3E-404C-4119-BF06-759D0E4F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F7679-7D9A-4CD9-A7D1-55D64F20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46740-08EF-4094-911B-3A7EC252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F8F-495E-4F45-8FB2-57922569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44C10-B076-480E-A01C-19208898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2345C-0273-44F2-AC94-CCD45780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82AF7-8A28-4B61-9F9F-8520D744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719A6-2B03-4B4A-9AAC-3BAA99F2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51153-BB66-4692-9CB3-5A8FC586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00C8E-8597-4C7C-B60C-E87541B5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56300-77F4-4345-A9A7-81C7ADCB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C028E-840B-4E9C-A4CC-2A5542B0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E1D21-6A81-45AA-85D3-35B44C67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E65AC-86B5-4606-9A21-30F57A02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D6E0-9507-4009-BBBF-32C694F4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45C62-E6DB-442F-8F71-B9238A8D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1C6A5-991C-4246-B60D-7BCFDE31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41192-8327-459B-B189-4521D29C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C7334-642C-4BF1-84F4-5BB19EC0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90DB0-DAC4-44A0-B214-2658C4AA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8ABFC-6BAE-4D4F-99C3-3C2BCFA7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E70BD-C04D-4B54-8A6A-E7E6ECE5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AEEC0-C531-453D-BCED-90C0AEEA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2C796-E2B6-4898-9F2C-13FD5002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C55-6403-4A77-B8A0-EC137A8B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17B-0966-4F5E-9E30-E0C8C0ED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FE0-ABC1-4AEB-B0C4-2BB7D2BB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D7A-BA17-4803-B9D9-7548E5D1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79BA-9979-492A-AF02-0E8B8C30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AC33-F977-48E2-85F8-DF78A369F4D4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E5EA-1952-4C36-9093-9D8CD2BA1174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35FE-5E7A-4D5E-9615-96496BDDBE8B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AA3C-CB97-462C-B4D0-198629935970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инистерство науки и высшего образования Республики Казахстан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рагандинский университет имени академика Е.А.Букетов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БЕЗОПАСНОСТЬ ТЕХНИКИ И ТЕХНОЛОГИЙ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ма 5.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Освещен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вторы: Смагулов Ж.К., профессор кафедры  радиофизики и электроник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k-KZ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ұсабекова Ә.Қ. м.т.н., старший преподаватель кафедры радиофизики и электроник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д занятий: лекц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раганда 202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OC005"/>
          <p:cNvPicPr/>
          <p:nvPr/>
        </p:nvPicPr>
        <p:blipFill>
          <a:blip r:embed="rId1"/>
          <a:stretch/>
        </p:blipFill>
        <p:spPr>
          <a:xfrm>
            <a:off x="539640" y="189000"/>
            <a:ext cx="8136000" cy="5472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3"/>
          <p:cNvSpPr/>
          <p:nvPr/>
        </p:nvSpPr>
        <p:spPr>
          <a:xfrm>
            <a:off x="179280" y="581544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Рис. 1 Основные типы лам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[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626320" cy="33562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3"/>
          <p:cNvSpPr/>
          <p:nvPr/>
        </p:nvSpPr>
        <p:spPr>
          <a:xfrm>
            <a:off x="-57240" y="6944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К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лассификация ламп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[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8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]</a:t>
            </a: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115920"/>
            <a:ext cx="9144000" cy="70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kk-KZ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кала освещенности</a:t>
            </a:r>
            <a:r>
              <a:rPr b="0" lang="kk-KZ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k-KZ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kk-KZ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0; 50; 75; 100; 150; 200; 300; 400; 500; 600; 750; 1000; 1250; </a:t>
            </a:r>
            <a:r>
              <a:rPr b="0" lang="kk-KZ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kk-KZ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000; 2500; 3000; 3500; 4000; 4500; 5000 лк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kk-KZ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эффициента естественной освещенности</a:t>
            </a:r>
            <a:r>
              <a:rPr b="0" lang="kk-KZ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k-KZ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</a:t>
            </a:r>
            <a:r>
              <a:rPr b="0" lang="kk-KZ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вн</a:t>
            </a:r>
            <a:r>
              <a:rPr b="0" lang="kk-KZ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освещенность  какой- либо точки внутри помещ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</a:t>
            </a:r>
            <a:r>
              <a:rPr b="0" lang="kk-KZ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нар</a:t>
            </a:r>
            <a:r>
              <a:rPr b="0" lang="kk-KZ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освещенность  точки вне помещ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-353880" y="333360"/>
            <a:ext cx="949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Объект 4"/>
              <p:cNvSpPr txBox="1"/>
              <p:nvPr/>
            </p:nvSpPr>
            <p:spPr>
              <a:xfrm>
                <a:off x="2771640" y="3201840"/>
                <a:ext cx="324036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КЕО</m:t>
                    </m:r>
                    <m:r>
                      <m:t xml:space="preserve">(</m:t>
                    </m:r>
                    <m:r>
                      <m:t xml:space="preserve">е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н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нар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НБ 2.04.05-98 «Естественное и искусственное освещение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изводственное освещение нормируется  по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очности зрительной рабо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ркости фон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нтраста объекта и фон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истемы освещ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kk-KZ" sz="3200" spc="-1" strike="noStrike">
                <a:solidFill>
                  <a:srgbClr val="5fcbef"/>
                </a:solidFill>
                <a:latin typeface="Times New Roman"/>
                <a:ea typeface="Times New Roman"/>
              </a:rPr>
              <a:t>Нормирование значения КЕО в помещении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64" name="Рисунок 1" descr=""/>
          <p:cNvPicPr/>
          <p:nvPr/>
        </p:nvPicPr>
        <p:blipFill>
          <a:blip r:embed="rId1"/>
          <a:stretch/>
        </p:blipFill>
        <p:spPr>
          <a:xfrm>
            <a:off x="-20520" y="1413000"/>
            <a:ext cx="9144000" cy="396072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3"/>
          <p:cNvSpPr/>
          <p:nvPr/>
        </p:nvSpPr>
        <p:spPr>
          <a:xfrm>
            <a:off x="0" y="5514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)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)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)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.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обы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естественного освещения помещен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[8]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611280" y="3267000"/>
            <a:ext cx="8064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"/>
          <p:cNvSpPr/>
          <p:nvPr/>
        </p:nvSpPr>
        <p:spPr>
          <a:xfrm>
            <a:off x="0" y="333360"/>
            <a:ext cx="90360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щенность производственного помещения влияет на нервно-психическое состояние человека, а также   на выполнение  точности работ по зрительному разря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здании системы  производственного освещения необходимо руководствоваться  СНБ 2.04.05-98 «Естественное и искусственное освещ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0" y="28080"/>
            <a:ext cx="9144000" cy="68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нтрольные вопросы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ды  производственного освещ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 называется контрастностью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новные характеристики ламп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стовое задан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k-KZ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именьший рассматриваемый предмет, который необходимо различить в процессе работы называетс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)Контрастом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) Видимостью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) </a:t>
            </a:r>
            <a:r>
              <a:rPr b="0" lang="kk-KZ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ъектом различия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Яркостью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) Фоно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900000" y="59760"/>
            <a:ext cx="763272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4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и производственного осв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4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4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производственного осв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4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4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кие источники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4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4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ирование и гигиеническая оценка производственного осв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0" y="0"/>
            <a:ext cx="91440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нституция Республики Казахстан от 30.08.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рудовой кодекс Республики Казахстан от 15.05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кон РК от 21.07.2007 «О безопасности машин и оборудова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кон РК от 21.07.2007 «О безопасности химической продукц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в С.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езопасность жизнедеятельности и защита окружающей среды.- М.:Юрайт,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Скала В.И., Скала Н.В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сновы организации охраны и безопасности труда в Республике Казахстан. Алматы:ТО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M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устамов Э.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езопасность жизнедеятельности.- М.: Издательско-торговая корп. ДАШКОВ и К,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укин П.П., Лапин В.Л.. Пономарев Н.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опасность жизнедеятельности. Производственная безопасность и охрана труда: Учебное пособие для студентов спец. учеб. заведений.-М.:Высш. Шк.-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Система стандартов безопасности труда (ССБТ). ГОСТ 12.0 – 12.4.- М.: Госстандарт, 19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0" y="2518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8"/>
              <p:cNvSpPr txBox="1"/>
              <p:nvPr/>
            </p:nvSpPr>
            <p:spPr>
              <a:xfrm>
                <a:off x="3564000" y="1413000"/>
                <a:ext cx="128088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1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Объект 2"/>
              <p:cNvSpPr txBox="1"/>
              <p:nvPr/>
            </p:nvSpPr>
            <p:spPr>
              <a:xfrm>
                <a:off x="4514760" y="4029120"/>
                <a:ext cx="12700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Прямоугольник 3"/>
          <p:cNvSpPr/>
          <p:nvPr/>
        </p:nvSpPr>
        <p:spPr>
          <a:xfrm>
            <a:off x="108000" y="0"/>
            <a:ext cx="8928000" cy="10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и производственного  осве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лесны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дающий световой п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щ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дающий световой п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Объект 5"/>
              <p:cNvSpPr txBox="1"/>
              <p:nvPr/>
            </p:nvSpPr>
            <p:spPr>
              <a:xfrm>
                <a:off x="262080" y="2778120"/>
                <a:ext cx="2775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Rectangle 14"/>
          <p:cNvSpPr/>
          <p:nvPr/>
        </p:nvSpPr>
        <p:spPr>
          <a:xfrm>
            <a:off x="1800" y="-108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1" name="Object 5"/>
              <p:cNvSpPr txBox="1"/>
              <p:nvPr/>
            </p:nvSpPr>
            <p:spPr>
              <a:xfrm>
                <a:off x="4605480" y="614520"/>
                <a:ext cx="1670040" cy="12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тғ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үп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Rectangle 5"/>
          <p:cNvSpPr/>
          <p:nvPr/>
        </p:nvSpPr>
        <p:spPr>
          <a:xfrm>
            <a:off x="1419120" y="1123920"/>
            <a:ext cx="684864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Объект 2"/>
              <p:cNvSpPr txBox="1"/>
              <p:nvPr/>
            </p:nvSpPr>
            <p:spPr>
              <a:xfrm>
                <a:off x="3541680" y="3666960"/>
                <a:ext cx="2254320" cy="12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ф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ф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Rectangle 6"/>
          <p:cNvSpPr/>
          <p:nvPr/>
        </p:nvSpPr>
        <p:spPr>
          <a:xfrm>
            <a:off x="1419120" y="1460880"/>
            <a:ext cx="68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4"/>
          <p:cNvSpPr/>
          <p:nvPr/>
        </p:nvSpPr>
        <p:spPr>
          <a:xfrm>
            <a:off x="0" y="5229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иристики контраста объекта различения с фоном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,2 -малый;    0,2&lt;</a:t>
            </a:r>
            <a:r>
              <a:rPr b="0" i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,5 – средний;   </a:t>
            </a:r>
            <a:r>
              <a:rPr b="0" i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,5 - больш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5"/>
          <p:cNvSpPr/>
          <p:nvPr/>
        </p:nvSpPr>
        <p:spPr>
          <a:xfrm>
            <a:off x="250920" y="55440"/>
            <a:ext cx="518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эффициент отражения</a:t>
            </a: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6"/>
          <p:cNvSpPr/>
          <p:nvPr/>
        </p:nvSpPr>
        <p:spPr>
          <a:xfrm>
            <a:off x="250920" y="3228840"/>
            <a:ext cx="58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ст объекта</a:t>
            </a: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7"/>
          <p:cNvSpPr/>
          <p:nvPr/>
        </p:nvSpPr>
        <p:spPr>
          <a:xfrm>
            <a:off x="216000" y="16686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женный световой п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дающий световой п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95400" y="-66600"/>
            <a:ext cx="245282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ила свет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димость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контраст объекта с фоно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</a:t>
            </a:r>
            <a:r>
              <a:rPr b="0" lang="ru-RU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пор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пороговый контрас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Прямоугольник 1"/>
          <p:cNvSpPr/>
          <p:nvPr/>
        </p:nvSpPr>
        <p:spPr>
          <a:xfrm>
            <a:off x="95400" y="324000"/>
            <a:ext cx="815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остью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/м</a:t>
            </a:r>
            <a:r>
              <a:rPr b="0" lang="kk-K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6297480" y="61920"/>
            <a:ext cx="2827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Объект 4"/>
              <p:cNvSpPr txBox="1"/>
              <p:nvPr/>
            </p:nvSpPr>
            <p:spPr>
              <a:xfrm>
                <a:off x="2852640" y="892080"/>
                <a:ext cx="237672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со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246240" y="2627280"/>
            <a:ext cx="207720" cy="4176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7"/>
          <p:cNvSpPr/>
          <p:nvPr/>
        </p:nvSpPr>
        <p:spPr>
          <a:xfrm>
            <a:off x="395280" y="2550600"/>
            <a:ext cx="58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к нормали светящейся поверх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76320" y="-851040"/>
            <a:ext cx="25271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Объект 8"/>
              <p:cNvSpPr txBox="1"/>
              <p:nvPr/>
            </p:nvSpPr>
            <p:spPr>
              <a:xfrm>
                <a:off x="76320" y="-851040"/>
                <a:ext cx="17636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Rectangle 12"/>
          <p:cNvSpPr/>
          <p:nvPr/>
        </p:nvSpPr>
        <p:spPr>
          <a:xfrm>
            <a:off x="2124000" y="3362400"/>
            <a:ext cx="259812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Объект 10"/>
              <p:cNvSpPr txBox="1"/>
              <p:nvPr/>
            </p:nvSpPr>
            <p:spPr>
              <a:xfrm>
                <a:off x="3446640" y="3568680"/>
                <a:ext cx="175860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0" y="1440"/>
            <a:ext cx="914400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ды производственного освещения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тественное освещение  (боковое, верхнее, комбинированное освещение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бочее освещение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варийное освящение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хранное освещен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журное освещен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вмещенно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ребования по освещению рабочих мест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вещенность должна соответствовать характеру зрительной рабо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ркость света должна быть достаточно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вномерное распределение светового потока по рабочей поверхност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точник света не должен слепить  глаз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вещение должно быть рассеянным и не создавать глубоких тене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личина освещения постоянна во времен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тимальный спектральный соста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се элементы осветительных установок должны быть долговечны, взрыво, пожаро и электробезопасн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0" y="333360"/>
            <a:ext cx="9144000" cy="64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арактеристики люминесцентных  лам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4913640" y="4658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0" y="1628640"/>
          <a:ext cx="9144000" cy="3600720"/>
        </p:xfrm>
        <a:graphic>
          <a:graphicData uri="http://schemas.openxmlformats.org/drawingml/2006/table">
            <a:tbl>
              <a:tblPr/>
              <a:tblGrid>
                <a:gridCol w="1258920"/>
                <a:gridCol w="1285920"/>
                <a:gridCol w="1252440"/>
                <a:gridCol w="1254240"/>
                <a:gridCol w="1382760"/>
                <a:gridCol w="1382400"/>
                <a:gridCol w="1327320"/>
              </a:tblGrid>
              <a:tr h="11404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м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овой поток  (лм) для данной мощности  (В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Д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Х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6:32:43Z</dcterms:created>
  <dc:creator>Admin</dc:creator>
  <dc:description/>
  <dc:language>en-US</dc:language>
  <cp:lastModifiedBy>Аселя</cp:lastModifiedBy>
  <dcterms:modified xsi:type="dcterms:W3CDTF">2024-05-30T09:08:40Z</dcterms:modified>
  <cp:revision>193</cp:revision>
  <dc:subject/>
  <dc:title>Е.А.Бґкетов атындаєы ЌарМУ</dc:title>
</cp:coreProperties>
</file>