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A0E3-BE15-4EF0-9202-F4ED5F788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458A-85BB-4A9B-859C-5A84D3C6C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2543-AE1E-4EAE-A47D-C1D6FCDF1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FA4-D1AC-42A3-BBC6-9EEFB0F5F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60C0-E6FF-4F1B-8778-7F4443EAC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143-3B0B-48FC-9B5D-E42C2526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F3D-4275-40F4-A174-BA33462B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EFD-0C27-4D3D-8AAA-FC598CBF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E26-82E3-436D-B7D8-CADE9EF1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9A5A-1CD0-44CE-8642-CB284775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FC8A-5E7F-42B6-B382-1FB9B8C9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7E2-48DA-4174-8365-2E2B3013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DDB4-6C91-419C-93A5-D11AE80F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9627-7698-47A1-9FE7-776117F4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F9B7-1F02-4415-BAF9-793A368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3A8B-989B-44C9-95B1-87BD2515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29F-247A-4D58-B9D3-AB8FC92E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79EF-72CB-4F19-BB0A-3B6DA94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2148-C18F-4986-81EB-B8B0576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74B8-E0EE-4EFF-84C9-2DB5F5CF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C1CD-EE79-4570-93FD-33E6F2E8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9F5-D38D-403A-88DE-609328AE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2D88-E256-4E0B-8E48-E6549628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7C19-9B91-45FD-AC04-3B108163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B8C9-C5C7-495A-AEEF-1F42F0D1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819C-C918-4220-8426-EDE3DAC2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3B33-B6DE-41ED-8546-5AA82CDF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035-DEA9-402C-9E56-A22B59BD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706BD-F94E-488B-B9E9-71C9F9C1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D421-C246-4FF7-8ECB-B4196E9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D7F2-378C-42C1-B433-C42E7DE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46D1-BC6D-4970-A0BE-798E8B5A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4D8C-6801-425D-845A-46FA31F8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D2B1-5C73-4F59-90DC-2F76F6C8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7D1E-5DC9-4C92-871B-08B92F1C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68A3-5AA8-4A8A-9B1B-3F6B6490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0EE8-5634-499E-9627-6A88106C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A3A6-FFBF-4C66-87CF-F2B3F04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A6F-8190-48D6-87CF-64F94C7F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94AB-5559-44B3-A33D-9A94C2B6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41A59-9D43-4CCE-83B4-1638BF5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ED91-536C-4857-8A5A-F864002C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FAF7-621A-4D49-9399-F69C17A6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A212-B176-491D-84A8-5BE9BA4B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F1A1-609C-475F-9CA4-3398161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E14F-0FBC-4185-9240-1097254C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658B-3209-4D38-8DFB-084F2C26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7AAD-4DBA-48E8-80A7-32563E77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0E7-343E-435D-B4BD-408E50C2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131-8445-4B2B-A6D3-A8DC6762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7E4-840A-44E3-A327-4784EBF7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50A-FFBF-4E81-A97D-047D7188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7F8-85C0-417D-8DA0-BEBF234F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5BEB-0BBE-4E2F-A536-CB3F92EDE01A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6AC0-DC2D-4C97-8945-F1416828B8F3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1ECE-F342-4910-8C1F-7E29529B291C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466-2B52-4676-8643-D35E6657C265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истерство науки и высшего образования Республики Казахста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инский университет имени академика Е.А.Букетов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БЕЗОПАСНОСТЬ ТЕХНИКИ И ТЕХНОЛОГИЙ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6.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Акустическое загрязнение производственной сред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ы: Смагулов Ж.К., профессор кафедры 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ұсабекова Ә.Қ. м.т.н., старший преподаватель кафедры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а 202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0" y="4320"/>
            <a:ext cx="901080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ые УЗД  на рабочих местах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40" y="620640"/>
          <a:ext cx="9104400" cy="6264360"/>
        </p:xfrm>
        <a:graphic>
          <a:graphicData uri="http://schemas.openxmlformats.org/drawingml/2006/table">
            <a:tbl>
              <a:tblPr/>
              <a:tblGrid>
                <a:gridCol w="3114720"/>
                <a:gridCol w="430200"/>
                <a:gridCol w="576360"/>
                <a:gridCol w="573120"/>
                <a:gridCol w="646200"/>
                <a:gridCol w="644400"/>
                <a:gridCol w="646200"/>
                <a:gridCol w="714240"/>
                <a:gridCol w="646200"/>
                <a:gridCol w="1112760"/>
              </a:tblGrid>
              <a:tr h="11523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358920"/>
                          <a:tab algn="l" pos="538200"/>
                          <a:tab algn="l" pos="717480"/>
                          <a:tab algn="l" pos="896760"/>
                          <a:tab algn="l" pos="1076400"/>
                          <a:tab algn="l" pos="1255680"/>
                          <a:tab algn="l" pos="1434960"/>
                          <a:tab algn="l" pos="1614600"/>
                          <a:tab algn="l" pos="1793880"/>
                          <a:tab algn="l" pos="1973160"/>
                          <a:tab algn="l" pos="2152800"/>
                          <a:tab algn="l" pos="2332080"/>
                          <a:tab algn="l" pos="2511360"/>
                          <a:tab algn="l" pos="2690640"/>
                          <a:tab algn="l" pos="2870280"/>
                          <a:tab algn="l" pos="3049560"/>
                          <a:tab algn="l" pos="3228840"/>
                          <a:tab algn="l" pos="3408480"/>
                          <a:tab algn="l" pos="35877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мест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358920"/>
                          <a:tab algn="l" pos="538200"/>
                          <a:tab algn="l" pos="717480"/>
                          <a:tab algn="l" pos="896760"/>
                          <a:tab algn="l" pos="1076400"/>
                          <a:tab algn="l" pos="1255680"/>
                          <a:tab algn="l" pos="1434960"/>
                          <a:tab algn="l" pos="1614600"/>
                          <a:tab algn="l" pos="1793880"/>
                          <a:tab algn="l" pos="1973160"/>
                          <a:tab algn="l" pos="2152800"/>
                          <a:tab algn="l" pos="2332080"/>
                          <a:tab algn="l" pos="2511360"/>
                          <a:tab algn="l" pos="2690640"/>
                          <a:tab algn="l" pos="2870280"/>
                          <a:tab algn="l" pos="3049560"/>
                          <a:tab algn="l" pos="3228840"/>
                          <a:tab algn="l" pos="3408480"/>
                          <a:tab algn="l" pos="35877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е по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358920"/>
                          <a:tab algn="l" pos="538200"/>
                          <a:tab algn="l" pos="717480"/>
                          <a:tab algn="l" pos="896760"/>
                          <a:tab algn="l" pos="1076400"/>
                          <a:tab algn="l" pos="1255680"/>
                          <a:tab algn="l" pos="1434960"/>
                          <a:tab algn="l" pos="1614600"/>
                          <a:tab algn="l" pos="1793880"/>
                          <a:tab algn="l" pos="1973160"/>
                          <a:tab algn="l" pos="2152800"/>
                          <a:tab algn="l" pos="2332080"/>
                          <a:tab algn="l" pos="2511360"/>
                          <a:tab algn="l" pos="2690640"/>
                          <a:tab algn="l" pos="2870280"/>
                          <a:tab algn="l" pos="3049560"/>
                          <a:tab algn="l" pos="3228840"/>
                          <a:tab algn="l" pos="3408480"/>
                          <a:tab algn="l" pos="35877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Д, дБ, в октавных полосах со среднегеометрическими частотами, 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358920"/>
                          <a:tab algn="l" pos="538200"/>
                          <a:tab algn="l" pos="717480"/>
                          <a:tab algn="l" pos="896760"/>
                          <a:tab algn="l" pos="1076400"/>
                          <a:tab algn="l" pos="1255680"/>
                          <a:tab algn="l" pos="1434960"/>
                          <a:tab algn="l" pos="1614600"/>
                          <a:tab algn="l" pos="1793880"/>
                          <a:tab algn="l" pos="1973160"/>
                          <a:tab algn="l" pos="2152800"/>
                          <a:tab algn="l" pos="2332080"/>
                          <a:tab algn="l" pos="2511360"/>
                          <a:tab algn="l" pos="2690640"/>
                          <a:tab algn="l" pos="2870280"/>
                          <a:tab algn="l" pos="3049560"/>
                          <a:tab algn="l" pos="3228840"/>
                          <a:tab algn="l" pos="3408480"/>
                          <a:tab algn="l" pos="35877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вивал уровни звук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358920"/>
                          <a:tab algn="l" pos="538200"/>
                          <a:tab algn="l" pos="717480"/>
                          <a:tab algn="l" pos="896760"/>
                          <a:tab algn="l" pos="1076400"/>
                          <a:tab algn="l" pos="1255680"/>
                          <a:tab algn="l" pos="1434960"/>
                          <a:tab algn="l" pos="1614600"/>
                          <a:tab algn="l" pos="1793880"/>
                          <a:tab algn="l" pos="1973160"/>
                          <a:tab algn="l" pos="2152800"/>
                          <a:tab algn="l" pos="2332080"/>
                          <a:tab algn="l" pos="2511360"/>
                          <a:tab algn="l" pos="2690640"/>
                          <a:tab algn="l" pos="2870280"/>
                          <a:tab algn="l" pos="3049560"/>
                          <a:tab algn="l" pos="3228840"/>
                          <a:tab algn="l" pos="3408480"/>
                          <a:tab algn="l" pos="35877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мещения теоретически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мещения управления, рабочие комн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абины наблюдения и дистанционного управления без речевой связи по телеф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мещения экспериментальных работ; шумных агрегатов, ма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мещения и участки точной сбор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остоянные рабочие места в помещениях и на территории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144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пустимые УЗД для жилых и общественных зданий, их территор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1197000"/>
          <a:ext cx="9144000" cy="5181480"/>
        </p:xfrm>
        <a:graphic>
          <a:graphicData uri="http://schemas.openxmlformats.org/drawingml/2006/table">
            <a:tbl>
              <a:tblPr/>
              <a:tblGrid>
                <a:gridCol w="6249960"/>
                <a:gridCol w="2894040"/>
              </a:tblGrid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ещение, терри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звука и эквивалентные уровни звука, д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лассные помещения, учебные кабинеты, аудитории школ и других учебных заведений; читательские залы, залы совещаний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Жилые комнаты квартир, спальные комнаты домов отдыха, детских учреждений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Территории, непосредственно прилегающие к жилым домам, площадки отдыха микрорайонов и групп жилых домов, площадки детских дошкольных учреждений, участки шко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0" y="1440"/>
            <a:ext cx="9144000" cy="70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ства коллективной защиты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 шума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ГОСТ 12.1.001-83; СНиП II-12-77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отношению к источнику шума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ства, снижающие шум в самом источник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ства, снижающие шум на пути к объект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висимости от способа реализаци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устические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вукоизоляция ограждениями, экранами, кожухами; объемными поглотителями; глушители шума и т.д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рхитектурно-планировочные методы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рациональное размещение оборудования, машин, рабочих мест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изационно-технические методы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менение малошумных технологических процессов, машин дистанционного управления, рациональных режимов труда и отдыха работников и пр.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144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ение шума зеленными насаждениями, дБ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8000" y="1052640"/>
          <a:ext cx="9036000" cy="5327640"/>
        </p:xfrm>
        <a:graphic>
          <a:graphicData uri="http://schemas.openxmlformats.org/drawingml/2006/table">
            <a:tbl>
              <a:tblPr/>
              <a:tblGrid>
                <a:gridCol w="3957480"/>
                <a:gridCol w="2065320"/>
                <a:gridCol w="3013200"/>
              </a:tblGrid>
              <a:tr h="114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са зелёных насажд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ина полосы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уровня зву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ЗЕ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д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ядная при шахматной посадке деревьев внутри пол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– 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– 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рядная при расстояниях между рядами 3 – 5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– 25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10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- или трёхрядная при расстояниях между рядами 3 м; ряды аналогичны однорядной посад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– 3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-12960" y="20160"/>
            <a:ext cx="915660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ение уровня звука окн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-12600" y="907920"/>
          <a:ext cx="9156600" cy="5713560"/>
        </p:xfrm>
        <a:graphic>
          <a:graphicData uri="http://schemas.openxmlformats.org/drawingml/2006/table">
            <a:tbl>
              <a:tblPr/>
              <a:tblGrid>
                <a:gridCol w="2714400"/>
                <a:gridCol w="1433520"/>
                <a:gridCol w="1616040"/>
                <a:gridCol w="1624320"/>
                <a:gridCol w="1768320"/>
              </a:tblGrid>
              <a:tr h="3052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ок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щина стекл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оздушного промежутка, 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          , д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условии прилегания по перимет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плот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плотни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но с открытой форточкой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кой створ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арное ок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аренное ок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и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и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и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ьно-сближенное ок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и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и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ьное ок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и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3"/>
          <p:cNvSpPr/>
          <p:nvPr/>
        </p:nvSpPr>
        <p:spPr>
          <a:xfrm>
            <a:off x="-12600" y="-69840"/>
            <a:ext cx="9156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Объект 8"/>
              <p:cNvSpPr txBox="1"/>
              <p:nvPr/>
            </p:nvSpPr>
            <p:spPr>
              <a:xfrm>
                <a:off x="7524720" y="907920"/>
                <a:ext cx="504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ок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-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звука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транспортного пото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735120"/>
          <a:ext cx="9144000" cy="6134040"/>
        </p:xfrm>
        <a:graphic>
          <a:graphicData uri="http://schemas.openxmlformats.org/drawingml/2006/table">
            <a:tbl>
              <a:tblPr/>
              <a:tblGrid>
                <a:gridCol w="5092560"/>
                <a:gridCol w="405144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сть движения в обоих направлениях, ед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7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д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3"/>
          <p:cNvSpPr/>
          <p:nvPr/>
        </p:nvSpPr>
        <p:spPr>
          <a:xfrm>
            <a:off x="0" y="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авки к эквивалентному уровню звука транспортных пот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6360" y="907920"/>
          <a:ext cx="9072720" cy="5975640"/>
        </p:xfrm>
        <a:graphic>
          <a:graphicData uri="http://schemas.openxmlformats.org/drawingml/2006/table">
            <a:tbl>
              <a:tblPr/>
              <a:tblGrid>
                <a:gridCol w="3760920"/>
                <a:gridCol w="2691000"/>
                <a:gridCol w="2620800"/>
              </a:tblGrid>
              <a:tr h="96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, влияющий на шумовую характеристику транспортного пото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услов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равка к эквивалентному уровню звука, дБ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 rowSpan="11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скорость движения потока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/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ьный уклон проезжей части улицы или дороги,  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правки к эквивалентному уровню звука по типу покрытия дорог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4920" y="1343160"/>
          <a:ext cx="9036000" cy="4894200"/>
        </p:xfrm>
        <a:graphic>
          <a:graphicData uri="http://schemas.openxmlformats.org/drawingml/2006/table">
            <a:tbl>
              <a:tblPr/>
              <a:tblGrid>
                <a:gridCol w="3906720"/>
                <a:gridCol w="1384560"/>
                <a:gridCol w="1382400"/>
                <a:gridCol w="1252800"/>
                <a:gridCol w="1109520"/>
              </a:tblGrid>
              <a:tr h="1958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окрытия проезжей ч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равка к эквивалентному уровню звука, дБ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средней скорости движения, км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0 до 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 до 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фальтобет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обет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чатая мост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овая из булыжного кам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Способы акустической обработки помещений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2" name="Picture 3" descr="C:\Users\RF\Desktop\akril-500x320.jpg"/>
          <p:cNvPicPr/>
          <p:nvPr/>
        </p:nvPicPr>
        <p:blipFill>
          <a:blip r:embed="rId1"/>
          <a:stretch/>
        </p:blipFill>
        <p:spPr>
          <a:xfrm>
            <a:off x="500040" y="1071720"/>
            <a:ext cx="2712960" cy="2214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C:\Users\RF\Desktop\фывафыва.bmp"/>
          <p:cNvPicPr/>
          <p:nvPr/>
        </p:nvPicPr>
        <p:blipFill>
          <a:blip r:embed="rId2"/>
          <a:stretch/>
        </p:blipFill>
        <p:spPr>
          <a:xfrm>
            <a:off x="2484360" y="4075200"/>
            <a:ext cx="3855960" cy="2633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C:\Users\RF\Desktop\1322813901_1295779148_3-3.jpg"/>
          <p:cNvPicPr/>
          <p:nvPr/>
        </p:nvPicPr>
        <p:blipFill>
          <a:blip r:embed="rId3"/>
          <a:stretch/>
        </p:blipFill>
        <p:spPr>
          <a:xfrm>
            <a:off x="4714920" y="1071720"/>
            <a:ext cx="3605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k-KZ" sz="28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Средства индивидуальной защиты от шума</a:t>
            </a:r>
            <a:br>
              <a:rPr sz="2800"/>
            </a:b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500720" y="1214280"/>
            <a:ext cx="2284200" cy="2252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Users\RF\Desktop\1492.jpg"/>
          <p:cNvPicPr/>
          <p:nvPr/>
        </p:nvPicPr>
        <p:blipFill>
          <a:blip r:embed="rId2"/>
          <a:stretch/>
        </p:blipFill>
        <p:spPr>
          <a:xfrm>
            <a:off x="4745160" y="3573360"/>
            <a:ext cx="3143160" cy="3143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3"/>
          <a:stretch/>
        </p:blipFill>
        <p:spPr>
          <a:xfrm>
            <a:off x="428760" y="2357280"/>
            <a:ext cx="3500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900000" y="613080"/>
            <a:ext cx="7632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оздействие шума на организ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ш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лассификация ш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ормирование производственного ш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едства и методы защиты от ш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611280" y="3267000"/>
            <a:ext cx="806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"/>
          <p:cNvSpPr/>
          <p:nvPr/>
        </p:nvSpPr>
        <p:spPr>
          <a:xfrm>
            <a:off x="0" y="333360"/>
            <a:ext cx="903600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й шум должна соответствовать  требования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12.1.001-83; СНиП II-12-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шума в рабочей зоне необходимо рассчитать корректированный УЗД в заданных октавных поло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меры по защите от шум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0" y="28080"/>
            <a:ext cx="9144000" cy="68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ольные вопрос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называется уровнем звукового давления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раметры производственного шу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арактеристики источника шу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стовое зада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ум, уровень звука кото­рого за 8-часовой рабочий день изменяется во времени более чем на 5 дБА называетс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) Тональны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) Постоянным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) Непостоянным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Импульсным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) Колеблющимс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итуция Республики Казахстан от 30.08.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удовой кодекс Республики Казахстан от 15.05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С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 и защита окружающей среды.- М.:Юрайт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Скала В.И., Скала Н.В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новы организации охраны и безопасности труда в Республике Казахстан. Алматы:ТО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стамов Э.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.- М.: Издательско-торговая корп. ДАШКОВ и К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кин П.П., Лапин В.Л.. Пономарев Н.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опасность жизнедеятельности. Производственная безопасность и охрана труда: Учебное пособие для студентов спец. учеб. заведений.-М.:Высш. Шк.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истема стандартов безопасности труда (ССБТ). ГОСТ 12.0 – 12.4.- М.: Госстандарт, 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44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интенсивности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дБ 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101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I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звукового давления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P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, дБ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Р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20Р/Р</a:t>
            </a:r>
            <a:r>
              <a:rPr b="0" lang="ru-RU" sz="18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интенсивность звука в данной точке, Вт/м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10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-1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интенсивность звука, соответствующая порогу слышимости при частоте 1000 Гц, Вт/м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 — звуковое давление в данной точке, П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2∙10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-5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пороговое звуковое давление на частоте 1000 Гц, Па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71320" y="-9360"/>
            <a:ext cx="8505720" cy="96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ти­рованный уровень звукового давления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БА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i="1" lang="en-US" sz="18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A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i="1" lang="en-US" sz="18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P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Δ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i="1" lang="en-US" sz="18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осы частот (октавы)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ктавные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етьоктавны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негеометрическая частот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491000" y="5353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9"/>
              <p:cNvSpPr txBox="1"/>
              <p:nvPr/>
            </p:nvSpPr>
            <p:spPr>
              <a:xfrm>
                <a:off x="4500720" y="3929040"/>
                <a:ext cx="1728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8" name="Rectangle 20"/>
          <p:cNvSpPr/>
          <p:nvPr/>
        </p:nvSpPr>
        <p:spPr>
          <a:xfrm>
            <a:off x="23760" y="117360"/>
            <a:ext cx="7326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Объект 21"/>
              <p:cNvSpPr txBox="1"/>
              <p:nvPr/>
            </p:nvSpPr>
            <p:spPr>
              <a:xfrm>
                <a:off x="4000680" y="2928960"/>
                <a:ext cx="1116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Объект 3"/>
              <p:cNvSpPr txBox="1"/>
              <p:nvPr/>
            </p:nvSpPr>
            <p:spPr>
              <a:xfrm>
                <a:off x="2857680" y="5357880"/>
                <a:ext cx="28587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Г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9323280" cy="887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негеометрическая частот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вуковой ряд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9 октавных полос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среднегеометри­ческими частотам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1,5; 63; 125; 250; 500; 1000; 2000; 4000; 8000 Гц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491000" y="5353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Объект 3"/>
              <p:cNvSpPr txBox="1"/>
              <p:nvPr/>
            </p:nvSpPr>
            <p:spPr>
              <a:xfrm>
                <a:off x="2563920" y="1484280"/>
                <a:ext cx="2859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Г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Объект 3"/>
              <p:cNvSpPr txBox="1"/>
              <p:nvPr/>
            </p:nvSpPr>
            <p:spPr>
              <a:xfrm>
                <a:off x="2571840" y="1500120"/>
                <a:ext cx="2859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Г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44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ассификация шумов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Н 9-86 РБ 98 )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вуковой ряд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9 октавных полос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среднегеометри­ческими частотам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1,5; 63; 125; 250; 500; 1000; 2000; 4000; 8000 Гц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характеру спектра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широкополосные, тональные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ирокополосный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это шум с непрерывным спектром шириной более одной октав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нальны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это шум, в спектре которого имеются выраженные дискретные (то­нальные) составляющи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0" y="144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ассификация шумов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Н 9-86 РБ 98 )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временным характеристикам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оянный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это шум, уровень звука которого за 8-часовой рабочий день изменяется во времени не более чем на 5 дБ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постоянный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это шум, уровень звука кото­рого за 8-часовой рабочий день изменяется во времени более чем на 5 дБ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постоянный шум подразделяют на колеблющийся, прерывистый и им­пульсны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еблющийс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это шум, уровень звука которого непрерывно из­меняется во времен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рывисты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это шум, уровень звука которого изме­няется во времени ступенчато (на 5 дБА и более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мпульсный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это шум, со­стоящий из одного или нескольких звуковых сигналов, каждый длительностью менее 1 с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0800" y="-27000"/>
            <a:ext cx="897732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раметры источника шума</a:t>
            </a:r>
            <a:r>
              <a:rPr b="1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вуковая мощность источника- Р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актор направленности излучения Ф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 = </a:t>
            </a:r>
            <a:r>
              <a:rPr b="0" i="1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i="1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/</a:t>
            </a:r>
            <a:r>
              <a:rPr b="0" i="1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i="1" lang="ru-RU" sz="17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СР</a:t>
            </a:r>
            <a:r>
              <a:rPr b="0" i="1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Р</a:t>
            </a:r>
            <a:r>
              <a:rPr b="0" i="1" lang="ru-RU" sz="17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i="1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/Р</a:t>
            </a:r>
            <a:r>
              <a:rPr b="0" i="1" lang="ru-RU" sz="17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i="1" lang="ru-RU" sz="17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СР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 </a:t>
            </a:r>
            <a:r>
              <a:rPr b="0" i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нтен­сивность звука, создаваемой направленным источником в данной точк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CP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интенсивность, которую развил бы в этой же точке ненаправленный источник с той же звуковой мощность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ни мощности шума в октавных полосах частот (       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тированный уровень звуковой мощности 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-16668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Объект 5"/>
              <p:cNvSpPr txBox="1"/>
              <p:nvPr/>
            </p:nvSpPr>
            <p:spPr>
              <a:xfrm>
                <a:off x="7380360" y="5445000"/>
                <a:ext cx="5763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2:43Z</dcterms:created>
  <dc:creator>Admin</dc:creator>
  <dc:description/>
  <dc:language>en-US</dc:language>
  <cp:lastModifiedBy>Аселя</cp:lastModifiedBy>
  <dcterms:modified xsi:type="dcterms:W3CDTF">2024-05-30T09:08:54Z</dcterms:modified>
  <cp:revision>204</cp:revision>
  <dc:subject/>
  <dc:title>Е.А.Бґкетов атындаєы ЌарМУ</dc:title>
</cp:coreProperties>
</file>