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C44-0030-4040-9F1F-934AEBF4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DD4-DCD2-4C2E-B712-E5F4AED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E31-279E-4BB5-BB1A-9E615E0A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56B-B3B3-4009-8E1C-F811FA4E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0127-5CCB-4E78-B1B0-0575E22F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EDA-9CC3-4A93-B001-B11920E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F0E6-8B0F-4A4F-8956-1AADAED9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64F9-E803-4559-B5D9-D5EE6D4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4BF7-0B94-4F91-80DC-1EC3153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702-B81F-4D13-A566-43D8149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3CF-8F25-4038-994C-FC7F037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735-5777-405C-94D9-6B84499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462C-1B4C-43E7-9B05-03A5AF0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968-4060-4AA9-ADB5-507BBB4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C52-9F0F-4432-9CD4-72CA9AE6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83A-B82D-43F6-BF6C-878C6CD2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D17-755E-4675-9178-2A86A67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8D06-2DD2-45F6-94C4-46C31027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928B-A92A-49A9-801E-0BBFCD1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53E6-750A-4BE2-BC7F-B606E1FC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C50E-2B0B-40EF-8BFD-9580DF2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A336-2AB6-491E-9061-5C24905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7B4-1CCB-4608-8D2F-9B32E94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F833-43C0-4AC1-A086-D3CD0D2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125C-E4F1-40BD-B2F3-E7E49E2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7B0A-D296-4326-9602-9D442E4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7098-5BF0-4835-97FF-30C4919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1790-D97B-4E08-AEC8-89542EC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03FB-EABB-4832-B2FE-B459A62D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74F8-CAE5-4CC2-9AEF-31206922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93D3-1E57-4E07-B571-2BB247BE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3F65-27FE-4619-AAA6-0A61133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6E55-CA3F-492F-B011-9B2518C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547-3605-4336-A762-843EA5C8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F38C-A519-48CC-92CB-97001CC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6093-8D52-490A-A1B7-CAD5335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D290-89BD-486C-A888-767F168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BE9A-18F1-4711-9883-787090C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52D1-A2EF-4933-8C5A-C5E5813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0F26-D370-4934-AC48-869552F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8A0E-D7EE-4E9F-9A80-67099BE4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C3FC-458B-4353-92D1-6E5071AD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65EBC-8F6A-49F3-A25A-7B1F04B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5E7-5A8A-4C6E-BF2B-DB4D942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0AE-0A5C-465B-80F7-12D0B6F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9D0-DBA8-4F01-8AA2-68FED66B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596-1268-47B6-AA55-5B189C6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38-820F-4890-9CB0-96E8D15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CAAB-F758-4D85-BEDD-EE5AC5A50D49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4D9-554A-4720-AA04-C59006A0756D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319-4C20-45DB-8A7A-26E8977CB31B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860C-BDEB-43E4-ABCB-1042EDC02193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инистерство науки и высшего образования Республики Казахст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инский университет имени академика Е.А.Букетов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1.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вед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тельная программа: «6В11201 – Безопасность жизнедеятельности и защита окружающей сред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ы: Смагулов Ж.К., профессор кафедры 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k-KZ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ұсабекова Ә.Қ. м.т.н., старший преподаватель кафедры радиофизики и электрони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аганда 202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60480" y="0"/>
            <a:ext cx="9204480" cy="70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 частоты травматизм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число несчастных случаев за конкретный пери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среднесписочное число работающ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 тяжести травматизм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уммарное число дней нетрудоспособности по всем несчастным случа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0520" y="0"/>
            <a:ext cx="90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5"/>
              <p:cNvSpPr txBox="1"/>
              <p:nvPr/>
            </p:nvSpPr>
            <p:spPr>
              <a:xfrm>
                <a:off x="3059280" y="1341360"/>
                <a:ext cx="2252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-63360" y="163440"/>
            <a:ext cx="76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Объект 7"/>
              <p:cNvSpPr txBox="1"/>
              <p:nvPr/>
            </p:nvSpPr>
            <p:spPr>
              <a:xfrm>
                <a:off x="4167360" y="3624120"/>
                <a:ext cx="11793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60480" y="0"/>
            <a:ext cx="9204480" cy="70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 частоты травматизм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число несчастных случаев за конкретный пери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среднесписочное число работающ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 тяжести травматизм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уммарное число дней нетрудоспособности по всем несчастным случа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0520" y="0"/>
            <a:ext cx="90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5"/>
              <p:cNvSpPr txBox="1"/>
              <p:nvPr/>
            </p:nvSpPr>
            <p:spPr>
              <a:xfrm>
                <a:off x="3059280" y="1341360"/>
                <a:ext cx="2252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4"/>
          <p:cNvSpPr/>
          <p:nvPr/>
        </p:nvSpPr>
        <p:spPr>
          <a:xfrm>
            <a:off x="-63360" y="163440"/>
            <a:ext cx="76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Объект 7"/>
              <p:cNvSpPr txBox="1"/>
              <p:nvPr/>
            </p:nvSpPr>
            <p:spPr>
              <a:xfrm>
                <a:off x="3995640" y="3716280"/>
                <a:ext cx="1179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-1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эффициент общего травматизм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-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-1332000" y="22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Объект 8"/>
              <p:cNvSpPr txBox="1"/>
              <p:nvPr/>
            </p:nvSpPr>
            <p:spPr>
              <a:xfrm>
                <a:off x="2666880" y="1574640"/>
                <a:ext cx="2984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-1332000" y="11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11280" y="3267000"/>
            <a:ext cx="806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0" y="1197000"/>
            <a:ext cx="9036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, даже полезный  вид деятельности человека может быть источником  негативных воздействий или вреда, приводящий к  травматизму, заболеваниям, к полной потере  работоспособности или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принцип охраны труда на производстве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сть приоритетов безопасности при решении любых инженер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28080"/>
            <a:ext cx="9144000" cy="68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ольные вопрос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называется техносферой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называется риско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характеризуйте фазы работоспособности челове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включает система охраны труда на производств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стовое зада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зводственная среда - эт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Синоним техносфе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) Пространство, в котором осуществляется трудовая деятельность человек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) Совокупность машин и механизмов производственного участ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Совокупность предметов, средств и продуктов тру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)Совокупность средств труда и природно-климатических фактор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826920" y="1901880"/>
            <a:ext cx="7632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42960" y="26222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по охран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изводственный  р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итуция Республики Казахстан от 30.08.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удовой кодекс Республики Казахстан от 15.05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 РК от 21.07.2007 «О безопасности машин и оборуд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С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 и защита окружающей среды.- М.:Юрайт,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Скала В.И., Скала Н.В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новы организации охраны и безопасности труда в Республике Казахстан. Алматы:ТО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стамов Э.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зопасность жизнедеятельности.- М.: Издательско-торговая корп. ДАШКОВ и К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кин П.П., Лапин В.Л.. Пономарев Н.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опасность жизнедеятельности. Производственная безопасность и охрана труда: Учебное пособие для студентов спец. учеб. заведений.-М.:Высш. Шк.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истема стандартов безопасности труда (ССБТ). ГОСТ 12.0 – 12.4.- М.: Госстандарт, 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храна труда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истема обеспечения безопасности жизни и здоровья работников в процессе трудовой деятельности, включающая правовые, социально-экономические, организационно-технические, санитарно-гигиенические, лечебно-профилактические и иные мероприят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зводственная среда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странство, в котором совершается трудовая деятельность челове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асность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оцессы, явления, предметы, оказывающие негативное влияние на жизнь и здоровье челове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хносфера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ион биосферы, в прошлом преобразованный людьми с помощью прямого или косвенного воздействия технических средств в целях наилучшего соответствия своим социальным и материально-техническим потребност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 безопасности жизнедеятельности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дентификация (детальный анализ) и описание зон воздействия опасностей техносфе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и реализация наиболее эффективных систем и методов защиты от опасносте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систем контроля опасностей и управления состоянием техносфе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и реализация мер по ликвидации последствий проявления опасносте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я обучения населения основам безопасности и подготовки специалистов  по безопасности жизнедеятель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4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мы безопасности в техносфе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генные опасности существуют, если повседневные потоки вещества, энергии и информации в техносфере превышают порогов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ми техногенных опасностей являются элементы техн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генные опасности действуют в пространстве и в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генные опасности оказывают негативное влияние на человека, природную среду и элементы техносферы однов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генные опасности ухудшают здоровье людей, приводят к травмам, материальным потерям и к деградации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техногенных опасностей путем совершенствования источников опасности, увеличения расстояния между источником опасности и объектом, применением защитных 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41400"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ь людей в мире опасностей и способах защи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0" y="189000"/>
            <a:ext cx="9144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сификации трудовой 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труда, требующие значительной мышечной активности и  повышенных энергетических нагру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ированные форм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труда, связанные с полуавтоматическим и автоматическим произ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форм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труда, связанные с дистанционным у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нтеллектуального (умственного)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34920" y="-6480"/>
            <a:ext cx="914400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ск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количественная характеристика действий опасностей, формируемых конкретной деятельностью человека, т.е. число смертных случаев, число случаев заболевания, число случаев временной и стойкой нетрудоспособности, вызванных действием на человека конкретной опасности, отнесенных на определенное количество жителей (работников) за конкретный период времен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ксимально приемлемый уровень рис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ого риска гибели  - 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в год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небрежительно малый – 10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в год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5"/>
          <p:cNvSpPr/>
          <p:nvPr/>
        </p:nvSpPr>
        <p:spPr>
          <a:xfrm>
            <a:off x="200160" y="-15840"/>
            <a:ext cx="914400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(приемлимый) рис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счастных случаев (смертельных исходов) от данной опасности, чел.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год</a:t>
            </a:r>
            <a:r>
              <a:rPr b="0" lang="kk-K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едение  вероятностей нахождения человека в зоне р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роятность нахождения человека в цехе в 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роятность работы человека на производстве в течение не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kk-K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выполнения человекам задания на оборудовании  в течение рабочей смены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851280" y="11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Объект 6146"/>
              <p:cNvSpPr txBox="1"/>
              <p:nvPr/>
            </p:nvSpPr>
            <p:spPr>
              <a:xfrm>
                <a:off x="1403280" y="1052640"/>
                <a:ext cx="5915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39"/>
          <p:cNvSpPr/>
          <p:nvPr/>
        </p:nvSpPr>
        <p:spPr>
          <a:xfrm>
            <a:off x="-1355760" y="0"/>
            <a:ext cx="1049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Объект 6150"/>
              <p:cNvSpPr txBox="1"/>
              <p:nvPr/>
            </p:nvSpPr>
            <p:spPr>
              <a:xfrm>
                <a:off x="395280" y="2997360"/>
                <a:ext cx="520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1"/>
          <p:cNvSpPr/>
          <p:nvPr/>
        </p:nvSpPr>
        <p:spPr>
          <a:xfrm>
            <a:off x="200160" y="-204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Объект 6154"/>
              <p:cNvSpPr txBox="1"/>
              <p:nvPr/>
            </p:nvSpPr>
            <p:spPr>
              <a:xfrm>
                <a:off x="461880" y="3716280"/>
                <a:ext cx="608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32:43Z</dcterms:created>
  <dc:creator>Admin</dc:creator>
  <dc:description/>
  <dc:language>en-US</dc:language>
  <cp:lastModifiedBy>Аселя</cp:lastModifiedBy>
  <dcterms:modified xsi:type="dcterms:W3CDTF">2024-05-30T09:07:33Z</dcterms:modified>
  <cp:revision>82</cp:revision>
  <dc:subject/>
  <dc:title>Е.А.Бґкетов атындаєы ЌарМУ</dc:title>
</cp:coreProperties>
</file>