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CE1F-F4C4-4B8A-871A-FD1A9FF85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4852-A16C-435B-9BA0-588F02273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9BF-594B-445D-B5E0-CC9EE189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C98-303B-4D36-9C4C-AC9BA93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676-E606-4F46-93EF-BA9C12FC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737-BFF0-4EC9-A382-2DDF565A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4F95-60D3-4B2A-A346-213E1EB3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FED9-D143-4BC0-86DF-B5ACFA0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E136-3F24-4F1E-AB52-6E30956C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48C7-CC05-41E7-8C85-A1D739BE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AF23-84A3-4922-954A-7C3E329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031B-F843-47B5-B114-55F19C65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AF25-8701-4A01-924C-1DAEE82E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1C5-F3D8-4591-A990-604DB3E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849-EC6C-4518-9ACD-CA0F705E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971F-D10E-4453-BDCC-6928B0A1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E211-5932-4CAA-AB11-2BD5DA44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6EB2-78D5-4E56-B1F0-87ACB014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F267-ED13-4339-8962-2013D672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D27D-2556-4170-828B-2FDF792B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ED17-2266-41DF-A384-2F57456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A821-63F3-443A-9175-FEE09566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61A0-1389-41D7-BC3E-879CE20F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D1D2-4E70-44BD-A732-872E1689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37D-8E57-4C7C-81F9-535A191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DBA9-4DD0-4DD2-809F-404FE917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B177-3BDD-48F5-B9DE-E80734AE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E646-9A6B-4A4C-9AC2-4B37124C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DF14-A5A8-4E82-A806-FC072E91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15E6-7661-46E1-9EDA-8E93BC56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55C2-8527-47E0-9D37-7F029AD3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8842-F798-4BAD-BB9E-A4B61BDF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9B83-4EB6-4909-BA13-B9F12F23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AB22-44D8-4996-8594-AADDC89C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5E2B-FAA4-4987-B453-8B6097D1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F6D-7228-4AD4-8695-55BC41FB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17BB-F8E2-4699-BCED-D660914A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DD7D-997A-4786-8F85-B327A6D0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6D96-0E6E-4458-94F5-B1DEA7BF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3204-A4E5-43BB-A12D-5FC93C0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2C77-91B6-4147-AB20-EFAC2F78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2ABD-0708-470D-B3B0-AFFE34A7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2952-E3E5-480C-89BD-41E9208B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6044-9985-4781-8E3F-C8ABB8ED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C587-ACC4-445C-9AFB-A0E83606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E70-EA83-47BF-AC6C-3BDA77C4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83C-8FA7-4175-A060-E35AAF78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2C1-9C35-4227-BFF1-152894B7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CD9-6EEF-4B13-AF0F-45961921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5C9-86FB-4415-871F-C36DB87D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5439-164B-4BC6-8543-16DB47358778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E7CA-7441-4EF1-9D30-06CBCB37B18F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C6CC-B843-4F09-BC82-FC6EEC4E7B70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61D9-5D1B-4948-9712-7F76B537BD01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инский университет имени академика Е.А.Букетов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БЕЗОПАСНОСТЬ ТЕХНИКИ И ТЕХНОЛОГИЙ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3.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рганизация работы по аттестации рабочих мес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зовательная программа: «6В11201 – Безопасность жизнедеятельности и защита окружающей среды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а 202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точные затраты энерг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-12 МДж - для лиц умственного труд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2,5-13 МДж - для работников механизированного труда и сферы обслуживани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7-25 МДж - для работников тяжелого физического труд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-11160" y="115920"/>
            <a:ext cx="9144000" cy="1039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чет величины физической динамической нагрузк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работа, кг∙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вес груза, поднимаемого вручную, кг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высота перемещения груз из исходного положения, м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расстояние, на которое опускается груз, м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расстояние, на которое перемещается груз по горизонтали, 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коэффициент, равный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количество подъем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Объект 8"/>
          <p:cNvGraphicFramePr/>
          <p:nvPr/>
        </p:nvGraphicFramePr>
        <p:xfrm>
          <a:off x="2201760" y="692280"/>
          <a:ext cx="471672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1760" y="692280"/>
                    <a:ext cx="471672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25560" y="-309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условий труда на рабочем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Group 151" descr=""/>
          <p:cNvPicPr/>
          <p:nvPr/>
        </p:nvPicPr>
        <p:blipFill>
          <a:blip r:embed="rId1"/>
          <a:stretch/>
        </p:blipFill>
        <p:spPr>
          <a:xfrm>
            <a:off x="-19080" y="609480"/>
            <a:ext cx="914400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4920" y="0"/>
          <a:ext cx="9144000" cy="6889680"/>
        </p:xfrm>
        <a:graphic>
          <a:graphicData uri="http://schemas.openxmlformats.org/drawingml/2006/table">
            <a:tbl>
              <a:tblPr/>
              <a:tblGrid>
                <a:gridCol w="5435640"/>
                <a:gridCol w="1512720"/>
                <a:gridCol w="1079640"/>
                <a:gridCol w="1116000"/>
              </a:tblGrid>
              <a:tr h="341280">
                <a:tc gridSpan="4"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ІІ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Психофизиологические факт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опустим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ак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алл фак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еличина физической динамической нагрузки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общая, региональная), кг*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Разовая величина груза (вручную)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татическая нагрузка за смену, к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Рабочая поза и перемещение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Темп работы – число движений в час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Напряженность внимания (длительность наблюдения, число объектов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Напряженность анализаторных функций (зрительной, слуховой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Монотонность (число приемов, врем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Эмоциональное на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Эстетический дискомф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Физиологический дискомф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См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"/>
          <p:cNvSpPr/>
          <p:nvPr/>
        </p:nvSpPr>
        <p:spPr>
          <a:xfrm>
            <a:off x="0" y="333360"/>
            <a:ext cx="90360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аттестации определяются наиболее опасные и вредные факторы условий труда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компенсации за работу в особых условиях труда (доплаты к тарифным ставкам и должностным окладам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28080"/>
            <a:ext cx="9144000" cy="68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является целью аттестаци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ок проведения аттестации 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определяет статистическая нагрузка 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психофизиологическому фактору относитс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 Выделяемое оборудованием тепл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) Шу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) Недостаточное освещ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Вынужденные наклоны  под углом 30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) Низкая температура воздуха в помещен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900000" y="1160280"/>
            <a:ext cx="7632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STXinwei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ункц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оценки факторов условий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итуция Республики Казахстан от 30.08.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 РК от 21.07.2007 «О безопасности машин и оборудо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он РК от 21.07.2007 «О безопасности химической продук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еспублике Казахстан. Алматы:ТО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стамов Э.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.- М.: Издательско-торговая корп. ДАШКОВ и К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: Учебное пособие для студентов спец. учеб. заведений.-М.:Высш. Шк.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истема стандартов безопасности труда (ССБТ). ГОСТ 12.0 – 12.4.- М.: Госстандарт, 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 аттестационной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изация, методическое руководство и контроль за ходом  работы исполнителями на всех этап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ние необходимой нормативно-справочную баз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ляет перечень рабочих мест, подлежащих аттест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тановление соответствия наименования профессий, должностей и харак­тера фактически выполняемых работ требования квалификационных справочников ЕТКС,  КСД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объема необходимых исследований вредных и опасных производственных фактор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изация проведения фотографий рабочего дн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ление карты условий труда, оценка рабочих мес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ление Перечня рабочих мест, подверженных особым условиям труда по Спискам №, № 2,  Перечня на допла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изация разработки мероприятий по улучшению условий труда и оздоровлению работник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144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условий труда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тановка критериев, характеризующих условия труда конкретного рабочего мес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анитарно-гигиенических нормативных значений (ПДК, ПДУ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 величин  психофизиологических  факторов  условий  труд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следование фактических величин пу­тем инструментальных замеров, лабораторных исследований или расчет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0" y="20556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условий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89"/>
          <p:cNvSpPr/>
          <p:nvPr/>
        </p:nvSpPr>
        <p:spPr>
          <a:xfrm>
            <a:off x="4730760" y="2300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90"/>
          <p:cNvSpPr/>
          <p:nvPr/>
        </p:nvSpPr>
        <p:spPr>
          <a:xfrm>
            <a:off x="5694480" y="2300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33"/>
          <p:cNvSpPr/>
          <p:nvPr/>
        </p:nvSpPr>
        <p:spPr>
          <a:xfrm>
            <a:off x="2803680" y="237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34"/>
          <p:cNvSpPr/>
          <p:nvPr/>
        </p:nvSpPr>
        <p:spPr>
          <a:xfrm>
            <a:off x="2803680" y="24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58"/>
          <p:cNvSpPr/>
          <p:nvPr/>
        </p:nvSpPr>
        <p:spPr>
          <a:xfrm>
            <a:off x="2803680" y="2519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59"/>
          <p:cNvSpPr/>
          <p:nvPr/>
        </p:nvSpPr>
        <p:spPr>
          <a:xfrm>
            <a:off x="2803680" y="25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907920"/>
          <a:ext cx="9144000" cy="5786640"/>
        </p:xfrm>
        <a:graphic>
          <a:graphicData uri="http://schemas.openxmlformats.org/drawingml/2006/table">
            <a:tbl>
              <a:tblPr/>
              <a:tblGrid>
                <a:gridCol w="611280"/>
                <a:gridCol w="3097080"/>
                <a:gridCol w="1008000"/>
                <a:gridCol w="1368360"/>
                <a:gridCol w="1511640"/>
                <a:gridCol w="1547640"/>
              </a:tblGrid>
              <a:tr h="30996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и опасные, степень отклонения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енная в балла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степен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степен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степен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Санитарно-гигиенические фактор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 row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вещества в воздухе рабочей зоны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ары и газы, мг/м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,5 ра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– 2 ра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ра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уровень загрязнения кожных покровов, мг/см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,5 ра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– 2 ра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ра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ыль и аэрозоль, мг/ м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,5 ра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– 2 ра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ра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рация (общая и локальная), д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д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  – 6 д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6 д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, дБА, д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6 дБ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 – 12 дБ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2 дБ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01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5fcbef"/>
                </a:solidFill>
                <a:latin typeface="Trebuchet MS"/>
              </a:rPr>
              <a:t>Часть 2</a:t>
            </a: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476280"/>
          <a:ext cx="9151920" cy="6235560"/>
        </p:xfrm>
        <a:graphic>
          <a:graphicData uri="http://schemas.openxmlformats.org/drawingml/2006/table">
            <a:tbl>
              <a:tblPr/>
              <a:tblGrid>
                <a:gridCol w="469800"/>
                <a:gridCol w="3310200"/>
                <a:gridCol w="1296720"/>
                <a:gridCol w="1382760"/>
                <a:gridCol w="1266840"/>
                <a:gridCol w="93600"/>
                <a:gridCol w="1332000"/>
              </a:tblGrid>
              <a:tr h="29376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пустим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дные и опасные, степень отклонения, выраженная в балл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 rowSpan="8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климат в производственном помещен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Температура воздуха, ˚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. п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ит.  норм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от допустимых величин в тёплый и холодный период год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4˚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 – 8˚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8˚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корость движения воздуха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от допустимых величин в тёплый и холодный период год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Относительная влажность воздух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от допустимых величин в тёплый и холодный период год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Интенсивность инфракрасного (теплового) излучения, Вт/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 – 3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 – 28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ность, л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П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-3348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ммарная оценка условий труд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kk-KZ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2060640"/>
          <a:ext cx="9144000" cy="2792520"/>
        </p:xfrm>
        <a:graphic>
          <a:graphicData uri="http://schemas.openxmlformats.org/drawingml/2006/table">
            <a:tbl>
              <a:tblPr/>
              <a:tblGrid>
                <a:gridCol w="3635280"/>
                <a:gridCol w="5508720"/>
              </a:tblGrid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ая оценка условий труда, бал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латы к тарифной ставке 1-го разряда за каждый час работы во вредных и тяжелых условиях труда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,1 до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,1 до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,1 до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сихофизиологические факторы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личина  физической динамической нагруз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чая по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п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нотонность труд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яженность вним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яженность анализаторных функц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моциональное напряж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стетический дискомфор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зиологический дискомфор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менност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08:14Z</dcterms:modified>
  <cp:revision>129</cp:revision>
  <dc:subject/>
  <dc:title>Е.А.Бґкетов атындаєы ЌарМУ</dc:title>
</cp:coreProperties>
</file>